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F17-4DAF-46C9-B092-7318D1F23F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748-765C-4043-AC3B-AED2AB4B3D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CB34-5AE7-4927-A6D5-8C80C484AC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1F25-91EE-4432-ACCC-4D5D7C8BA1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D11-1DBE-47EB-BD66-B7316AEE76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95CF-82C6-40E6-9392-76542BB990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151-5AA7-4C02-9BBE-E70E9132FA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7FA-649D-45F6-89B0-561A0BA52A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A74-B4B3-415B-8672-0A8C5B0127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BF4A-324C-4956-8D4F-9A9263F6F4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85A-A01C-4E98-96F5-A99F6EBB8C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101-668D-416C-9785-C2E44411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1C6-9DD4-443B-9704-8E539FD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7C1-563D-40D1-8B26-7B801ED9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052-E7DA-4371-B896-E4D79B2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E01-F34B-4DDF-9EF4-F3CB30B9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0AD-C974-428E-B410-748C4D6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5C3-2558-4DE7-92F1-BEE3410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1BF-18F7-4133-B292-2DBAF44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2E9-E328-481D-8207-48EDA65E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11E-4C1F-456B-942D-4D84B5F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845-2A5B-4816-AAED-3B4D88F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0C2-7128-4A9C-A681-A973342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3057-7FE5-4E2A-9226-397D94DC84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72480" cy="14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54" name="8 CuadroTexto"/>
          <p:cNvSpPr/>
          <p:nvPr/>
        </p:nvSpPr>
        <p:spPr>
          <a:xfrm>
            <a:off x="1108440" y="1557360"/>
            <a:ext cx="754308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ebió ser el problema #13 de la Guía #8, donde se repitió el problema #5 por err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9 CuadroTexto"/>
          <p:cNvSpPr/>
          <p:nvPr/>
        </p:nvSpPr>
        <p:spPr>
          <a:xfrm>
            <a:off x="4643280" y="3716280"/>
            <a:ext cx="3673800" cy="52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olución que se incluye a continuación corresponde a este probl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34920" y="968400"/>
            <a:ext cx="44658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2" descr="G:\mis documentos-2010\Int. a la Física\2009-FI-100\Clases\Tres Ejplos-dinamica-choques\NZ(18-06-08)\NZ_2.jpg"/>
          <p:cNvPicPr/>
          <p:nvPr/>
        </p:nvPicPr>
        <p:blipFill>
          <a:blip r:embed="rId2"/>
          <a:stretch/>
        </p:blipFill>
        <p:spPr>
          <a:xfrm>
            <a:off x="128520" y="1052640"/>
            <a:ext cx="43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2" descr="G:\mis documentos-2010\Int. a la Física\2009-FI-100\Clases\Tres Ejplos-dinamica-choques\NZ(18-06-08)\NZ_3.jpg"/>
          <p:cNvPicPr/>
          <p:nvPr/>
        </p:nvPicPr>
        <p:blipFill>
          <a:blip r:embed="rId2"/>
          <a:stretch/>
        </p:blipFill>
        <p:spPr>
          <a:xfrm>
            <a:off x="123840" y="1052640"/>
            <a:ext cx="4473720" cy="5668920"/>
          </a:xfrm>
          <a:prstGeom prst="rect">
            <a:avLst/>
          </a:prstGeom>
          <a:ln w="0">
            <a:noFill/>
          </a:ln>
        </p:spPr>
      </p:pic>
      <p:sp>
        <p:nvSpPr>
          <p:cNvPr id="74" name="7 CuadroTexto"/>
          <p:cNvSpPr/>
          <p:nvPr/>
        </p:nvSpPr>
        <p:spPr>
          <a:xfrm>
            <a:off x="5546160" y="1989000"/>
            <a:ext cx="14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Problema #9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Guía 8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5" name="9 Conector recto"/>
          <p:cNvSpPr/>
          <p:nvPr/>
        </p:nvSpPr>
        <p:spPr>
          <a:xfrm>
            <a:off x="250920" y="1197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1 Conector recto"/>
          <p:cNvSpPr/>
          <p:nvPr/>
        </p:nvSpPr>
        <p:spPr>
          <a:xfrm>
            <a:off x="250920" y="126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G:\mis documentos-2010\Int. a la Física\2009-FI-100\Clases\Tres Ejplos-dinamica-choques\NZ(18-06-08)\NZ_4.jpg"/>
          <p:cNvPicPr/>
          <p:nvPr/>
        </p:nvPicPr>
        <p:blipFill>
          <a:blip r:embed="rId2"/>
          <a:stretch/>
        </p:blipFill>
        <p:spPr>
          <a:xfrm>
            <a:off x="108000" y="1125360"/>
            <a:ext cx="44528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2" descr="G:\mis documentos-2010\Int. a la Física\2009-FI-100\Clases\Tres Ejplos-dinamica-choques\NZ(18-06-08)\NZ_5.jpg"/>
          <p:cNvPicPr/>
          <p:nvPr/>
        </p:nvPicPr>
        <p:blipFill>
          <a:blip r:embed="rId2"/>
          <a:stretch/>
        </p:blipFill>
        <p:spPr>
          <a:xfrm>
            <a:off x="82440" y="1125360"/>
            <a:ext cx="4613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G:\mis documentos-2010\Int. a la Física\2009-FI-100\Clases\Tres Ejplos-dinamica-choques\NZ(18-06-08)\NZ_6.jpg"/>
          <p:cNvPicPr/>
          <p:nvPr/>
        </p:nvPicPr>
        <p:blipFill>
          <a:blip r:embed="rId2"/>
          <a:stretch/>
        </p:blipFill>
        <p:spPr>
          <a:xfrm>
            <a:off x="179280" y="981000"/>
            <a:ext cx="4329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3" descr="G:\mis documentos-2010\Int. a la Física\2009-FI-100\Clases\Tres Ejplos-dinamica-choques\NZ(18-06-08)\NZ_7.jpg"/>
          <p:cNvPicPr/>
          <p:nvPr/>
        </p:nvPicPr>
        <p:blipFill>
          <a:blip r:embed="rId2"/>
          <a:stretch/>
        </p:blipFill>
        <p:spPr>
          <a:xfrm>
            <a:off x="179280" y="981000"/>
            <a:ext cx="41767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7640" y="1461960"/>
            <a:ext cx="7823160" cy="218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709720" cy="119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78994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5"/>
          <a:stretch/>
        </p:blipFill>
        <p:spPr>
          <a:xfrm>
            <a:off x="4564080" y="3429000"/>
            <a:ext cx="2816280" cy="1806480"/>
          </a:xfrm>
          <a:prstGeom prst="rect">
            <a:avLst/>
          </a:prstGeom>
          <a:ln w="0">
            <a:noFill/>
          </a:ln>
        </p:spPr>
      </p:pic>
      <p:sp>
        <p:nvSpPr>
          <p:cNvPr id="109" name="10 CuadroTexto"/>
          <p:cNvSpPr/>
          <p:nvPr/>
        </p:nvSpPr>
        <p:spPr>
          <a:xfrm>
            <a:off x="510840" y="1197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1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654480" y="4653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5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21T01:00:24Z</dcterms:modified>
  <cp:revision>76</cp:revision>
  <dc:subject/>
  <dc:title>Introducción a la Física Newtoniana </dc:title>
</cp:coreProperties>
</file>