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908B-48B9-4BE9-93D1-021CABA489C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FC5-3FDE-4392-90FB-51608764B84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D227-BAFE-432C-982D-13750C8856D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F1B-5086-4F80-810D-4A3DB7E2F8C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736A-8B8C-4BE5-82DB-C5C0C6C67A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718B-7ABD-4DD4-8428-6CB79E2E1C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EAEB-7BAB-4602-A5B3-75D553B1796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5CE7-30E5-49B5-9F42-B6279565A6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3D51-BE9B-4848-9CBA-6ED5F75A28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419A-7624-4FC6-869C-EE43A511D8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ACCB-27F4-43CC-8A85-0C3ABAF0753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8E01-DC0E-4B65-8C2C-5BCC3CE6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22F-174D-4614-B4D0-0A4CCA64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AE0-492E-4FCD-9F58-9C3F2C6E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A1B-423D-4123-814C-E95ACA52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22C-EAFB-434B-9BA7-3498E2C1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B40-3228-4BB9-BB91-2A1769C3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B9A-1F0F-4030-8C44-9FF2D56E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1E21-172C-4F8F-A627-9BF96972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B7D-3704-41A0-A652-6569753C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7D3-9DFD-4144-B0B6-BCE7BC29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DF7C-09F4-47E9-AFB0-A6F1134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243-6214-4CBA-A062-50857B77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D799-DE2D-495E-A8D9-31A7E7BECC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179280" y="2060640"/>
            <a:ext cx="8772480" cy="14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3"/>
          <a:stretch/>
        </p:blipFill>
        <p:spPr>
          <a:xfrm>
            <a:off x="468360" y="3429000"/>
            <a:ext cx="3822480" cy="2314440"/>
          </a:xfrm>
          <a:prstGeom prst="rect">
            <a:avLst/>
          </a:prstGeom>
          <a:ln w="0">
            <a:noFill/>
          </a:ln>
        </p:spPr>
      </p:pic>
      <p:sp>
        <p:nvSpPr>
          <p:cNvPr id="54" name="8 CuadroTexto"/>
          <p:cNvSpPr/>
          <p:nvPr/>
        </p:nvSpPr>
        <p:spPr>
          <a:xfrm>
            <a:off x="1108440" y="1557360"/>
            <a:ext cx="7543080" cy="30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Este debió ser el problema #13 de la Guía #8, donde se repitió el problema #5 por error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5" name="9 CuadroTexto"/>
          <p:cNvSpPr/>
          <p:nvPr/>
        </p:nvSpPr>
        <p:spPr>
          <a:xfrm>
            <a:off x="4643280" y="3716280"/>
            <a:ext cx="3673800" cy="52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La solución que se incluye a continuación corresponde a este problema.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34920" y="968400"/>
            <a:ext cx="44658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7" name="Picture 2" descr="G:\mis documentos-2010\Int. a la Física\2009-FI-100\Clases\Tres Ejplos-dinamica-choques\NZ(18-06-08)\NZ_2.jpg"/>
          <p:cNvPicPr/>
          <p:nvPr/>
        </p:nvPicPr>
        <p:blipFill>
          <a:blip r:embed="rId2"/>
          <a:stretch/>
        </p:blipFill>
        <p:spPr>
          <a:xfrm>
            <a:off x="128520" y="1052640"/>
            <a:ext cx="43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3" name="Picture 2" descr="G:\mis documentos-2010\Int. a la Física\2009-FI-100\Clases\Tres Ejplos-dinamica-choques\NZ(18-06-08)\NZ_3.jpg"/>
          <p:cNvPicPr/>
          <p:nvPr/>
        </p:nvPicPr>
        <p:blipFill>
          <a:blip r:embed="rId2"/>
          <a:stretch/>
        </p:blipFill>
        <p:spPr>
          <a:xfrm>
            <a:off x="123840" y="1052640"/>
            <a:ext cx="4473720" cy="5668920"/>
          </a:xfrm>
          <a:prstGeom prst="rect">
            <a:avLst/>
          </a:prstGeom>
          <a:ln w="0">
            <a:noFill/>
          </a:ln>
        </p:spPr>
      </p:pic>
      <p:sp>
        <p:nvSpPr>
          <p:cNvPr id="74" name="7 CuadroTexto"/>
          <p:cNvSpPr/>
          <p:nvPr/>
        </p:nvSpPr>
        <p:spPr>
          <a:xfrm>
            <a:off x="5546160" y="1989000"/>
            <a:ext cx="145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Problema #9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Verdana"/>
              </a:rPr>
              <a:t>Guía 8</a:t>
            </a:r>
            <a:endParaRPr b="0" lang="en-US" sz="16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5" name="9 Conector recto"/>
          <p:cNvSpPr/>
          <p:nvPr/>
        </p:nvSpPr>
        <p:spPr>
          <a:xfrm>
            <a:off x="250920" y="1197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6" name="11 Conector recto"/>
          <p:cNvSpPr/>
          <p:nvPr/>
        </p:nvSpPr>
        <p:spPr>
          <a:xfrm>
            <a:off x="250920" y="1268280"/>
            <a:ext cx="20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2" name="Picture 2" descr="G:\mis documentos-2010\Int. a la Física\2009-FI-100\Clases\Tres Ejplos-dinamica-choques\NZ(18-06-08)\NZ_4.jpg"/>
          <p:cNvPicPr/>
          <p:nvPr/>
        </p:nvPicPr>
        <p:blipFill>
          <a:blip r:embed="rId2"/>
          <a:stretch/>
        </p:blipFill>
        <p:spPr>
          <a:xfrm>
            <a:off x="108000" y="1125360"/>
            <a:ext cx="4452840" cy="56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5" name="Line 4"/>
          <p:cNvSpPr/>
          <p:nvPr/>
        </p:nvSpPr>
        <p:spPr>
          <a:xfrm>
            <a:off x="4859280" y="98100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8" name="Picture 2" descr="G:\mis documentos-2010\Int. a la Física\2009-FI-100\Clases\Tres Ejplos-dinamica-choques\NZ(18-06-08)\NZ_5.jpg"/>
          <p:cNvPicPr/>
          <p:nvPr/>
        </p:nvPicPr>
        <p:blipFill>
          <a:blip r:embed="rId2"/>
          <a:stretch/>
        </p:blipFill>
        <p:spPr>
          <a:xfrm>
            <a:off x="82440" y="1125360"/>
            <a:ext cx="4613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4" name="Picture 2" descr="G:\mis documentos-2010\Int. a la Física\2009-FI-100\Clases\Tres Ejplos-dinamica-choques\NZ(18-06-08)\NZ_6.jpg"/>
          <p:cNvPicPr/>
          <p:nvPr/>
        </p:nvPicPr>
        <p:blipFill>
          <a:blip r:embed="rId2"/>
          <a:stretch/>
        </p:blipFill>
        <p:spPr>
          <a:xfrm>
            <a:off x="179280" y="981000"/>
            <a:ext cx="432936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Line 4"/>
          <p:cNvSpPr/>
          <p:nvPr/>
        </p:nvSpPr>
        <p:spPr>
          <a:xfrm>
            <a:off x="46432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0" name="Picture 3" descr="G:\mis documentos-2010\Int. a la Física\2009-FI-100\Clases\Tres Ejplos-dinamica-choques\NZ(18-06-08)\NZ_7.jpg"/>
          <p:cNvPicPr/>
          <p:nvPr/>
        </p:nvPicPr>
        <p:blipFill>
          <a:blip r:embed="rId2"/>
          <a:stretch/>
        </p:blipFill>
        <p:spPr>
          <a:xfrm>
            <a:off x="179280" y="981000"/>
            <a:ext cx="417672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20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17640" y="1461960"/>
            <a:ext cx="7823160" cy="2183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3"/>
          <a:stretch/>
        </p:blipFill>
        <p:spPr>
          <a:xfrm>
            <a:off x="755640" y="3500280"/>
            <a:ext cx="2709720" cy="1197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4"/>
          <a:stretch/>
        </p:blipFill>
        <p:spPr>
          <a:xfrm>
            <a:off x="539640" y="5157720"/>
            <a:ext cx="78994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5"/>
          <a:stretch/>
        </p:blipFill>
        <p:spPr>
          <a:xfrm>
            <a:off x="4564080" y="3429000"/>
            <a:ext cx="2816280" cy="1806480"/>
          </a:xfrm>
          <a:prstGeom prst="rect">
            <a:avLst/>
          </a:prstGeom>
          <a:ln w="0">
            <a:noFill/>
          </a:ln>
        </p:spPr>
      </p:pic>
      <p:sp>
        <p:nvSpPr>
          <p:cNvPr id="109" name="10 CuadroTexto"/>
          <p:cNvSpPr/>
          <p:nvPr/>
        </p:nvSpPr>
        <p:spPr>
          <a:xfrm>
            <a:off x="510840" y="1197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1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0" name="11 CuadroTexto"/>
          <p:cNvSpPr/>
          <p:nvPr/>
        </p:nvSpPr>
        <p:spPr>
          <a:xfrm>
            <a:off x="654480" y="4653000"/>
            <a:ext cx="2100960" cy="307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ff"/>
                </a:solidFill>
                <a:latin typeface="Verdana"/>
              </a:rPr>
              <a:t>Problema #15, Guía #8</a:t>
            </a: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6-21T01:00:24Z</dcterms:modified>
  <cp:revision>76</cp:revision>
  <dc:subject/>
  <dc:title>Introducción a la Física Newtoniana </dc:title>
</cp:coreProperties>
</file>