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979-0495-4FD7-9F5F-1659648F09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70C-2E2D-470B-A8FA-8DA01334AC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E97-266D-4351-8D4E-689E089FFA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6C4-2AA8-4BD7-84D4-62FDAE2595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9A7-ACB6-4482-A0FF-7DA767A080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703-1D1B-4F09-9DD1-66B6C08C66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D541-E801-4272-9ABC-61BFCCD330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DEA-C3A6-46EC-8F91-9EEB3824C0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AF1-B060-41F0-9E21-C61D5FE132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F90-EFD2-4125-A3A5-A42D270508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C89-5D8F-4A8A-848A-EA471DDE56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A97-9F31-4124-978D-77884DF685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0A79-C9C7-422F-A10F-521AB0531F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0252-DFC8-476D-A7DD-EC3F0606D2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5E70-7F08-40C7-9703-8FC28D07FA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0B3-811F-45F8-BB20-3752B70381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DA10-73F8-429E-BA1B-40C9DF7A3B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3D4A-8897-466F-A51F-20D71380F6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2DC-95E9-4946-8773-1D367DF813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410A-A659-4033-8DFB-03DCDCBEC4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E44-BD18-492A-A183-4F85C85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617-D084-47F4-A7E8-2A884BD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C9-B803-4A19-87FF-566E59B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BEF-937F-4035-809F-17EB787F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9DC-7218-4A86-AA6D-F52C4556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990-D979-40E4-A42C-95C393C5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A64-2F8E-4B33-83AD-C306E10A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03F-9514-467C-9B54-6360690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CA-80ED-4F0D-BCE8-AD74EF55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7AC-0C6E-47A8-AEDB-7211C6C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F0D-46E3-4918-989F-3295F23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C8C-DF7D-4866-8B74-786B2E9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B5C9-6DFC-4278-A147-E4FA7D18E2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95400" y="1000080"/>
            <a:ext cx="446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6440" y="1009800"/>
            <a:ext cx="42926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6440" y="1012680"/>
            <a:ext cx="42926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36440" y="990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98568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36440" y="1020600"/>
            <a:ext cx="4292640" cy="555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56199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280" y="1071720"/>
            <a:ext cx="525312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8344080" cy="8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3520" y="5572080"/>
            <a:ext cx="86104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706752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428760" y="3000240"/>
            <a:ext cx="1400040" cy="92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2143080" y="292896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5"/>
          <a:stretch/>
        </p:blipFill>
        <p:spPr>
          <a:xfrm>
            <a:off x="428760" y="4214880"/>
            <a:ext cx="6057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1214280" y="5357880"/>
            <a:ext cx="663912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7786800" y="535788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86756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1643040" y="4286160"/>
            <a:ext cx="6772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2920" y="985680"/>
            <a:ext cx="4173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4360" y="985680"/>
            <a:ext cx="41418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1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1360" y="1000080"/>
            <a:ext cx="4186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9240" y="1031760"/>
            <a:ext cx="4187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8920" y="979560"/>
            <a:ext cx="44416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1280" y="996840"/>
            <a:ext cx="44294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82520" y="1000080"/>
            <a:ext cx="434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6T02:25:10Z</dcterms:modified>
  <cp:revision>88</cp:revision>
  <dc:subject/>
  <dc:title>Introducción a la Física Newtoniana </dc:title>
</cp:coreProperties>
</file>