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6E0-C9B0-4228-BE99-ADCE3128E1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969-50B4-4C0A-B0EB-92EE9794BA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6B1-429A-43D5-942C-5CAB320C42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2B6-2774-4EDA-A6E4-DCC5EDDAC4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4A0-D134-49C1-A426-23CECF6B55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987C-AE83-4196-ACBC-1362AB885E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574-1282-40FF-A3DF-3A3DF6E75C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2FBB-524C-4623-A3F0-38DADD95DD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0379-B358-49E8-85DA-29DFAC8904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096-BE33-4B0E-AD46-8F002D426D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BBF6-FB97-422B-83D0-8F35C1CE00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033B-3ED4-4F1D-9E09-1F704FD07F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638-4DD8-4742-8F37-94FD635E1C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EE97-3649-42FA-B4D0-38C4A69504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300-A262-40EC-A278-23DDF61D8D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6D9-3F8D-425B-87B6-9995010F3C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308-53CD-4F8B-93FA-E54ABEA692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F636-423A-4034-A394-A094DFBCC4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079E-E764-483B-9C39-4424ED2DD4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F4CD-EB07-4A50-AB01-33D1385DCA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848-B3F9-4518-80D2-FC870AEF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AE-53D4-49E4-A462-3CF66354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359-F336-4DE6-8C53-0B81842F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0CA-1706-4FD7-ADDA-FBE79280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33F-BC7E-4170-BE1F-9B6EFB19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6CC-F65E-48D9-943C-5D74C1A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A47-8E4D-4873-A1B7-4CA9C31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02B-DFAF-457C-AB1C-B8B1D9AF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A50-5C7D-4F0E-8847-DF34C24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76D-89C4-4805-8113-22497E6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009-52FE-451F-BCA2-1C2AAE4D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042-FCD9-4C97-9500-F2BA5EB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02C-4B52-4400-81AD-E096CAAD02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95400" y="1000080"/>
            <a:ext cx="446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6440" y="1009800"/>
            <a:ext cx="42926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6440" y="1012680"/>
            <a:ext cx="42926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36440" y="990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98568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36440" y="1020600"/>
            <a:ext cx="4292640" cy="555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56199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280" y="1071720"/>
            <a:ext cx="525312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8344080" cy="8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3520" y="5572080"/>
            <a:ext cx="86104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706752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428760" y="3000240"/>
            <a:ext cx="1400040" cy="92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2143080" y="292896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5"/>
          <a:stretch/>
        </p:blipFill>
        <p:spPr>
          <a:xfrm>
            <a:off x="428760" y="4214880"/>
            <a:ext cx="6057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1214280" y="5357880"/>
            <a:ext cx="663912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7786800" y="535788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86756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1643040" y="4286160"/>
            <a:ext cx="6772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2920" y="985680"/>
            <a:ext cx="4173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4360" y="985680"/>
            <a:ext cx="41418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1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1360" y="1000080"/>
            <a:ext cx="4186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9240" y="1031760"/>
            <a:ext cx="4187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8920" y="979560"/>
            <a:ext cx="44416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1280" y="996840"/>
            <a:ext cx="44294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82520" y="1000080"/>
            <a:ext cx="434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6T02:25:10Z</dcterms:modified>
  <cp:revision>88</cp:revision>
  <dc:subject/>
  <dc:title>Introducción a la Física Newtoniana </dc:title>
</cp:coreProperties>
</file>