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9.png" ContentType="image/png"/>
  <Override PartName="/ppt/media/image27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64D9-1271-4544-89C3-51ADAA7D248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9BDA-2059-4F0B-99F7-5A0EFADE95C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3942-A9D0-4A18-A408-43D674B4C4F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671B-C7B8-4F69-8715-455950569BA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ECD8-84F4-4A37-98A4-2DCDFEADC8D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FDF6-15DA-4F1A-BD18-14703888AE4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CDDF-F009-42A1-AE34-F37786534AF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E332-15ED-4DBE-B8A2-8DEC235400C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0029-D014-4FAA-944D-659269FB0B8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E8CC-B614-4EED-9630-8770A68B0E8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BF43-25A8-4BD4-A1FC-DE1C5FC559C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F7F1-07BF-4D5E-A553-038A5D0EC16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0930-ECDA-4532-B354-5027651A5F4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C09B-3BF2-4385-991D-2A1BFB927B7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F9E9-D9FD-4338-8E07-30A0933AE63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ECBD-3CA8-4587-8493-16A31F1DE57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260A-20D9-4EDB-B395-B0709D6E38C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3F62-C950-41C4-AAC3-83B40012438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B67E-4F3B-4135-99E3-A4D087E81F1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58A0-7A65-4DB2-876A-7427A51F43E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BE26-AF87-4B23-9110-56C23D667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5432-1DA3-442E-9289-B990746B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7C69-E7BE-4B21-8DD9-6675E9113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9BBB-84CF-4322-AE0B-ABF246EC3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851A-5EB1-4405-B6BB-DC63DF3A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665E-EA93-4633-818D-83163073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7830-AE5A-4742-B357-4A154E7E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AC14-CBF0-4A60-9098-1B01F926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FF8D-E0C1-4159-BAB3-C1311E2D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AD4B-0770-4406-941A-3ED41604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D94D-07B6-4B2F-B1F1-C1F997E9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756E-4F51-491E-ABB9-8913FB5A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BBAA-47F1-498D-A37B-ED19F9C9588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2"/>
          <a:stretch/>
        </p:blipFill>
        <p:spPr>
          <a:xfrm>
            <a:off x="95400" y="1000080"/>
            <a:ext cx="4465440" cy="55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136440" y="1009800"/>
            <a:ext cx="429264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136440" y="1047600"/>
            <a:ext cx="4292640" cy="55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136440" y="1025640"/>
            <a:ext cx="429264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136440" y="1012680"/>
            <a:ext cx="4292640" cy="56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136440" y="990720"/>
            <a:ext cx="429264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136440" y="985680"/>
            <a:ext cx="429264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136440" y="1020600"/>
            <a:ext cx="4292640" cy="5551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3"/>
          <a:stretch/>
        </p:blipFill>
        <p:spPr>
          <a:xfrm>
            <a:off x="3143160" y="1500120"/>
            <a:ext cx="561996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2"/>
          <a:stretch/>
        </p:blipFill>
        <p:spPr>
          <a:xfrm>
            <a:off x="71280" y="1071720"/>
            <a:ext cx="5253120" cy="3352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3"/>
          <a:stretch/>
        </p:blipFill>
        <p:spPr>
          <a:xfrm>
            <a:off x="500040" y="4643280"/>
            <a:ext cx="8344080" cy="870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4"/>
          <a:stretch/>
        </p:blipFill>
        <p:spPr>
          <a:xfrm>
            <a:off x="533520" y="5572080"/>
            <a:ext cx="861048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5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357120" y="1500120"/>
            <a:ext cx="7067520" cy="1047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3"/>
          <a:stretch/>
        </p:blipFill>
        <p:spPr>
          <a:xfrm>
            <a:off x="428760" y="3000240"/>
            <a:ext cx="1400040" cy="924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4"/>
          <a:stretch/>
        </p:blipFill>
        <p:spPr>
          <a:xfrm>
            <a:off x="2143080" y="2928960"/>
            <a:ext cx="2057400" cy="1143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"/>
          <p:cNvPicPr/>
          <p:nvPr/>
        </p:nvPicPr>
        <p:blipFill>
          <a:blip r:embed="rId5"/>
          <a:stretch/>
        </p:blipFill>
        <p:spPr>
          <a:xfrm>
            <a:off x="428760" y="4214880"/>
            <a:ext cx="6057720" cy="1038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6"/>
          <a:stretch/>
        </p:blipFill>
        <p:spPr>
          <a:xfrm>
            <a:off x="1214280" y="5357880"/>
            <a:ext cx="6639120" cy="1285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"/>
          <p:cNvPicPr/>
          <p:nvPr/>
        </p:nvPicPr>
        <p:blipFill>
          <a:blip r:embed="rId7"/>
          <a:stretch/>
        </p:blipFill>
        <p:spPr>
          <a:xfrm>
            <a:off x="7786800" y="5357880"/>
            <a:ext cx="10285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214200" y="1143000"/>
            <a:ext cx="4867560" cy="2543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3"/>
          <a:stretch/>
        </p:blipFill>
        <p:spPr>
          <a:xfrm>
            <a:off x="1643040" y="4286160"/>
            <a:ext cx="677232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142920" y="985680"/>
            <a:ext cx="41734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2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144360" y="985680"/>
            <a:ext cx="414180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71280" y="1000080"/>
            <a:ext cx="4143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4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171360" y="1000080"/>
            <a:ext cx="418644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219240" y="1031760"/>
            <a:ext cx="4187520" cy="558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88920" y="979560"/>
            <a:ext cx="4441680" cy="57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2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71280" y="996840"/>
            <a:ext cx="4429440" cy="57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182520" y="1000080"/>
            <a:ext cx="4349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6-16T02:25:10Z</dcterms:modified>
  <cp:revision>88</cp:revision>
  <dc:subject/>
  <dc:title>Introducción a la Física Newtoniana </dc:title>
</cp:coreProperties>
</file>