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600-14B7-4961-94AC-6DB558C62A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93B-76A9-4086-B473-9F6B288A63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79F2-E6E1-4013-A3F0-194310780A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01C-0249-46B1-A86E-E57574B923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9010-1DEB-4796-B51B-991A910C73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56EC-7390-447C-BBC8-EFA316CE7F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568-5B4B-4B95-97A7-37D1C7E9B3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27D-2DF7-4161-BB40-C760105279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A311-37F2-4BAA-BF6C-3F8A6814D8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3A6-6501-429D-BE04-15A505DC2A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40BA-9061-4A19-8E0A-7854195E91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9694-3887-4D9D-89B3-C7A1AEDD84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07E-09EB-4604-B678-6CDA154CCE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3EFC-3B87-4D14-80DF-8951C316C4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DC27-CC92-4481-A545-22663EC926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7E8-7DDB-44C5-97A9-1BF0BF0100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9F67-5B55-4A62-B8C6-D4322711F9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4824-A447-4045-A40D-426163AE2A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743-C879-4989-A36E-C0B3B59E79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BA3-2ACA-4C5A-9728-97A797E220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5CD-0E99-4595-9942-27E9DBB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1D1-786A-4DE7-AA0E-D3D3C1B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AFC-7E57-4723-93FB-EC954167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58A-8008-4795-82F3-4402F45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57D-6307-4A81-A2FA-15BC0E8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07D-65A5-4432-9F46-1DBE558F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96E-BA54-44E4-945B-F26E4E7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E00-EFF2-48ED-8780-2CD16046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204-3392-4D1D-9372-8E8E3B9A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EF9-57FB-4003-81C1-87EF127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A70-B21D-475C-9D17-3D4AE289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797-3AF8-44BF-99B7-F4BA80F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694F-6718-499F-9139-F3A967436F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95400" y="1000080"/>
            <a:ext cx="44654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36440" y="1009800"/>
            <a:ext cx="42926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36440" y="1012680"/>
            <a:ext cx="42926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36440" y="990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98568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36440" y="1020600"/>
            <a:ext cx="4292640" cy="555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56199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1280" y="1071720"/>
            <a:ext cx="525312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8344080" cy="8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533520" y="5572080"/>
            <a:ext cx="86104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706752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428760" y="3000240"/>
            <a:ext cx="1400040" cy="92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2143080" y="292896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5"/>
          <a:stretch/>
        </p:blipFill>
        <p:spPr>
          <a:xfrm>
            <a:off x="428760" y="4214880"/>
            <a:ext cx="60577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>
            <a:off x="1214280" y="5357880"/>
            <a:ext cx="663912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7"/>
          <a:stretch/>
        </p:blipFill>
        <p:spPr>
          <a:xfrm>
            <a:off x="7786800" y="5357880"/>
            <a:ext cx="1028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4867560" cy="25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1643040" y="4286160"/>
            <a:ext cx="6772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2920" y="985680"/>
            <a:ext cx="4173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44360" y="985680"/>
            <a:ext cx="41418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1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1360" y="1000080"/>
            <a:ext cx="41864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19240" y="1031760"/>
            <a:ext cx="41875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8920" y="979560"/>
            <a:ext cx="444168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1280" y="996840"/>
            <a:ext cx="44294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82520" y="1000080"/>
            <a:ext cx="434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6T02:25:10Z</dcterms:modified>
  <cp:revision>88</cp:revision>
  <dc:subject/>
  <dc:title>Introducción a la Física Newtoniana </dc:title>
</cp:coreProperties>
</file>