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AFF-A491-4262-8BCD-79DF9D95AC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08F-F762-4A6F-A1AD-9D1028A70B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341C-3C97-4D87-9710-795F95FAA1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BFE-E3AD-456B-A7B0-9478A9B526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2B5A-9FDB-4B44-B2CE-E5F9D61746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A36F-B3D6-46DC-A019-AC7E2DC4E2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9F8-5764-4239-844C-477E36C767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1BA6-39A0-4424-B6C9-1E8F6BF6B8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4C1-C76E-46D6-8662-6BB62D0BF1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B6F-C4B5-474C-97EF-4B859914BF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673-55BD-489E-ACFB-6D31387029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6D6-CACD-436E-B0F8-9570ACC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ED6-85B4-486C-964D-678CE67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80A-237C-4E7A-AE93-45EF3D15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99B-AB96-48A8-A8E1-FDD42DB2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C7E-1FDE-4291-B63C-53DD7E4F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379-61E9-4564-978C-568B1819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80A-1080-47AE-83C7-828EE5C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24F-4AB2-4D01-A517-5059EB9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471-B692-4895-86D2-5FC703C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E99-FDDB-44FB-B15C-B4B6DC5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D29-D5B3-4B53-9A28-17248BD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E61-5553-490A-BBDA-C841427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C0DC-AF43-4840-8F87-912F5BDF93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14480"/>
            <a:ext cx="42148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76946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4237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2840" y="1227240"/>
            <a:ext cx="45385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429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5440" y="1008000"/>
            <a:ext cx="45165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12680" y="960480"/>
            <a:ext cx="4194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14920" y="1143000"/>
            <a:ext cx="46080" cy="47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89" name="14 Grupo"/>
          <p:cNvGrpSpPr/>
          <p:nvPr/>
        </p:nvGrpSpPr>
        <p:grpSpPr>
          <a:xfrm>
            <a:off x="214200" y="1856880"/>
            <a:ext cx="1285920" cy="429120"/>
            <a:chOff x="214200" y="1856880"/>
            <a:chExt cx="1285920" cy="429120"/>
          </a:xfrm>
        </p:grpSpPr>
        <p:sp>
          <p:nvSpPr>
            <p:cNvPr id="90" name="6 Elipse"/>
            <p:cNvSpPr/>
            <p:nvPr/>
          </p:nvSpPr>
          <p:spPr>
            <a:xfrm>
              <a:off x="270000" y="190764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8 Elipse"/>
            <p:cNvSpPr/>
            <p:nvPr/>
          </p:nvSpPr>
          <p:spPr>
            <a:xfrm>
              <a:off x="1108800" y="190764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9 Rectángulo"/>
            <p:cNvSpPr/>
            <p:nvPr/>
          </p:nvSpPr>
          <p:spPr>
            <a:xfrm>
              <a:off x="214200" y="225432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93" name="11 Conector recto de flecha"/>
            <p:cNvCxnSpPr/>
            <p:nvPr/>
          </p:nvCxnSpPr>
          <p:spPr>
            <a:xfrm>
              <a:off x="214200" y="185796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94" name="13 Conector recto de flecha"/>
            <p:cNvCxnSpPr/>
            <p:nvPr/>
          </p:nvCxnSpPr>
          <p:spPr>
            <a:xfrm>
              <a:off x="1164600" y="185688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</p:grpSp>
      <p:sp>
        <p:nvSpPr>
          <p:cNvPr id="95" name="26 Explosión 1"/>
          <p:cNvSpPr/>
          <p:nvPr/>
        </p:nvSpPr>
        <p:spPr>
          <a:xfrm>
            <a:off x="1857240" y="171468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27 CuadroTexto"/>
          <p:cNvSpPr/>
          <p:nvPr/>
        </p:nvSpPr>
        <p:spPr>
          <a:xfrm>
            <a:off x="518760" y="14288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7" name="32 Grupo"/>
          <p:cNvGrpSpPr/>
          <p:nvPr/>
        </p:nvGrpSpPr>
        <p:grpSpPr>
          <a:xfrm>
            <a:off x="3214800" y="1512720"/>
            <a:ext cx="1285920" cy="774720"/>
            <a:chOff x="3214800" y="1512720"/>
            <a:chExt cx="1285920" cy="774720"/>
          </a:xfrm>
        </p:grpSpPr>
        <p:sp>
          <p:nvSpPr>
            <p:cNvPr id="98" name="17 Elipse"/>
            <p:cNvSpPr/>
            <p:nvPr/>
          </p:nvSpPr>
          <p:spPr>
            <a:xfrm>
              <a:off x="3418200" y="190800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18 Elipse"/>
            <p:cNvSpPr/>
            <p:nvPr/>
          </p:nvSpPr>
          <p:spPr>
            <a:xfrm>
              <a:off x="4075200" y="1908000"/>
              <a:ext cx="380160" cy="3376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19 Rectángulo"/>
            <p:cNvSpPr/>
            <p:nvPr/>
          </p:nvSpPr>
          <p:spPr>
            <a:xfrm>
              <a:off x="3214800" y="225576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01" name="20 Conector recto de flecha"/>
            <p:cNvCxnSpPr/>
            <p:nvPr/>
          </p:nvCxnSpPr>
          <p:spPr>
            <a:xfrm flipH="1">
              <a:off x="3452760" y="1856880"/>
              <a:ext cx="280080" cy="28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cxnSp>
          <p:nvCxnSpPr>
            <p:cNvPr id="102" name="21 Conector recto de flecha"/>
            <p:cNvCxnSpPr/>
            <p:nvPr/>
          </p:nvCxnSpPr>
          <p:spPr>
            <a:xfrm>
              <a:off x="4051800" y="1856520"/>
              <a:ext cx="44784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</p:cxnSp>
        <p:sp>
          <p:nvSpPr>
            <p:cNvPr id="103" name="28 CuadroTexto"/>
            <p:cNvSpPr/>
            <p:nvPr/>
          </p:nvSpPr>
          <p:spPr>
            <a:xfrm>
              <a:off x="3439440" y="151272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Despúes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04" name="29 CuadroTexto"/>
          <p:cNvSpPr/>
          <p:nvPr/>
        </p:nvSpPr>
        <p:spPr>
          <a:xfrm>
            <a:off x="1887480" y="1384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Choqu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30 Elipse"/>
          <p:cNvSpPr/>
          <p:nvPr/>
        </p:nvSpPr>
        <p:spPr>
          <a:xfrm>
            <a:off x="1886040" y="192888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31 Elipse"/>
          <p:cNvSpPr/>
          <p:nvPr/>
        </p:nvSpPr>
        <p:spPr>
          <a:xfrm>
            <a:off x="2286000" y="1928880"/>
            <a:ext cx="379440" cy="3380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2920" y="2792520"/>
            <a:ext cx="4429080" cy="117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42920" y="4024440"/>
            <a:ext cx="443844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4"/>
          <a:stretch/>
        </p:blipFill>
        <p:spPr>
          <a:xfrm>
            <a:off x="5214960" y="1857240"/>
            <a:ext cx="3666960" cy="2457720"/>
          </a:xfrm>
          <a:prstGeom prst="rect">
            <a:avLst/>
          </a:prstGeom>
          <a:ln w="0">
            <a:noFill/>
          </a:ln>
        </p:spPr>
      </p:pic>
      <p:sp>
        <p:nvSpPr>
          <p:cNvPr id="110" name="36 CuadroTexto"/>
          <p:cNvSpPr/>
          <p:nvPr/>
        </p:nvSpPr>
        <p:spPr>
          <a:xfrm>
            <a:off x="746640" y="5715000"/>
            <a:ext cx="2994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rdenando estas dos ecuacion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1" name="42 Conector curvado"/>
          <p:cNvCxnSpPr/>
          <p:nvPr/>
        </p:nvCxnSpPr>
        <p:spPr>
          <a:xfrm flipH="1" rot="16200000">
            <a:off x="249840" y="5250240"/>
            <a:ext cx="500760" cy="4291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67 Conector recto de flecha"/>
          <p:cNvCxnSpPr/>
          <p:nvPr/>
        </p:nvCxnSpPr>
        <p:spPr>
          <a:xfrm flipV="1">
            <a:off x="3927960" y="2142360"/>
            <a:ext cx="1500840" cy="3786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68 Rectángulo redondeado"/>
          <p:cNvSpPr/>
          <p:nvPr/>
        </p:nvSpPr>
        <p:spPr>
          <a:xfrm>
            <a:off x="5143680" y="3714840"/>
            <a:ext cx="3714480" cy="571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69 CuadroTexto"/>
          <p:cNvSpPr/>
          <p:nvPr/>
        </p:nvSpPr>
        <p:spPr>
          <a:xfrm>
            <a:off x="5739480" y="4857840"/>
            <a:ext cx="2648160" cy="307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álido para choques 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15" name="71 Conector curvado"/>
          <p:cNvCxnSpPr/>
          <p:nvPr/>
        </p:nvCxnSpPr>
        <p:spPr>
          <a:xfrm flipH="1" rot="16200000">
            <a:off x="6178320" y="4321800"/>
            <a:ext cx="572400" cy="50076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 rot="20996400">
            <a:off x="3732120" y="5679720"/>
            <a:ext cx="5426280" cy="544680"/>
          </a:xfrm>
          <a:prstGeom prst="rect">
            <a:avLst/>
          </a:prstGeom>
          <a:ln w="0">
            <a:noFill/>
          </a:ln>
        </p:spPr>
      </p:pic>
      <p:sp>
        <p:nvSpPr>
          <p:cNvPr id="117" name="74 CuadroTexto"/>
          <p:cNvSpPr/>
          <p:nvPr/>
        </p:nvSpPr>
        <p:spPr>
          <a:xfrm rot="21033600">
            <a:off x="6126840" y="6136920"/>
            <a:ext cx="2785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finición de velocidad relativ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75 Elipse"/>
          <p:cNvSpPr/>
          <p:nvPr/>
        </p:nvSpPr>
        <p:spPr>
          <a:xfrm>
            <a:off x="2038320" y="2081160"/>
            <a:ext cx="380880" cy="338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857920" y="1000080"/>
            <a:ext cx="71280" cy="4857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286680" y="2143080"/>
            <a:ext cx="2476440" cy="40968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6306480" y="1785960"/>
            <a:ext cx="2541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Verdana"/>
              </a:rPr>
              <a:t>CHOQUES INELÁSTICOS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214200" y="1071720"/>
            <a:ext cx="52038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0" y="4214880"/>
            <a:ext cx="5829480" cy="5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5"/>
          <a:stretch/>
        </p:blipFill>
        <p:spPr>
          <a:xfrm>
            <a:off x="6143760" y="2571840"/>
            <a:ext cx="2409840" cy="3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6"/>
          <a:stretch/>
        </p:blipFill>
        <p:spPr>
          <a:xfrm>
            <a:off x="5965920" y="3000240"/>
            <a:ext cx="205740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7"/>
          <a:stretch/>
        </p:blipFill>
        <p:spPr>
          <a:xfrm>
            <a:off x="6021360" y="3416400"/>
            <a:ext cx="31813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8"/>
          <a:stretch/>
        </p:blipFill>
        <p:spPr>
          <a:xfrm>
            <a:off x="6715080" y="3716280"/>
            <a:ext cx="217188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9"/>
          <a:stretch/>
        </p:blipFill>
        <p:spPr>
          <a:xfrm>
            <a:off x="6686640" y="3975120"/>
            <a:ext cx="1295280" cy="26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0"/>
          <a:stretch/>
        </p:blipFill>
        <p:spPr>
          <a:xfrm>
            <a:off x="6972480" y="4145040"/>
            <a:ext cx="17143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11"/>
          <a:stretch/>
        </p:blipFill>
        <p:spPr>
          <a:xfrm>
            <a:off x="7400880" y="4359240"/>
            <a:ext cx="17431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20 Conector recto"/>
          <p:cNvSpPr/>
          <p:nvPr/>
        </p:nvSpPr>
        <p:spPr>
          <a:xfrm>
            <a:off x="5929200" y="5856120"/>
            <a:ext cx="3214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1143000" y="5000760"/>
            <a:ext cx="2894040" cy="117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a definición natural de 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elocidad del  centro de ma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V</a:t>
            </a:r>
            <a:r>
              <a:rPr b="0" lang="es-ES" sz="1100" spc="-1" strike="noStrike" baseline="-25000">
                <a:solidFill>
                  <a:srgbClr val="0000ff"/>
                </a:solidFill>
                <a:latin typeface="Verdana"/>
              </a:rPr>
              <a:t>CM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el caso de choqu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lástic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22 Llamada de nube"/>
          <p:cNvSpPr/>
          <p:nvPr/>
        </p:nvSpPr>
        <p:spPr>
          <a:xfrm>
            <a:off x="1285920" y="1785960"/>
            <a:ext cx="1714320" cy="642960"/>
          </a:xfrm>
          <a:prstGeom prst="cloudCallout">
            <a:avLst>
              <a:gd name="adj1" fmla="val 8796"/>
              <a:gd name="adj2" fmla="val 42708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38" name="39 Grupo"/>
          <p:cNvGrpSpPr/>
          <p:nvPr/>
        </p:nvGrpSpPr>
        <p:grpSpPr>
          <a:xfrm>
            <a:off x="7715160" y="4786200"/>
            <a:ext cx="1143000" cy="545760"/>
            <a:chOff x="7715160" y="4786200"/>
            <a:chExt cx="1143000" cy="545760"/>
          </a:xfrm>
        </p:grpSpPr>
        <p:sp>
          <p:nvSpPr>
            <p:cNvPr id="139" name="23 Elipse"/>
            <p:cNvSpPr/>
            <p:nvPr/>
          </p:nvSpPr>
          <p:spPr>
            <a:xfrm>
              <a:off x="8000640" y="4929120"/>
              <a:ext cx="380160" cy="337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0" name="24 Elipse"/>
            <p:cNvSpPr/>
            <p:nvPr/>
          </p:nvSpPr>
          <p:spPr>
            <a:xfrm>
              <a:off x="8286480" y="4929120"/>
              <a:ext cx="380160" cy="3574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1" name="26 Conector recto de flecha"/>
            <p:cNvCxnSpPr/>
            <p:nvPr/>
          </p:nvCxnSpPr>
          <p:spPr>
            <a:xfrm>
              <a:off x="8071920" y="4786200"/>
              <a:ext cx="57204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2" name="29 Rectángulo"/>
            <p:cNvSpPr/>
            <p:nvPr/>
          </p:nvSpPr>
          <p:spPr>
            <a:xfrm flipV="1">
              <a:off x="7715160" y="5285880"/>
              <a:ext cx="1143000" cy="457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143" name="31 Grupo"/>
          <p:cNvGrpSpPr/>
          <p:nvPr/>
        </p:nvGrpSpPr>
        <p:grpSpPr>
          <a:xfrm>
            <a:off x="6215040" y="4928760"/>
            <a:ext cx="1285920" cy="429120"/>
            <a:chOff x="6215040" y="4928760"/>
            <a:chExt cx="1285920" cy="429120"/>
          </a:xfrm>
        </p:grpSpPr>
        <p:sp>
          <p:nvSpPr>
            <p:cNvPr id="144" name="32 Elipse"/>
            <p:cNvSpPr/>
            <p:nvPr/>
          </p:nvSpPr>
          <p:spPr>
            <a:xfrm>
              <a:off x="6270840" y="4979520"/>
              <a:ext cx="380160" cy="336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5" name="33 Elipse"/>
            <p:cNvSpPr/>
            <p:nvPr/>
          </p:nvSpPr>
          <p:spPr>
            <a:xfrm>
              <a:off x="7109640" y="4979520"/>
              <a:ext cx="380160" cy="33660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46" name="34 Rectángulo"/>
            <p:cNvSpPr/>
            <p:nvPr/>
          </p:nvSpPr>
          <p:spPr>
            <a:xfrm>
              <a:off x="6215040" y="5326200"/>
              <a:ext cx="1285920" cy="316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cxnSp>
          <p:nvCxnSpPr>
            <p:cNvPr id="147" name="35 Conector recto de flecha"/>
            <p:cNvCxnSpPr/>
            <p:nvPr/>
          </p:nvCxnSpPr>
          <p:spPr>
            <a:xfrm>
              <a:off x="6215040" y="4929840"/>
              <a:ext cx="50400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48" name="36 Conector recto de flecha"/>
            <p:cNvCxnSpPr/>
            <p:nvPr/>
          </p:nvCxnSpPr>
          <p:spPr>
            <a:xfrm>
              <a:off x="7165440" y="4928760"/>
              <a:ext cx="280080" cy="18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149" name="37 CuadroTexto"/>
          <p:cNvSpPr/>
          <p:nvPr/>
        </p:nvSpPr>
        <p:spPr>
          <a:xfrm>
            <a:off x="6519240" y="54291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38 CuadroTexto"/>
          <p:cNvSpPr/>
          <p:nvPr/>
        </p:nvSpPr>
        <p:spPr>
          <a:xfrm>
            <a:off x="7981920" y="5427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spú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9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081400" cy="50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214200" y="1928880"/>
            <a:ext cx="809172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714240" y="3143160"/>
            <a:ext cx="15526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5322960" y="4867200"/>
            <a:ext cx="3281400" cy="134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6"/>
          <a:stretch/>
        </p:blipFill>
        <p:spPr>
          <a:xfrm>
            <a:off x="1000080" y="3643200"/>
            <a:ext cx="7215120" cy="136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7"/>
          <a:stretch/>
        </p:blipFill>
        <p:spPr>
          <a:xfrm>
            <a:off x="357120" y="5072040"/>
            <a:ext cx="341172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8"/>
          <a:stretch/>
        </p:blipFill>
        <p:spPr>
          <a:xfrm>
            <a:off x="3071880" y="6143760"/>
            <a:ext cx="203184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9"/>
          <a:stretch/>
        </p:blipFill>
        <p:spPr>
          <a:xfrm>
            <a:off x="5143680" y="5769000"/>
            <a:ext cx="3500280" cy="1017720"/>
          </a:xfrm>
          <a:prstGeom prst="rect">
            <a:avLst/>
          </a:prstGeom>
          <a:ln w="0">
            <a:noFill/>
          </a:ln>
        </p:spPr>
      </p:pic>
      <p:sp>
        <p:nvSpPr>
          <p:cNvPr id="163" name="15 Flecha derecha"/>
          <p:cNvSpPr/>
          <p:nvPr/>
        </p:nvSpPr>
        <p:spPr>
          <a:xfrm>
            <a:off x="4071960" y="52149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7T21:52:59Z</dcterms:modified>
  <cp:revision>88</cp:revision>
  <dc:subject/>
  <dc:title>Introducción a la Física Newtoniana </dc:title>
</cp:coreProperties>
</file>