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F679-F367-433B-9920-2EA2BE6CBA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D6A0-FA91-4954-A971-85536F8CE8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ACCA-1625-4085-AB70-25DFF5E259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CE77-8096-4E40-8E06-772201872B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42C9-2CD6-4210-B789-D6BD483F84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B553-5509-499C-8638-2BEB25BD16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C4B8-0FD9-49A8-B0AA-3E0946F3EC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7044-89F0-484D-BD25-240C197D0D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7371-70BF-4B58-8C7A-4B50946F24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7DD8-D46D-477E-9928-2836A5F262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DE50-F391-420A-A991-0F2B02B953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9468-ACAB-4A9C-B886-C1DC18430C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F922-4FD1-4009-B133-4F07E087DB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015B-E740-40F8-8BF2-13041FFADB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0AF8-D261-45A3-8A0A-126DDF9177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1EAC-C0B4-49C7-AA86-E606E087CD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473D-9177-44ED-B893-E28FC42496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5072-91FE-4540-B6C4-7CDCDBCD56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3E2-3338-4BA9-A948-D0AEC2FB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1CB-0482-4582-9662-B327F3FF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7B7-6F0F-4996-A5F8-8AA5745E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363-94ED-4C4F-BEC4-0E1B3A8B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AC0-7297-4088-9E03-DF4707E8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8CC-0BC0-404B-8C34-5FA782C0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83B-28DD-4B3F-9BDA-312ECE54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8A4-0DFC-4A19-9CFA-31BCE898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5C4-2B61-4894-B748-EA034677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921-674C-4910-A57D-83AD7571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7F9-9C1C-492A-8055-57E9CCF8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5B2-85B1-4FB2-BB38-52EDBC85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CDEB-4E12-4C69-BB34-D7C46B8F63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6" descr="ATT00269"/>
          <p:cNvPicPr/>
          <p:nvPr/>
        </p:nvPicPr>
        <p:blipFill>
          <a:blip r:embed="rId2"/>
          <a:stretch/>
        </p:blipFill>
        <p:spPr>
          <a:xfrm>
            <a:off x="214200" y="1170000"/>
            <a:ext cx="40006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385776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1" name="Picture 7" descr="ATT00291"/>
          <p:cNvPicPr/>
          <p:nvPr/>
        </p:nvPicPr>
        <p:blipFill>
          <a:blip r:embed="rId2"/>
          <a:stretch/>
        </p:blipFill>
        <p:spPr>
          <a:xfrm>
            <a:off x="71280" y="1098720"/>
            <a:ext cx="44625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10 Elipse"/>
          <p:cNvSpPr/>
          <p:nvPr/>
        </p:nvSpPr>
        <p:spPr>
          <a:xfrm>
            <a:off x="3500280" y="4357800"/>
            <a:ext cx="1285920" cy="10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6 CuadroTexto"/>
          <p:cNvSpPr/>
          <p:nvPr/>
        </p:nvSpPr>
        <p:spPr>
          <a:xfrm>
            <a:off x="428760" y="1285920"/>
            <a:ext cx="7429320" cy="32605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Conclusión: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omic Sans MS"/>
              </a:rPr>
              <a:t>E = T + V = Constante a lo largo de la 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omic Sans MS"/>
              </a:rPr>
              <a:t>                              </a:t>
            </a:r>
            <a:r>
              <a:rPr b="0" lang="es-MX" sz="3200" spc="-1" strike="noStrike">
                <a:solidFill>
                  <a:srgbClr val="ff0000"/>
                </a:solidFill>
                <a:latin typeface="Comic Sans MS"/>
              </a:rPr>
              <a:t>trayectoria.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Donde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T = Energía Cinética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V= Energía Potencial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905040" cy="61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3"/>
          <a:stretch/>
        </p:blipFill>
        <p:spPr>
          <a:xfrm>
            <a:off x="4643280" y="4214880"/>
            <a:ext cx="695520" cy="361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4"/>
          <a:stretch/>
        </p:blipFill>
        <p:spPr>
          <a:xfrm>
            <a:off x="3786120" y="4643280"/>
            <a:ext cx="744480" cy="587520"/>
          </a:xfrm>
          <a:prstGeom prst="rect">
            <a:avLst/>
          </a:prstGeom>
          <a:ln w="0">
            <a:noFill/>
          </a:ln>
        </p:spPr>
      </p:pic>
      <p:cxnSp>
        <p:nvCxnSpPr>
          <p:cNvPr id="131" name="12 Conector recto de flecha"/>
          <p:cNvCxnSpPr/>
          <p:nvPr/>
        </p:nvCxnSpPr>
        <p:spPr>
          <a:xfrm flipV="1">
            <a:off x="4428720" y="3714120"/>
            <a:ext cx="2149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14 Conector recto de flecha"/>
          <p:cNvCxnSpPr/>
          <p:nvPr/>
        </p:nvCxnSpPr>
        <p:spPr>
          <a:xfrm flipV="1">
            <a:off x="4500720" y="4395600"/>
            <a:ext cx="143280" cy="3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16 Conector angular"/>
          <p:cNvCxnSpPr/>
          <p:nvPr/>
        </p:nvCxnSpPr>
        <p:spPr>
          <a:xfrm>
            <a:off x="3000240" y="4500720"/>
            <a:ext cx="858240" cy="35784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4" name="17 CuadroTexto"/>
          <p:cNvSpPr/>
          <p:nvPr/>
        </p:nvSpPr>
        <p:spPr>
          <a:xfrm>
            <a:off x="672480" y="5429160"/>
            <a:ext cx="7582680" cy="94644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o que hemos considerado acá es la energía mecánica. Esta se conserva sólo si n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ay disipación en OTRAS formas de energía, como calor, energía interna (deformación)…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energía total (mecánica más otras formas) siempre se conserva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0" name="Picture 6" descr="ATT00297"/>
          <p:cNvPicPr/>
          <p:nvPr/>
        </p:nvPicPr>
        <p:blipFill>
          <a:blip r:embed="rId2"/>
          <a:stretch/>
        </p:blipFill>
        <p:spPr>
          <a:xfrm>
            <a:off x="214200" y="1000080"/>
            <a:ext cx="41007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46" name="Object 7"/>
          <p:cNvGraphicFramePr/>
          <p:nvPr/>
        </p:nvGraphicFramePr>
        <p:xfrm>
          <a:off x="0" y="981000"/>
          <a:ext cx="4500720" cy="568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4500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6"/>
          <p:cNvSpPr/>
          <p:nvPr/>
        </p:nvSpPr>
        <p:spPr>
          <a:xfrm>
            <a:off x="4857840" y="2857680"/>
            <a:ext cx="4071960" cy="338580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9966"/>
                </a:solidFill>
                <a:latin typeface="Verdana"/>
              </a:rPr>
              <a:t>Utilizando la  consistencia de las matemáticas encontramos  una relación extremadamente útil y general: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9966"/>
                </a:solidFill>
                <a:latin typeface="Verdana"/>
              </a:rPr>
              <a:t> </a:t>
            </a:r>
            <a:r>
              <a:rPr b="0" i="1" lang="es-CL" sz="1800" spc="-1" strike="noStrike">
                <a:solidFill>
                  <a:srgbClr val="0066cc"/>
                </a:solidFill>
                <a:latin typeface="Verdana"/>
              </a:rPr>
              <a:t>la conservación de la ene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rgía</a:t>
            </a:r>
            <a:r>
              <a:rPr b="0" lang="es-CL" sz="1800" spc="-1" strike="noStrike">
                <a:solidFill>
                  <a:srgbClr val="ff99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9966"/>
                </a:solidFill>
                <a:latin typeface="Verdana"/>
              </a:rPr>
              <a:t>y sus dos componentes: la energía cinética y la energía potencial, cuyo significado físico se puede reconocer intuitivamente sin dificultades.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857840" y="185724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Verdana"/>
              </a:rPr>
              <a:t>ENERGÍA EN UN RESORTE</a:t>
            </a: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cc"/>
                </a:solidFill>
                <a:latin typeface="Arial"/>
              </a:rPr>
              <a:t>(</a:t>
            </a:r>
            <a:r>
              <a:rPr b="0" lang="es-CL" sz="1200" spc="-1" strike="noStrike">
                <a:solidFill>
                  <a:srgbClr val="0099cc"/>
                </a:solidFill>
                <a:latin typeface="Arial"/>
              </a:rPr>
              <a:t>Ver págs. 220—238, Libro NZ)</a:t>
            </a: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55" name="Object 7"/>
          <p:cNvGraphicFramePr/>
          <p:nvPr/>
        </p:nvGraphicFramePr>
        <p:xfrm>
          <a:off x="250920" y="1071720"/>
          <a:ext cx="415764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71720"/>
                    <a:ext cx="4157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485928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62" name="Object 8"/>
          <p:cNvGraphicFramePr/>
          <p:nvPr/>
        </p:nvGraphicFramePr>
        <p:xfrm>
          <a:off x="257040" y="1109520"/>
          <a:ext cx="4349880" cy="558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040" y="1109520"/>
                    <a:ext cx="434988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6" descr="ATT00271"/>
          <p:cNvPicPr/>
          <p:nvPr/>
        </p:nvPicPr>
        <p:blipFill>
          <a:blip r:embed="rId2"/>
          <a:stretch/>
        </p:blipFill>
        <p:spPr>
          <a:xfrm>
            <a:off x="250920" y="1027080"/>
            <a:ext cx="4100400" cy="56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2"/>
          <p:cNvGraphicFramePr/>
          <p:nvPr/>
        </p:nvGraphicFramePr>
        <p:xfrm>
          <a:off x="5357880" y="1643040"/>
          <a:ext cx="2952720" cy="22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7880" y="1643040"/>
                    <a:ext cx="2952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73080" y="85248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7" name="Picture 6" descr="ATT00275"/>
          <p:cNvPicPr/>
          <p:nvPr/>
        </p:nvPicPr>
        <p:blipFill>
          <a:blip r:embed="rId2"/>
          <a:stretch/>
        </p:blipFill>
        <p:spPr>
          <a:xfrm>
            <a:off x="179280" y="942840"/>
            <a:ext cx="425628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3" name="Picture 6" descr="ATT00277"/>
          <p:cNvPicPr/>
          <p:nvPr/>
        </p:nvPicPr>
        <p:blipFill>
          <a:blip r:embed="rId2"/>
          <a:stretch/>
        </p:blipFill>
        <p:spPr>
          <a:xfrm>
            <a:off x="142920" y="1069920"/>
            <a:ext cx="425592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9" name="Picture 6" descr="ATT00279"/>
          <p:cNvPicPr/>
          <p:nvPr/>
        </p:nvPicPr>
        <p:blipFill>
          <a:blip r:embed="rId2"/>
          <a:stretch/>
        </p:blipFill>
        <p:spPr>
          <a:xfrm>
            <a:off x="285840" y="1027080"/>
            <a:ext cx="415116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5" name="Picture 6" descr="ATT00285"/>
          <p:cNvPicPr/>
          <p:nvPr/>
        </p:nvPicPr>
        <p:blipFill>
          <a:blip r:embed="rId2"/>
          <a:stretch/>
        </p:blipFill>
        <p:spPr>
          <a:xfrm>
            <a:off x="250920" y="1071720"/>
            <a:ext cx="4097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357120" y="1071720"/>
            <a:ext cx="4160880" cy="385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4929120" y="4286160"/>
            <a:ext cx="3933720" cy="2305080"/>
          </a:xfrm>
          <a:prstGeom prst="rect">
            <a:avLst/>
          </a:prstGeom>
          <a:ln w="0">
            <a:noFill/>
          </a:ln>
        </p:spPr>
      </p:pic>
      <p:sp>
        <p:nvSpPr>
          <p:cNvPr id="93" name="10 CuadroTexto"/>
          <p:cNvSpPr/>
          <p:nvPr/>
        </p:nvSpPr>
        <p:spPr>
          <a:xfrm>
            <a:off x="4735440" y="1573200"/>
            <a:ext cx="4214880" cy="158580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asta aquí sólo hemos considerado la fuerz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ntegramos a lo largo de la trayectoria ambos lados de la ecuación de Newton. A partir de la aceleración obtenemos ahora un término adicional, que se denomina la </a:t>
            </a:r>
            <a:r>
              <a:rPr b="0" lang="es-MX" sz="1400" spc="-1" strike="noStrike">
                <a:solidFill>
                  <a:srgbClr val="ff0000"/>
                </a:solidFill>
                <a:latin typeface="Verdana"/>
              </a:rPr>
              <a:t>energía cinética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que también depende sólo de los valores en el extremo de la trayectoria  A y B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4"/>
          <a:stretch/>
        </p:blipFill>
        <p:spPr>
          <a:xfrm>
            <a:off x="5524560" y="4219560"/>
            <a:ext cx="1047600" cy="781200"/>
          </a:xfrm>
          <a:prstGeom prst="rect">
            <a:avLst/>
          </a:prstGeom>
          <a:ln w="0">
            <a:noFill/>
          </a:ln>
        </p:spPr>
      </p:pic>
      <p:sp>
        <p:nvSpPr>
          <p:cNvPr id="95" name="12 Llamada ovalada"/>
          <p:cNvSpPr/>
          <p:nvPr/>
        </p:nvSpPr>
        <p:spPr>
          <a:xfrm>
            <a:off x="857160" y="5286240"/>
            <a:ext cx="2286000" cy="1071720"/>
          </a:xfrm>
          <a:prstGeom prst="wedgeEllipseCallout">
            <a:avLst>
              <a:gd name="adj1" fmla="val 153314"/>
              <a:gd name="adj2" fmla="val -11059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mostramos est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 continuación!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414360" y="2567160"/>
            <a:ext cx="3657600" cy="3790800"/>
          </a:xfrm>
          <a:prstGeom prst="rect">
            <a:avLst/>
          </a:prstGeom>
          <a:ln w="0">
            <a:noFill/>
          </a:ln>
        </p:spPr>
      </p:pic>
      <p:sp>
        <p:nvSpPr>
          <p:cNvPr id="102" name="7 CuadroTexto"/>
          <p:cNvSpPr/>
          <p:nvPr/>
        </p:nvSpPr>
        <p:spPr>
          <a:xfrm>
            <a:off x="426600" y="1071720"/>
            <a:ext cx="3766680" cy="140184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Recordemos de cinemática el caso d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celeración constante a</a:t>
            </a:r>
            <a:r>
              <a:rPr b="0" lang="es-MX" sz="1400" spc="-1" strike="noStrike" baseline="-25000">
                <a:solidFill>
                  <a:srgbClr val="0000ff"/>
                </a:solidFill>
                <a:latin typeface="Verdana"/>
              </a:rPr>
              <a:t>y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demos ver del desarrollo que s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compaña, que obtenemos la mism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xpresión que la obtenida con la definició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trabajo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8" name="Picture 7" descr="ATT00289"/>
          <p:cNvPicPr/>
          <p:nvPr/>
        </p:nvPicPr>
        <p:blipFill>
          <a:blip r:embed="rId2"/>
          <a:stretch/>
        </p:blipFill>
        <p:spPr>
          <a:xfrm>
            <a:off x="214200" y="1000080"/>
            <a:ext cx="4170600" cy="5786640"/>
          </a:xfrm>
          <a:prstGeom prst="rect">
            <a:avLst/>
          </a:prstGeom>
          <a:ln w="0">
            <a:noFill/>
          </a:ln>
        </p:spPr>
      </p:pic>
      <p:sp>
        <p:nvSpPr>
          <p:cNvPr id="109" name="7 CuadroTexto"/>
          <p:cNvSpPr/>
          <p:nvPr/>
        </p:nvSpPr>
        <p:spPr>
          <a:xfrm>
            <a:off x="356040" y="1000080"/>
            <a:ext cx="3515400" cy="30708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sarrollemos el caso de la  aceleració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6-14T04:18:03Z</dcterms:modified>
  <cp:revision>71</cp:revision>
  <dc:subject/>
  <dc:title>Introducción a la Física Newtoniana </dc:title>
</cp:coreProperties>
</file>