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63CB-0248-492C-8D7E-61F3CD35B0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C0C5-1CC2-424D-A177-E786A20F66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CA7-44AA-440A-A3B0-59ADAE6C0D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FF6-050C-4D5C-9717-CEE51DF304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19F-A39D-47E7-90B1-962FFA149C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459-E15A-4C15-8B9D-22C9728613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37C-866B-45A0-B895-7A2E11E767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023-73E4-4FED-A8EE-B2488AA93B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9881-97F2-4B9D-9CB2-423DE0672D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846-1F95-40B3-9DC1-858BAE8D48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8595-56E4-408F-BC49-F504713641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451D-37D4-499F-8A3A-65CB85625D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CBD-9DB4-4DE3-BC43-C071A3725C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765-CC82-41D3-85A8-17BFA523E8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5A4C-F205-4EE8-9124-BEE11EBACA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8E5-D32F-46E6-A25E-BF9C21DC36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3C51-CA1B-40A4-81A4-C3BA0D681F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0F18-4F93-4E9D-8E1A-1B0A1A356B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D11-2F1D-43F8-BC68-2575EFE9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2CF-77B0-4F63-9139-9DE10C17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DF5-3E45-46D3-9272-6637A02D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C1F-23DF-4FD7-ABAF-FAD03933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906-2E49-4D47-90FC-6266D59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57C-CB62-4BF2-BE4D-CF340D4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F89-5A93-4F97-9F68-B11C4313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220-E86D-4205-8F1A-EA83F890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363-ECBB-49BF-A8BD-F9F63081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47-F927-4391-8B69-84D779F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78A-5404-4931-8810-9EC49BF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0C9-3AF4-4EF4-8678-CE10826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21E-908E-4D59-87CD-C598A0E0EA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6" descr="ATT00269"/>
          <p:cNvPicPr/>
          <p:nvPr/>
        </p:nvPicPr>
        <p:blipFill>
          <a:blip r:embed="rId2"/>
          <a:stretch/>
        </p:blipFill>
        <p:spPr>
          <a:xfrm>
            <a:off x="214200" y="1170000"/>
            <a:ext cx="40006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8577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7" descr="ATT00291"/>
          <p:cNvPicPr/>
          <p:nvPr/>
        </p:nvPicPr>
        <p:blipFill>
          <a:blip r:embed="rId2"/>
          <a:stretch/>
        </p:blipFill>
        <p:spPr>
          <a:xfrm>
            <a:off x="71280" y="1098720"/>
            <a:ext cx="4462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0 Elipse"/>
          <p:cNvSpPr/>
          <p:nvPr/>
        </p:nvSpPr>
        <p:spPr>
          <a:xfrm>
            <a:off x="3500280" y="4357800"/>
            <a:ext cx="128592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428760" y="1285920"/>
            <a:ext cx="7429320" cy="3260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clusión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E = T + V = Constante a lo largo de la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trayectoria.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on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T = Energía Cinétic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V= Energía Potencial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905040" cy="61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4643280" y="4214880"/>
            <a:ext cx="695520" cy="36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4"/>
          <a:stretch/>
        </p:blipFill>
        <p:spPr>
          <a:xfrm>
            <a:off x="3786120" y="4643280"/>
            <a:ext cx="744480" cy="587520"/>
          </a:xfrm>
          <a:prstGeom prst="rect">
            <a:avLst/>
          </a:prstGeom>
          <a:ln w="0">
            <a:noFill/>
          </a:ln>
        </p:spPr>
      </p:pic>
      <p:cxnSp>
        <p:nvCxnSpPr>
          <p:cNvPr id="131" name="12 Conector recto de flecha"/>
          <p:cNvCxnSpPr/>
          <p:nvPr/>
        </p:nvCxnSpPr>
        <p:spPr>
          <a:xfrm flipV="1">
            <a:off x="4428720" y="371412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14 Conector recto de flecha"/>
          <p:cNvCxnSpPr/>
          <p:nvPr/>
        </p:nvCxnSpPr>
        <p:spPr>
          <a:xfrm flipV="1">
            <a:off x="4500720" y="4395600"/>
            <a:ext cx="1432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16 Conector angular"/>
          <p:cNvCxnSpPr/>
          <p:nvPr/>
        </p:nvCxnSpPr>
        <p:spPr>
          <a:xfrm>
            <a:off x="3000240" y="4500720"/>
            <a:ext cx="858240" cy="35784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4" name="17 CuadroTexto"/>
          <p:cNvSpPr/>
          <p:nvPr/>
        </p:nvSpPr>
        <p:spPr>
          <a:xfrm>
            <a:off x="672480" y="5429160"/>
            <a:ext cx="7582680" cy="9464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hemos considerado acá es la energía mecánica. Esta se conserva sólo si n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y disipación en OTRAS formas de energía, como calor, energía interna (deformación)…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nergía total (mecánica más otras formas) siempre se conserv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ATT00297"/>
          <p:cNvPicPr/>
          <p:nvPr/>
        </p:nvPicPr>
        <p:blipFill>
          <a:blip r:embed="rId2"/>
          <a:stretch/>
        </p:blipFill>
        <p:spPr>
          <a:xfrm>
            <a:off x="214200" y="1000080"/>
            <a:ext cx="41007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6" name="Object 7"/>
          <p:cNvGraphicFramePr/>
          <p:nvPr/>
        </p:nvGraphicFramePr>
        <p:xfrm>
          <a:off x="0" y="981000"/>
          <a:ext cx="450072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450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4857840" y="2857680"/>
            <a:ext cx="4071960" cy="33858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Utilizando la  consistencia de las matemáticas encontramos  una relación extremadamente útil y general: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r>
              <a:rPr b="0" i="1" lang="es-CL" sz="1800" spc="-1" strike="noStrike">
                <a:solidFill>
                  <a:srgbClr val="0066cc"/>
                </a:solidFill>
                <a:latin typeface="Verdana"/>
              </a:rPr>
              <a:t>la conservación de la ene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rgía</a:t>
            </a: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y sus dos componentes: la energía cinética y la energía potencial, cuyo significado físico se puede reconocer intuitivamente sin dificultades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857840" y="18572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Verdana"/>
              </a:rPr>
              <a:t>ENERGÍA EN UN RESORTE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(</a:t>
            </a:r>
            <a:r>
              <a:rPr b="0" lang="es-CL" sz="1200" spc="-1" strike="noStrike">
                <a:solidFill>
                  <a:srgbClr val="0099cc"/>
                </a:solidFill>
                <a:latin typeface="Arial"/>
              </a:rPr>
              <a:t>Ver págs. 220—238, Libro NZ)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250920" y="1071720"/>
          <a:ext cx="41576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71720"/>
                    <a:ext cx="4157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85928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257040" y="1109520"/>
          <a:ext cx="4349880" cy="558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40" y="1109520"/>
                    <a:ext cx="43498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ATT00271"/>
          <p:cNvPicPr/>
          <p:nvPr/>
        </p:nvPicPr>
        <p:blipFill>
          <a:blip r:embed="rId2"/>
          <a:stretch/>
        </p:blipFill>
        <p:spPr>
          <a:xfrm>
            <a:off x="250920" y="1027080"/>
            <a:ext cx="410040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"/>
          <p:cNvGraphicFramePr/>
          <p:nvPr/>
        </p:nvGraphicFramePr>
        <p:xfrm>
          <a:off x="5357880" y="1643040"/>
          <a:ext cx="295272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7880" y="1643040"/>
                    <a:ext cx="2952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8524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6" descr="ATT00275"/>
          <p:cNvPicPr/>
          <p:nvPr/>
        </p:nvPicPr>
        <p:blipFill>
          <a:blip r:embed="rId2"/>
          <a:stretch/>
        </p:blipFill>
        <p:spPr>
          <a:xfrm>
            <a:off x="179280" y="942840"/>
            <a:ext cx="42562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ATT00277"/>
          <p:cNvPicPr/>
          <p:nvPr/>
        </p:nvPicPr>
        <p:blipFill>
          <a:blip r:embed="rId2"/>
          <a:stretch/>
        </p:blipFill>
        <p:spPr>
          <a:xfrm>
            <a:off x="142920" y="1069920"/>
            <a:ext cx="425592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ATT00279"/>
          <p:cNvPicPr/>
          <p:nvPr/>
        </p:nvPicPr>
        <p:blipFill>
          <a:blip r:embed="rId2"/>
          <a:stretch/>
        </p:blipFill>
        <p:spPr>
          <a:xfrm>
            <a:off x="285840" y="1027080"/>
            <a:ext cx="41511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ATT00285"/>
          <p:cNvPicPr/>
          <p:nvPr/>
        </p:nvPicPr>
        <p:blipFill>
          <a:blip r:embed="rId2"/>
          <a:stretch/>
        </p:blipFill>
        <p:spPr>
          <a:xfrm>
            <a:off x="250920" y="107172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57120" y="1071720"/>
            <a:ext cx="4160880" cy="38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93372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10 CuadroTexto"/>
          <p:cNvSpPr/>
          <p:nvPr/>
        </p:nvSpPr>
        <p:spPr>
          <a:xfrm>
            <a:off x="4735440" y="1573200"/>
            <a:ext cx="4214880" cy="1585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sta aquí sólo hemos considerado la fuer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tegramos a lo largo de la trayectoria ambos lados de la ecuación de Newton. A partir de la aceleración obtenemos ahora un término adicional, que se denomina la </a:t>
            </a: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energía cinética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que también depende sólo de los valores en el extremo de la trayectoria  A y B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5524560" y="4219560"/>
            <a:ext cx="1047600" cy="781200"/>
          </a:xfrm>
          <a:prstGeom prst="rect">
            <a:avLst/>
          </a:prstGeom>
          <a:ln w="0">
            <a:noFill/>
          </a:ln>
        </p:spPr>
      </p:pic>
      <p:sp>
        <p:nvSpPr>
          <p:cNvPr id="95" name="12 Llamada ovalada"/>
          <p:cNvSpPr/>
          <p:nvPr/>
        </p:nvSpPr>
        <p:spPr>
          <a:xfrm>
            <a:off x="857160" y="5286240"/>
            <a:ext cx="2286000" cy="1071720"/>
          </a:xfrm>
          <a:prstGeom prst="wedgeEllipseCallout">
            <a:avLst>
              <a:gd name="adj1" fmla="val 153314"/>
              <a:gd name="adj2" fmla="val -110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mostramos es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continuación!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14360" y="2567160"/>
            <a:ext cx="3657600" cy="379080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426600" y="1071720"/>
            <a:ext cx="3766680" cy="14018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cordemos de cinemática el caso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eleración constante a</a:t>
            </a:r>
            <a:r>
              <a:rPr b="0" lang="es-MX" sz="1400" spc="-1" strike="noStrike" baseline="-25000">
                <a:solidFill>
                  <a:srgbClr val="0000ff"/>
                </a:solidFill>
                <a:latin typeface="Verdana"/>
              </a:rPr>
              <a:t>y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ver del desarrollo que s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ompaña, que obtenemos la mis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xpresión que la obtenida con la defini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trabajo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8" name="Picture 7" descr="ATT00289"/>
          <p:cNvPicPr/>
          <p:nvPr/>
        </p:nvPicPr>
        <p:blipFill>
          <a:blip r:embed="rId2"/>
          <a:stretch/>
        </p:blipFill>
        <p:spPr>
          <a:xfrm>
            <a:off x="214200" y="1000080"/>
            <a:ext cx="4170600" cy="5786640"/>
          </a:xfrm>
          <a:prstGeom prst="rect">
            <a:avLst/>
          </a:prstGeom>
          <a:ln w="0">
            <a:noFill/>
          </a:ln>
        </p:spPr>
      </p:pic>
      <p:sp>
        <p:nvSpPr>
          <p:cNvPr id="109" name="7 CuadroTexto"/>
          <p:cNvSpPr/>
          <p:nvPr/>
        </p:nvSpPr>
        <p:spPr>
          <a:xfrm>
            <a:off x="356040" y="1000080"/>
            <a:ext cx="3515400" cy="3070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sarrollemos el caso de la  acelera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14T04:18:03Z</dcterms:modified>
  <cp:revision>71</cp:revision>
  <dc:subject/>
  <dc:title>Introducción a la Física Newtoniana </dc:title>
</cp:coreProperties>
</file>