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68CF-78C1-43CA-B3D6-4E7F6DAE97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E98-7D02-4B3C-A28B-F97AAFF108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5EE-19B4-4239-B7BB-524F8C0A1C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8A4-9294-4B5F-A1E9-C7FA05CC89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AE0-FB22-436E-8A87-A2E58AE9DB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4F9-94C2-4348-8760-3762D1947C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4E9-DD6A-41BE-96C1-9C27F68B9F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949-A2BE-46B9-AC40-57D3395BC7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98E3-1EE4-478E-8471-C6832C6A6B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6077-A721-49F4-BAD8-6834FB6BFD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E0E7-FC1D-418B-8A6B-0540E100EF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385-C096-42D6-980B-9B3D0ACA17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CF9-F181-41BB-8557-B795424B2A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F46A-B243-4EFB-9753-EF7E3098A5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3F2-4038-44F4-930B-577606D260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A8C1-1563-4C8D-82E0-CD77CF99A0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E729-012F-4659-8156-A828F07A80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B55-42C8-4104-828B-D5A7654875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3A5-7B51-4B8F-B497-E1EC6491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9EA-A8FF-4670-9AEC-9F7AA2C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ED7-091B-476A-9693-85432EF4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2E7-B8C7-4BC3-8E73-CA46C964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5FE-F8D1-4236-B87A-7F4BC4FA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204-C5DC-4DCD-9D40-B2058C39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244-70EF-4039-A70D-9CBC540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BBC-2D06-45B7-8B52-F1E3DCE6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F92-33FC-4634-B2D1-8C951C7B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2B0-5959-47CF-841D-85CB546C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6F9-7521-4C00-91CA-EE3CC65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DBD-FB86-471E-A10B-D85F5B10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035-906D-4D67-8064-4B82BFA329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6" descr="ATT00269"/>
          <p:cNvPicPr/>
          <p:nvPr/>
        </p:nvPicPr>
        <p:blipFill>
          <a:blip r:embed="rId2"/>
          <a:stretch/>
        </p:blipFill>
        <p:spPr>
          <a:xfrm>
            <a:off x="214200" y="1170000"/>
            <a:ext cx="400068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38577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7" descr="ATT00291"/>
          <p:cNvPicPr/>
          <p:nvPr/>
        </p:nvPicPr>
        <p:blipFill>
          <a:blip r:embed="rId2"/>
          <a:stretch/>
        </p:blipFill>
        <p:spPr>
          <a:xfrm>
            <a:off x="71280" y="1098720"/>
            <a:ext cx="44625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0 Elipse"/>
          <p:cNvSpPr/>
          <p:nvPr/>
        </p:nvSpPr>
        <p:spPr>
          <a:xfrm>
            <a:off x="3500280" y="4357800"/>
            <a:ext cx="128592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428760" y="1285920"/>
            <a:ext cx="7429320" cy="3260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Conclusión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E = T + V = Constante a lo largo de la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s-MX" sz="3200" spc="-1" strike="noStrike">
                <a:solidFill>
                  <a:srgbClr val="ff0000"/>
                </a:solidFill>
                <a:latin typeface="Comic Sans MS"/>
              </a:rPr>
              <a:t>trayectoria.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Comic Sans MS"/>
              </a:rPr>
              <a:t>Don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T = Energía Cinétic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V= Energía Potencial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905040" cy="61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4643280" y="4214880"/>
            <a:ext cx="695520" cy="36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4"/>
          <a:stretch/>
        </p:blipFill>
        <p:spPr>
          <a:xfrm>
            <a:off x="3786120" y="4643280"/>
            <a:ext cx="744480" cy="587520"/>
          </a:xfrm>
          <a:prstGeom prst="rect">
            <a:avLst/>
          </a:prstGeom>
          <a:ln w="0">
            <a:noFill/>
          </a:ln>
        </p:spPr>
      </p:pic>
      <p:cxnSp>
        <p:nvCxnSpPr>
          <p:cNvPr id="131" name="12 Conector recto de flecha"/>
          <p:cNvCxnSpPr/>
          <p:nvPr/>
        </p:nvCxnSpPr>
        <p:spPr>
          <a:xfrm flipV="1">
            <a:off x="4428720" y="3714120"/>
            <a:ext cx="21492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14 Conector recto de flecha"/>
          <p:cNvCxnSpPr/>
          <p:nvPr/>
        </p:nvCxnSpPr>
        <p:spPr>
          <a:xfrm flipV="1">
            <a:off x="4500720" y="4395600"/>
            <a:ext cx="14328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16 Conector angular"/>
          <p:cNvCxnSpPr/>
          <p:nvPr/>
        </p:nvCxnSpPr>
        <p:spPr>
          <a:xfrm>
            <a:off x="3000240" y="4500720"/>
            <a:ext cx="858240" cy="35784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4" name="17 CuadroTexto"/>
          <p:cNvSpPr/>
          <p:nvPr/>
        </p:nvSpPr>
        <p:spPr>
          <a:xfrm>
            <a:off x="672480" y="5429160"/>
            <a:ext cx="7582680" cy="9464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hemos considerado acá es la energía mecánica. Esta se conserva sólo si n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y disipación en OTRAS formas de energía, como calor, energía interna (deformación)…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energía total (mecánica más otras formas) siempre se conserv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ATT00297"/>
          <p:cNvPicPr/>
          <p:nvPr/>
        </p:nvPicPr>
        <p:blipFill>
          <a:blip r:embed="rId2"/>
          <a:stretch/>
        </p:blipFill>
        <p:spPr>
          <a:xfrm>
            <a:off x="214200" y="1000080"/>
            <a:ext cx="41007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46" name="Object 7"/>
          <p:cNvGraphicFramePr/>
          <p:nvPr/>
        </p:nvGraphicFramePr>
        <p:xfrm>
          <a:off x="0" y="981000"/>
          <a:ext cx="4500720" cy="568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4500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4857840" y="2857680"/>
            <a:ext cx="4071960" cy="338580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Utilizando la  consistencia de las matemáticas encontramos  una relación extremadamente útil y general: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r>
              <a:rPr b="0" i="1" lang="es-CL" sz="1800" spc="-1" strike="noStrike">
                <a:solidFill>
                  <a:srgbClr val="0066cc"/>
                </a:solidFill>
                <a:latin typeface="Verdana"/>
              </a:rPr>
              <a:t>la conservación de la ene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rgía</a:t>
            </a: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9966"/>
                </a:solidFill>
                <a:latin typeface="Verdana"/>
              </a:rPr>
              <a:t>y sus dos componentes: la energía cinética y la energía potencial, cuyo significado físico se puede reconocer intuitivamente sin dificultades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857840" y="18572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Verdana"/>
              </a:rPr>
              <a:t>ENERGÍA EN UN RESORTE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cc"/>
                </a:solidFill>
                <a:latin typeface="Arial"/>
              </a:rPr>
              <a:t>(</a:t>
            </a:r>
            <a:r>
              <a:rPr b="0" lang="es-CL" sz="1200" spc="-1" strike="noStrike">
                <a:solidFill>
                  <a:srgbClr val="0099cc"/>
                </a:solidFill>
                <a:latin typeface="Arial"/>
              </a:rPr>
              <a:t>Ver págs. 220—238, Libro NZ)</a:t>
            </a: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250920" y="1071720"/>
          <a:ext cx="41576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071720"/>
                    <a:ext cx="4157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485928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62" name="Object 8"/>
          <p:cNvGraphicFramePr/>
          <p:nvPr/>
        </p:nvGraphicFramePr>
        <p:xfrm>
          <a:off x="257040" y="1109520"/>
          <a:ext cx="4349880" cy="558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40" y="1109520"/>
                    <a:ext cx="434988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ATT00271"/>
          <p:cNvPicPr/>
          <p:nvPr/>
        </p:nvPicPr>
        <p:blipFill>
          <a:blip r:embed="rId2"/>
          <a:stretch/>
        </p:blipFill>
        <p:spPr>
          <a:xfrm>
            <a:off x="250920" y="1027080"/>
            <a:ext cx="410040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2"/>
          <p:cNvGraphicFramePr/>
          <p:nvPr/>
        </p:nvGraphicFramePr>
        <p:xfrm>
          <a:off x="5357880" y="1643040"/>
          <a:ext cx="2952720" cy="22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7880" y="1643040"/>
                    <a:ext cx="2952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8524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6" descr="ATT00275"/>
          <p:cNvPicPr/>
          <p:nvPr/>
        </p:nvPicPr>
        <p:blipFill>
          <a:blip r:embed="rId2"/>
          <a:stretch/>
        </p:blipFill>
        <p:spPr>
          <a:xfrm>
            <a:off x="179280" y="942840"/>
            <a:ext cx="42562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6" descr="ATT00277"/>
          <p:cNvPicPr/>
          <p:nvPr/>
        </p:nvPicPr>
        <p:blipFill>
          <a:blip r:embed="rId2"/>
          <a:stretch/>
        </p:blipFill>
        <p:spPr>
          <a:xfrm>
            <a:off x="142920" y="1069920"/>
            <a:ext cx="425592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9" name="Picture 6" descr="ATT00279"/>
          <p:cNvPicPr/>
          <p:nvPr/>
        </p:nvPicPr>
        <p:blipFill>
          <a:blip r:embed="rId2"/>
          <a:stretch/>
        </p:blipFill>
        <p:spPr>
          <a:xfrm>
            <a:off x="285840" y="1027080"/>
            <a:ext cx="41511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ATT00285"/>
          <p:cNvPicPr/>
          <p:nvPr/>
        </p:nvPicPr>
        <p:blipFill>
          <a:blip r:embed="rId2"/>
          <a:stretch/>
        </p:blipFill>
        <p:spPr>
          <a:xfrm>
            <a:off x="250920" y="107172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57120" y="1071720"/>
            <a:ext cx="4160880" cy="38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93372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10 CuadroTexto"/>
          <p:cNvSpPr/>
          <p:nvPr/>
        </p:nvSpPr>
        <p:spPr>
          <a:xfrm>
            <a:off x="4735440" y="1573200"/>
            <a:ext cx="4214880" cy="1585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asta aquí sólo hemos considerado la fuer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tegramos a lo largo de la trayectoria ambos lados de la ecuación de Newton. A partir de la aceleración obtenemos ahora un término adicional, que se denomina la </a:t>
            </a: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energía cinética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que también depende sólo de los valores en el extremo de la trayectoria  A y B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5524560" y="4219560"/>
            <a:ext cx="1047600" cy="781200"/>
          </a:xfrm>
          <a:prstGeom prst="rect">
            <a:avLst/>
          </a:prstGeom>
          <a:ln w="0">
            <a:noFill/>
          </a:ln>
        </p:spPr>
      </p:pic>
      <p:sp>
        <p:nvSpPr>
          <p:cNvPr id="95" name="12 Llamada ovalada"/>
          <p:cNvSpPr/>
          <p:nvPr/>
        </p:nvSpPr>
        <p:spPr>
          <a:xfrm>
            <a:off x="857160" y="5286240"/>
            <a:ext cx="2286000" cy="1071720"/>
          </a:xfrm>
          <a:prstGeom prst="wedgeEllipseCallout">
            <a:avLst>
              <a:gd name="adj1" fmla="val 153314"/>
              <a:gd name="adj2" fmla="val -11059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mostramos est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continuación!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414360" y="2567160"/>
            <a:ext cx="3657600" cy="3790800"/>
          </a:xfrm>
          <a:prstGeom prst="rect">
            <a:avLst/>
          </a:prstGeom>
          <a:ln w="0">
            <a:noFill/>
          </a:ln>
        </p:spPr>
      </p:pic>
      <p:sp>
        <p:nvSpPr>
          <p:cNvPr id="102" name="7 CuadroTexto"/>
          <p:cNvSpPr/>
          <p:nvPr/>
        </p:nvSpPr>
        <p:spPr>
          <a:xfrm>
            <a:off x="426600" y="1071720"/>
            <a:ext cx="3766680" cy="14018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Recordemos de cinemática el caso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eleración constante a</a:t>
            </a:r>
            <a:r>
              <a:rPr b="0" lang="es-MX" sz="1400" spc="-1" strike="noStrike" baseline="-25000">
                <a:solidFill>
                  <a:srgbClr val="0000ff"/>
                </a:solidFill>
                <a:latin typeface="Verdana"/>
              </a:rPr>
              <a:t>y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demos ver del desarrollo que s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compaña, que obtenemos la mis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xpresión que la obtenida con la defini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trabajo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8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8" name="Picture 7" descr="ATT00289"/>
          <p:cNvPicPr/>
          <p:nvPr/>
        </p:nvPicPr>
        <p:blipFill>
          <a:blip r:embed="rId2"/>
          <a:stretch/>
        </p:blipFill>
        <p:spPr>
          <a:xfrm>
            <a:off x="214200" y="1000080"/>
            <a:ext cx="4170600" cy="5786640"/>
          </a:xfrm>
          <a:prstGeom prst="rect">
            <a:avLst/>
          </a:prstGeom>
          <a:ln w="0">
            <a:noFill/>
          </a:ln>
        </p:spPr>
      </p:pic>
      <p:sp>
        <p:nvSpPr>
          <p:cNvPr id="109" name="7 CuadroTexto"/>
          <p:cNvSpPr/>
          <p:nvPr/>
        </p:nvSpPr>
        <p:spPr>
          <a:xfrm>
            <a:off x="356040" y="1000080"/>
            <a:ext cx="3515400" cy="3070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sarrollemos el caso de la  acelera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14T04:18:03Z</dcterms:modified>
  <cp:revision>71</cp:revision>
  <dc:subject/>
  <dc:title>Introducción a la Física Newtoniana </dc:title>
</cp:coreProperties>
</file>