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443-CE88-41E4-B394-E87576B8DF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B2D9-34B8-46CA-935B-62042302E4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2D2-AC0B-4F99-87A4-874BE70CCE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F232-717A-42A8-A819-CF77A485B1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9662-CFB4-4B5B-A7D7-C4801E6C4A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5EC-ADA3-4985-ACA0-45BF0CDB34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CA0-4030-4550-AE25-A4A2FB9AE3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6A53-40F5-4831-83B5-C7E2D8D8FD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A93D-F337-4B20-A414-D04513BA12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58E-2354-4FF0-9F3E-10F83F1F3C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FFDD-306F-4B4D-BD12-421EE629B5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526C-B7B8-4C45-9236-A509A889E8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B72-EDBE-401E-9421-4623970921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7F2-18A7-4E08-ABF5-6F6EEB38AD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129-55D3-4781-93D7-50CAA47952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82F-146A-4D16-815A-EE1B2ED2BF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F6C-1F03-4FAA-B76A-A2EFB841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E8C-EE60-48F8-9E45-33E7A64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D75-0F26-467D-8226-EA3573B3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A7B-A692-47D0-BC64-007A9614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968-3172-4D45-80A1-655FCA1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F6F-FBE2-4CEF-B477-B6022101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C9C-86A1-4385-80D0-17F9E3B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6CB-1172-43DF-A347-5742B6E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820-0980-4ADB-8893-88B378C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B46-C210-4CC4-AB07-3183AF7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441-E0B8-41E0-9992-053D073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268-DC36-4C6F-8B60-DA76F0D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AF4-D012-400C-88FA-4CF0E732CC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Clases 2008\resorte con masa on top\NZ079.JPG"/>
          <p:cNvPicPr/>
          <p:nvPr/>
        </p:nvPicPr>
        <p:blipFill>
          <a:blip r:embed="rId2"/>
          <a:stretch/>
        </p:blipFill>
        <p:spPr>
          <a:xfrm>
            <a:off x="357120" y="1000080"/>
            <a:ext cx="40039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C:\Documents and Settings\Nelson Zamorano\Mis documentos\Int. a la Fisica\FI-100-2008\Clases\Clases 2008\resorte con masa on top\NZ094.JPG"/>
          <p:cNvPicPr/>
          <p:nvPr/>
        </p:nvPicPr>
        <p:blipFill>
          <a:blip r:embed="rId2"/>
          <a:stretch/>
        </p:blipFill>
        <p:spPr>
          <a:xfrm>
            <a:off x="71280" y="1076400"/>
            <a:ext cx="45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C:\Documents and Settings\Nelson Zamorano\Mis documentos\Int. a la Fisica\FI-100-2008\Clases\Clases 2008\resorte con masa on top\NZ083.JPG"/>
          <p:cNvPicPr/>
          <p:nvPr/>
        </p:nvPicPr>
        <p:blipFill>
          <a:blip r:embed="rId2"/>
          <a:stretch/>
        </p:blipFill>
        <p:spPr>
          <a:xfrm>
            <a:off x="285840" y="976320"/>
            <a:ext cx="42148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C:\Documents and Settings\Nelson Zamorano\Mis documentos\Int. a la Fisica\FI-100-2008\Clases\Clases 2008\resorte con masa on top\NZ084.JPG"/>
          <p:cNvPicPr/>
          <p:nvPr/>
        </p:nvPicPr>
        <p:blipFill>
          <a:blip r:embed="rId2"/>
          <a:stretch/>
        </p:blipFill>
        <p:spPr>
          <a:xfrm>
            <a:off x="214200" y="1004760"/>
            <a:ext cx="42735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C:\Documents and Settings\Nelson Zamorano\Mis documentos\Int. a la Fisica\FI-100-2008\Clases\Clases 2008\resorte con masa on top\NZ085.JPG"/>
          <p:cNvPicPr/>
          <p:nvPr/>
        </p:nvPicPr>
        <p:blipFill>
          <a:blip r:embed="rId2"/>
          <a:stretch/>
        </p:blipFill>
        <p:spPr>
          <a:xfrm>
            <a:off x="142920" y="1000080"/>
            <a:ext cx="41432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C:\Documents and Settings\Nelson Zamorano\Mis documentos\Int. a la Fisica\FI-100-2008\Clases\Clases 2008\resorte con masa on top\NZ080.JPG"/>
          <p:cNvPicPr/>
          <p:nvPr/>
        </p:nvPicPr>
        <p:blipFill>
          <a:blip r:embed="rId2"/>
          <a:stretch/>
        </p:blipFill>
        <p:spPr>
          <a:xfrm>
            <a:off x="257040" y="101268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C:\Documents and Settings\Nelson Zamorano\Mis documentos\Int. a la Fisica\FI-100-2008\Clases\Clases 2008\resorte con masa on top\NZ081.JPG"/>
          <p:cNvPicPr/>
          <p:nvPr/>
        </p:nvPicPr>
        <p:blipFill>
          <a:blip r:embed="rId2"/>
          <a:stretch/>
        </p:blipFill>
        <p:spPr>
          <a:xfrm>
            <a:off x="71280" y="1014480"/>
            <a:ext cx="4214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C:\Documents and Settings\Nelson Zamorano\Mis documentos\Int. a la Fisica\FI-100-2008\Clases\Clases 2008\resorte con masa on top\NZ082.JPG"/>
          <p:cNvPicPr/>
          <p:nvPr/>
        </p:nvPicPr>
        <p:blipFill>
          <a:blip r:embed="rId2"/>
          <a:stretch/>
        </p:blipFill>
        <p:spPr>
          <a:xfrm>
            <a:off x="214200" y="100008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C:\Documents and Settings\Nelson Zamorano\Mis documentos\Int. a la Fisica\FI-100-2008\Clases\Clases 2008\resorte con masa on top\NZ086.JPG"/>
          <p:cNvPicPr/>
          <p:nvPr/>
        </p:nvPicPr>
        <p:blipFill>
          <a:blip r:embed="rId2"/>
          <a:stretch/>
        </p:blipFill>
        <p:spPr>
          <a:xfrm>
            <a:off x="142920" y="1000080"/>
            <a:ext cx="4282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C:\Documents and Settings\Nelson Zamorano\Mis documentos\Int. a la Fisica\FI-100-2008\Clases\Clases 2008\resorte con masa on top\NZ087.JPG"/>
          <p:cNvPicPr/>
          <p:nvPr/>
        </p:nvPicPr>
        <p:blipFill>
          <a:blip r:embed="rId2"/>
          <a:stretch/>
        </p:blipFill>
        <p:spPr>
          <a:xfrm>
            <a:off x="71280" y="971640"/>
            <a:ext cx="4480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C:\Documents and Settings\Nelson Zamorano\Mis documentos\Int. a la Fisica\FI-100-2008\Clases\Clases 2008\resorte con masa on top\NZ088.JPG"/>
          <p:cNvPicPr/>
          <p:nvPr/>
        </p:nvPicPr>
        <p:blipFill>
          <a:blip r:embed="rId2"/>
          <a:stretch/>
        </p:blipFill>
        <p:spPr>
          <a:xfrm>
            <a:off x="142920" y="992160"/>
            <a:ext cx="43624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C:\Documents and Settings\Nelson Zamorano\Mis documentos\Int. a la Fisica\FI-100-2008\Clases\Clases 2008\resorte con masa on top\NZ089.JPG"/>
          <p:cNvPicPr/>
          <p:nvPr/>
        </p:nvPicPr>
        <p:blipFill>
          <a:blip r:embed="rId2"/>
          <a:stretch/>
        </p:blipFill>
        <p:spPr>
          <a:xfrm>
            <a:off x="71280" y="1076400"/>
            <a:ext cx="4467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C:\Documents and Settings\Nelson Zamorano\Mis documentos\Int. a la Fisica\FI-100-2008\Clases\Clases 2008\resorte con masa on top\NZ090.JPG"/>
          <p:cNvPicPr/>
          <p:nvPr/>
        </p:nvPicPr>
        <p:blipFill>
          <a:blip r:embed="rId2"/>
          <a:stretch/>
        </p:blipFill>
        <p:spPr>
          <a:xfrm>
            <a:off x="112680" y="987480"/>
            <a:ext cx="44719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21:39:23Z</dcterms:modified>
  <cp:revision>61</cp:revision>
  <dc:subject/>
  <dc:title>Introducción a la Física Newtoniana </dc:title>
</cp:coreProperties>
</file>