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5BA1C-E4DD-4AAC-8361-9F91C29EEB2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0B00E-267C-4C1F-AEFD-A6DCC32CD4D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9FD4F-7C67-48E6-8A33-060BBB13EBF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D74A0-492A-4C28-BC24-1CDDBB4AC14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827AD-040F-4667-9006-805FB0BD66F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A5858-F27B-4698-B263-9F7D410701B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A7AE9-E35D-48DA-AEC9-B3F51191015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FE7FB-A0CC-4336-978D-217528F2D0D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72D2C-9CEC-48F8-9B95-BFDAA4C6F15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2FB6F-F067-4FE3-8FBC-932BEEB9C42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651DE-ED37-42B9-B1C8-76BF36CDC4C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36783-F033-471F-9551-B69DB8A15AD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B5E54-C51B-492B-88FA-8663EDDFD6B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8C8F6-87F0-4081-B28F-69424B58133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FC717-49C0-4FCC-8DCA-9786B4BABDD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B0ED8-AB8A-4CDB-9034-206DAAE14AA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329C-5538-446D-946F-1D9167C12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DDEE-A3C1-4223-84E2-66B5F48F1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148C-BF72-4395-9FB5-19E3740B5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9562-561E-40EA-8488-BAE4EE9FD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8422-0E7E-40F0-A518-3DA78A3D2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45DB-F289-4D33-B067-793D3E83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2DE1-69EA-4329-B8B8-94FCC6477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6017-14E8-4451-B093-0A87880D1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84B8-08A8-4515-BB3A-62434945C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AFAB-BC2A-4CF7-9CDD-AA99261C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82EB-E8B2-4586-B95A-999E2B9F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3D75-8E65-44B1-A2AF-4EC68B82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B596E-47F5-4018-966B-4FBED198E6B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0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7643880" y="1357200"/>
            <a:ext cx="1500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7-A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3" name="Picture 2" descr="C:\Documents and Settings\Nelson Zamorano\Mis documentos\Int. a la Fisica\FI-100-2008\Clases\Clases 2008\resorte con masa on top\NZ079.JPG"/>
          <p:cNvPicPr/>
          <p:nvPr/>
        </p:nvPicPr>
        <p:blipFill>
          <a:blip r:embed="rId2"/>
          <a:stretch/>
        </p:blipFill>
        <p:spPr>
          <a:xfrm>
            <a:off x="357120" y="1000080"/>
            <a:ext cx="4003920" cy="55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4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7643880" y="1357200"/>
            <a:ext cx="1500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7-A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7" name="Picture 2" descr="C:\Documents and Settings\Nelson Zamorano\Mis documentos\Int. a la Fisica\FI-100-2008\Clases\Clases 2008\resorte con masa on top\NZ094.JPG"/>
          <p:cNvPicPr/>
          <p:nvPr/>
        </p:nvPicPr>
        <p:blipFill>
          <a:blip r:embed="rId2"/>
          <a:stretch/>
        </p:blipFill>
        <p:spPr>
          <a:xfrm>
            <a:off x="71280" y="1076400"/>
            <a:ext cx="4524480" cy="55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0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7643880" y="1357200"/>
            <a:ext cx="1500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7-A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3" name="Picture 2" descr="C:\Documents and Settings\Nelson Zamorano\Mis documentos\Int. a la Fisica\FI-100-2008\Clases\Clases 2008\resorte con masa on top\NZ083.JPG"/>
          <p:cNvPicPr/>
          <p:nvPr/>
        </p:nvPicPr>
        <p:blipFill>
          <a:blip r:embed="rId2"/>
          <a:stretch/>
        </p:blipFill>
        <p:spPr>
          <a:xfrm>
            <a:off x="285840" y="976320"/>
            <a:ext cx="421488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6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7643880" y="1357200"/>
            <a:ext cx="1500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7-A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9" name="Picture 2" descr="C:\Documents and Settings\Nelson Zamorano\Mis documentos\Int. a la Fisica\FI-100-2008\Clases\Clases 2008\resorte con masa on top\NZ084.JPG"/>
          <p:cNvPicPr/>
          <p:nvPr/>
        </p:nvPicPr>
        <p:blipFill>
          <a:blip r:embed="rId2"/>
          <a:stretch/>
        </p:blipFill>
        <p:spPr>
          <a:xfrm>
            <a:off x="214200" y="1004760"/>
            <a:ext cx="4273560" cy="57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2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7643880" y="1357200"/>
            <a:ext cx="1500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7-A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5" name="Picture 2" descr="C:\Documents and Settings\Nelson Zamorano\Mis documentos\Int. a la Fisica\FI-100-2008\Clases\Clases 2008\resorte con masa on top\NZ085.JPG"/>
          <p:cNvPicPr/>
          <p:nvPr/>
        </p:nvPicPr>
        <p:blipFill>
          <a:blip r:embed="rId2"/>
          <a:stretch/>
        </p:blipFill>
        <p:spPr>
          <a:xfrm>
            <a:off x="142920" y="1000080"/>
            <a:ext cx="414324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8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7643880" y="1357200"/>
            <a:ext cx="1500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7-A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3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34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7643880" y="1357200"/>
            <a:ext cx="1500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7-A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6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7643880" y="1357200"/>
            <a:ext cx="1500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7-A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9" name="Picture 8" descr="C:\Documents and Settings\Nelson Zamorano\Mis documentos\Int. a la Fisica\FI-100-2008\Clases\Clases 2008\resorte con masa on top\NZ080.JPG"/>
          <p:cNvPicPr/>
          <p:nvPr/>
        </p:nvPicPr>
        <p:blipFill>
          <a:blip r:embed="rId2"/>
          <a:stretch/>
        </p:blipFill>
        <p:spPr>
          <a:xfrm>
            <a:off x="257040" y="1012680"/>
            <a:ext cx="42307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2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7643880" y="1357200"/>
            <a:ext cx="1500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7-A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5" name="Picture 2" descr="C:\Documents and Settings\Nelson Zamorano\Mis documentos\Int. a la Fisica\FI-100-2008\Clases\Clases 2008\resorte con masa on top\NZ081.JPG"/>
          <p:cNvPicPr/>
          <p:nvPr/>
        </p:nvPicPr>
        <p:blipFill>
          <a:blip r:embed="rId2"/>
          <a:stretch/>
        </p:blipFill>
        <p:spPr>
          <a:xfrm>
            <a:off x="71280" y="1014480"/>
            <a:ext cx="421488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8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7643880" y="1357200"/>
            <a:ext cx="1500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7-A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1" name="Picture 2" descr="C:\Documents and Settings\Nelson Zamorano\Mis documentos\Int. a la Fisica\FI-100-2008\Clases\Clases 2008\resorte con masa on top\NZ082.JPG"/>
          <p:cNvPicPr/>
          <p:nvPr/>
        </p:nvPicPr>
        <p:blipFill>
          <a:blip r:embed="rId2"/>
          <a:stretch/>
        </p:blipFill>
        <p:spPr>
          <a:xfrm>
            <a:off x="214200" y="1000080"/>
            <a:ext cx="4286520" cy="57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4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7643880" y="1357200"/>
            <a:ext cx="1500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7-A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7" name="Picture 2" descr="C:\Documents and Settings\Nelson Zamorano\Mis documentos\Int. a la Fisica\FI-100-2008\Clases\Clases 2008\resorte con masa on top\NZ086.JPG"/>
          <p:cNvPicPr/>
          <p:nvPr/>
        </p:nvPicPr>
        <p:blipFill>
          <a:blip r:embed="rId2"/>
          <a:stretch/>
        </p:blipFill>
        <p:spPr>
          <a:xfrm>
            <a:off x="142920" y="1000080"/>
            <a:ext cx="428292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0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7643880" y="1357200"/>
            <a:ext cx="1500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7-A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3" name="Picture 2" descr="C:\Documents and Settings\Nelson Zamorano\Mis documentos\Int. a la Fisica\FI-100-2008\Clases\Clases 2008\resorte con masa on top\NZ087.JPG"/>
          <p:cNvPicPr/>
          <p:nvPr/>
        </p:nvPicPr>
        <p:blipFill>
          <a:blip r:embed="rId2"/>
          <a:stretch/>
        </p:blipFill>
        <p:spPr>
          <a:xfrm>
            <a:off x="71280" y="971640"/>
            <a:ext cx="448020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6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7643880" y="1357200"/>
            <a:ext cx="1500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7-A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9" name="Picture 2" descr="C:\Documents and Settings\Nelson Zamorano\Mis documentos\Int. a la Fisica\FI-100-2008\Clases\Clases 2008\resorte con masa on top\NZ088.JPG"/>
          <p:cNvPicPr/>
          <p:nvPr/>
        </p:nvPicPr>
        <p:blipFill>
          <a:blip r:embed="rId2"/>
          <a:stretch/>
        </p:blipFill>
        <p:spPr>
          <a:xfrm>
            <a:off x="142920" y="992160"/>
            <a:ext cx="436248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2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7643880" y="1357200"/>
            <a:ext cx="1500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7-A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5" name="Picture 2" descr="C:\Documents and Settings\Nelson Zamorano\Mis documentos\Int. a la Fisica\FI-100-2008\Clases\Clases 2008\resorte con masa on top\NZ089.JPG"/>
          <p:cNvPicPr/>
          <p:nvPr/>
        </p:nvPicPr>
        <p:blipFill>
          <a:blip r:embed="rId2"/>
          <a:stretch/>
        </p:blipFill>
        <p:spPr>
          <a:xfrm>
            <a:off x="71280" y="1076400"/>
            <a:ext cx="44672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8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7643880" y="1357200"/>
            <a:ext cx="1500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7-A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1" name="Picture 2" descr="C:\Documents and Settings\Nelson Zamorano\Mis documentos\Int. a la Fisica\FI-100-2008\Clases\Clases 2008\resorte con masa on top\NZ090.JPG"/>
          <p:cNvPicPr/>
          <p:nvPr/>
        </p:nvPicPr>
        <p:blipFill>
          <a:blip r:embed="rId2"/>
          <a:stretch/>
        </p:blipFill>
        <p:spPr>
          <a:xfrm>
            <a:off x="112680" y="987480"/>
            <a:ext cx="4471920" cy="56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5:28:41Z</dcterms:created>
  <dc:creator> </dc:creator>
  <dc:description/>
  <dc:language>en-US</dc:language>
  <cp:lastModifiedBy>Nelson Zamorano</cp:lastModifiedBy>
  <dcterms:modified xsi:type="dcterms:W3CDTF">2010-06-11T21:39:23Z</dcterms:modified>
  <cp:revision>61</cp:revision>
  <dc:subject/>
  <dc:title>Introducción a la Física Newtoniana </dc:title>
</cp:coreProperties>
</file>