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77BA-7366-4142-8742-AEBC261B06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2685-A57B-4126-BCEE-DB58627029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ACC1-4CFB-4825-8E23-46826453692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F741-E616-460B-A30A-DFD0D6770F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C3D0-B29A-46D2-AE4B-65AA325DD7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ED2F-1663-43BD-A70C-43A8FC4E5F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D99F-3777-4013-8B16-2842ACC82D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3A01-1A91-4B3A-BB74-0582F70CF9D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530E-8710-41C2-9CC4-049626BAB7B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5A2F-4FDE-4649-A598-3A1B9680D6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C0E4-7F0A-4117-AEFA-06634531AC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8B2C-9F36-4ED9-BEC5-85E299C977A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261C-F560-4FB0-999A-7FBA6D0BBB2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6B8E-C742-4D7C-96C4-454F902857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E55F-9A97-4432-84D7-2C09302A6C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B03F-3C5E-4831-9559-6FC0A07B72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54C3-32BC-4E97-910C-0BE93C86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CEA-095A-4646-BA15-98AE0623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331B-A630-4BEE-A113-2F1FE05C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9DA-4520-43E0-BDC7-4CEF31BA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9584-9D2B-43B4-A8D1-4EDD5BF0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C4C-953F-409E-8A27-211FD013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EA03-8485-461F-A49C-C17A5E8E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70E-6432-4E84-9C24-F4929239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26A-F2AF-4C2F-B4D3-6F1A21B7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905B-4B0E-4EFA-B52B-D42FD769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F6BF-DCE5-4E39-A50A-236A4882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F53-5CE0-4F7C-BC54-FD2D5548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3559-ADE6-44B3-B8E2-E51FDBECBF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2" descr="C:\Documents and Settings\Nelson Zamorano\Mis documentos\Int. a la Fisica\FI-100-2008\Clases\Clases 2008\resorte con masa on top\NZ079.JPG"/>
          <p:cNvPicPr/>
          <p:nvPr/>
        </p:nvPicPr>
        <p:blipFill>
          <a:blip r:embed="rId2"/>
          <a:stretch/>
        </p:blipFill>
        <p:spPr>
          <a:xfrm>
            <a:off x="357120" y="1000080"/>
            <a:ext cx="400392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2" descr="C:\Documents and Settings\Nelson Zamorano\Mis documentos\Int. a la Fisica\FI-100-2008\Clases\Clases 2008\resorte con masa on top\NZ094.JPG"/>
          <p:cNvPicPr/>
          <p:nvPr/>
        </p:nvPicPr>
        <p:blipFill>
          <a:blip r:embed="rId2"/>
          <a:stretch/>
        </p:blipFill>
        <p:spPr>
          <a:xfrm>
            <a:off x="71280" y="1076400"/>
            <a:ext cx="45244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2" descr="C:\Documents and Settings\Nelson Zamorano\Mis documentos\Int. a la Fisica\FI-100-2008\Clases\Clases 2008\resorte con masa on top\NZ083.JPG"/>
          <p:cNvPicPr/>
          <p:nvPr/>
        </p:nvPicPr>
        <p:blipFill>
          <a:blip r:embed="rId2"/>
          <a:stretch/>
        </p:blipFill>
        <p:spPr>
          <a:xfrm>
            <a:off x="285840" y="976320"/>
            <a:ext cx="42148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2" descr="C:\Documents and Settings\Nelson Zamorano\Mis documentos\Int. a la Fisica\FI-100-2008\Clases\Clases 2008\resorte con masa on top\NZ084.JPG"/>
          <p:cNvPicPr/>
          <p:nvPr/>
        </p:nvPicPr>
        <p:blipFill>
          <a:blip r:embed="rId2"/>
          <a:stretch/>
        </p:blipFill>
        <p:spPr>
          <a:xfrm>
            <a:off x="214200" y="1004760"/>
            <a:ext cx="427356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2" descr="C:\Documents and Settings\Nelson Zamorano\Mis documentos\Int. a la Fisica\FI-100-2008\Clases\Clases 2008\resorte con masa on top\NZ085.JPG"/>
          <p:cNvPicPr/>
          <p:nvPr/>
        </p:nvPicPr>
        <p:blipFill>
          <a:blip r:embed="rId2"/>
          <a:stretch/>
        </p:blipFill>
        <p:spPr>
          <a:xfrm>
            <a:off x="142920" y="1000080"/>
            <a:ext cx="414324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8" descr="C:\Documents and Settings\Nelson Zamorano\Mis documentos\Int. a la Fisica\FI-100-2008\Clases\Clases 2008\resorte con masa on top\NZ080.JPG"/>
          <p:cNvPicPr/>
          <p:nvPr/>
        </p:nvPicPr>
        <p:blipFill>
          <a:blip r:embed="rId2"/>
          <a:stretch/>
        </p:blipFill>
        <p:spPr>
          <a:xfrm>
            <a:off x="257040" y="1012680"/>
            <a:ext cx="4230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2" descr="C:\Documents and Settings\Nelson Zamorano\Mis documentos\Int. a la Fisica\FI-100-2008\Clases\Clases 2008\resorte con masa on top\NZ081.JPG"/>
          <p:cNvPicPr/>
          <p:nvPr/>
        </p:nvPicPr>
        <p:blipFill>
          <a:blip r:embed="rId2"/>
          <a:stretch/>
        </p:blipFill>
        <p:spPr>
          <a:xfrm>
            <a:off x="71280" y="1014480"/>
            <a:ext cx="42148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2" descr="C:\Documents and Settings\Nelson Zamorano\Mis documentos\Int. a la Fisica\FI-100-2008\Clases\Clases 2008\resorte con masa on top\NZ082.JPG"/>
          <p:cNvPicPr/>
          <p:nvPr/>
        </p:nvPicPr>
        <p:blipFill>
          <a:blip r:embed="rId2"/>
          <a:stretch/>
        </p:blipFill>
        <p:spPr>
          <a:xfrm>
            <a:off x="214200" y="1000080"/>
            <a:ext cx="42865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2" descr="C:\Documents and Settings\Nelson Zamorano\Mis documentos\Int. a la Fisica\FI-100-2008\Clases\Clases 2008\resorte con masa on top\NZ086.JPG"/>
          <p:cNvPicPr/>
          <p:nvPr/>
        </p:nvPicPr>
        <p:blipFill>
          <a:blip r:embed="rId2"/>
          <a:stretch/>
        </p:blipFill>
        <p:spPr>
          <a:xfrm>
            <a:off x="142920" y="1000080"/>
            <a:ext cx="42829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2" descr="C:\Documents and Settings\Nelson Zamorano\Mis documentos\Int. a la Fisica\FI-100-2008\Clases\Clases 2008\resorte con masa on top\NZ087.JPG"/>
          <p:cNvPicPr/>
          <p:nvPr/>
        </p:nvPicPr>
        <p:blipFill>
          <a:blip r:embed="rId2"/>
          <a:stretch/>
        </p:blipFill>
        <p:spPr>
          <a:xfrm>
            <a:off x="71280" y="971640"/>
            <a:ext cx="44802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2" descr="C:\Documents and Settings\Nelson Zamorano\Mis documentos\Int. a la Fisica\FI-100-2008\Clases\Clases 2008\resorte con masa on top\NZ088.JPG"/>
          <p:cNvPicPr/>
          <p:nvPr/>
        </p:nvPicPr>
        <p:blipFill>
          <a:blip r:embed="rId2"/>
          <a:stretch/>
        </p:blipFill>
        <p:spPr>
          <a:xfrm>
            <a:off x="142920" y="992160"/>
            <a:ext cx="43624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2" descr="C:\Documents and Settings\Nelson Zamorano\Mis documentos\Int. a la Fisica\FI-100-2008\Clases\Clases 2008\resorte con masa on top\NZ089.JPG"/>
          <p:cNvPicPr/>
          <p:nvPr/>
        </p:nvPicPr>
        <p:blipFill>
          <a:blip r:embed="rId2"/>
          <a:stretch/>
        </p:blipFill>
        <p:spPr>
          <a:xfrm>
            <a:off x="71280" y="1076400"/>
            <a:ext cx="44672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643880" y="1357200"/>
            <a:ext cx="1500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7-A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2" descr="C:\Documents and Settings\Nelson Zamorano\Mis documentos\Int. a la Fisica\FI-100-2008\Clases\Clases 2008\resorte con masa on top\NZ090.JPG"/>
          <p:cNvPicPr/>
          <p:nvPr/>
        </p:nvPicPr>
        <p:blipFill>
          <a:blip r:embed="rId2"/>
          <a:stretch/>
        </p:blipFill>
        <p:spPr>
          <a:xfrm>
            <a:off x="112680" y="987480"/>
            <a:ext cx="447192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11T21:39:23Z</dcterms:modified>
  <cp:revision>61</cp:revision>
  <dc:subject/>
  <dc:title>Introducción a la Física Newtoniana </dc:title>
</cp:coreProperties>
</file>