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7BA5-7B10-4525-9CD9-A93A968F080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841A-0A06-40A0-98F4-BBCD48E2115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0270-527B-4F51-A9E4-00AF27C82A9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327D-7874-4EF5-8189-5BE4BFB7EFF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EB41-E071-4081-B2D7-12DDC1B2616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E60B-EB54-4B40-9C0A-21652812B32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A6BF-3D4B-4D27-B113-FEE03CB7356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8B98-FF3F-4F51-AE52-0275D7E6CBF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E466-F01B-4AC3-92C0-3FFB6894FB7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1728-3174-4B55-B56B-2B30B29F7EE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A429-3927-4B8B-BDF1-F82B6AE038F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C76A-96FF-46B0-BB7E-AE999F78B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C88B-3712-4F06-A0BD-67267A52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1096-8039-4513-B862-55DEF7AEF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FC17-FEBA-49AA-A9DF-30C57953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D3D0-FF1F-4C56-9BB9-0C7D18AA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00BF-09D2-4F3A-ACC3-2B2C2B95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13DA-2D77-461B-899A-C719AE5A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8938-157A-4B31-9F39-EED2645B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AE28-5643-4E85-802E-343E0F08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4C4C-9BBF-41BD-817D-D20776E9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2126-8FBF-42C0-801B-993B67FA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47F1-1AE5-4C22-BB4E-00E896B5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E69D-501D-4FC5-8F84-E869CBD2FD8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3" name="Picture 2" descr="C:\Documents and Settings\Nelson Zamorano\Mis documentos\Int. a la Fisica\FI-100-2008\Clases\Resortes con dos masas\NZ095.JPG"/>
          <p:cNvPicPr/>
          <p:nvPr/>
        </p:nvPicPr>
        <p:blipFill>
          <a:blip r:embed="rId2"/>
          <a:stretch/>
        </p:blipFill>
        <p:spPr>
          <a:xfrm>
            <a:off x="285840" y="1000080"/>
            <a:ext cx="41385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9" name="Picture 4" descr="NZ096"/>
          <p:cNvPicPr/>
          <p:nvPr/>
        </p:nvPicPr>
        <p:blipFill>
          <a:blip r:embed="rId2"/>
          <a:stretch/>
        </p:blipFill>
        <p:spPr>
          <a:xfrm>
            <a:off x="500040" y="1214280"/>
            <a:ext cx="3792600" cy="5286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0" name="Freeform 5"/>
          <p:cNvSpPr/>
          <p:nvPr/>
        </p:nvSpPr>
        <p:spPr>
          <a:xfrm>
            <a:off x="833400" y="3298680"/>
            <a:ext cx="523800" cy="16560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1" name="Freeform 8"/>
          <p:cNvSpPr/>
          <p:nvPr/>
        </p:nvSpPr>
        <p:spPr>
          <a:xfrm>
            <a:off x="976320" y="3173400"/>
            <a:ext cx="250920" cy="1573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2" name="Freeform 11"/>
          <p:cNvSpPr/>
          <p:nvPr/>
        </p:nvSpPr>
        <p:spPr>
          <a:xfrm>
            <a:off x="628560" y="3070080"/>
            <a:ext cx="1069920" cy="3034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5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8" name="Picture 2" descr="C:\Documents and Settings\Nelson Zamorano\Mis documentos\Int. a la Fisica\FI-100-2008\Clases\Resortes con dos masas\NZ097.JPG"/>
          <p:cNvPicPr/>
          <p:nvPr/>
        </p:nvPicPr>
        <p:blipFill>
          <a:blip r:embed="rId2"/>
          <a:stretch/>
        </p:blipFill>
        <p:spPr>
          <a:xfrm>
            <a:off x="357120" y="1143000"/>
            <a:ext cx="406260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1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4" name="Picture 2" descr="C:\Documents and Settings\Nelson Zamorano\Mis documentos\Int. a la Fisica\FI-100-2008\Clases\Resortes con dos masas\NZ098.JPG"/>
          <p:cNvPicPr/>
          <p:nvPr/>
        </p:nvPicPr>
        <p:blipFill>
          <a:blip r:embed="rId2"/>
          <a:stretch/>
        </p:blipFill>
        <p:spPr>
          <a:xfrm>
            <a:off x="214200" y="1214280"/>
            <a:ext cx="407664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7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0" name="Picture 2" descr="C:\Documents and Settings\Nelson Zamorano\Mis documentos\Int. a la Fisica\FI-100-2008\Clases\Resortes con dos masas\NZ099.JPG"/>
          <p:cNvPicPr/>
          <p:nvPr/>
        </p:nvPicPr>
        <p:blipFill>
          <a:blip r:embed="rId2"/>
          <a:stretch/>
        </p:blipFill>
        <p:spPr>
          <a:xfrm>
            <a:off x="355680" y="1000080"/>
            <a:ext cx="420048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3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6" name="Picture 2" descr="C:\Documents and Settings\Nelson Zamorano\Mis documentos\Int. a la Fisica\FI-100-2008\Clases\Resortes con dos masas\NZ100.JPG"/>
          <p:cNvPicPr/>
          <p:nvPr/>
        </p:nvPicPr>
        <p:blipFill>
          <a:blip r:embed="rId2"/>
          <a:stretch/>
        </p:blipFill>
        <p:spPr>
          <a:xfrm>
            <a:off x="214200" y="1238400"/>
            <a:ext cx="4214880" cy="54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9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2" name="Picture 2" descr="C:\Documents and Settings\Nelson Zamorano\Mis documentos\Int. a la Fisica\FI-100-2008\Clases\Resortes con dos masas\NZ101.JPG"/>
          <p:cNvPicPr/>
          <p:nvPr/>
        </p:nvPicPr>
        <p:blipFill>
          <a:blip r:embed="rId2"/>
          <a:stretch/>
        </p:blipFill>
        <p:spPr>
          <a:xfrm>
            <a:off x="428760" y="1071720"/>
            <a:ext cx="3867120" cy="51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8" name="Picture 4" descr="clase 15e"/>
          <p:cNvPicPr/>
          <p:nvPr/>
        </p:nvPicPr>
        <p:blipFill>
          <a:blip r:embed="rId2"/>
          <a:stretch/>
        </p:blipFill>
        <p:spPr>
          <a:xfrm>
            <a:off x="214200" y="1071720"/>
            <a:ext cx="428652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1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6-11T01:53:52Z</dcterms:modified>
  <cp:revision>58</cp:revision>
  <dc:subject/>
  <dc:title>Introducción a la Física Newtoniana </dc:title>
</cp:coreProperties>
</file>