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49C2-354C-4065-A81E-27103B4D45B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BD06-B1C5-48DD-8137-88B2895779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C8E3-1C27-439E-B51A-2B56B9B2ED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E924-A835-469B-A6B6-D7B25FF3C5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DD0B-1705-438C-AEB5-6B773EEF67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9CAF-3A9D-493A-8283-EF6BF770F5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5540-95E3-49CF-8A0F-3D969487A1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1D3A-C099-4152-917A-A4FB211945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CC0B-9794-4D0A-9991-0B9D09BF8B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6BCA-2191-427B-A034-A2886D60D7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EE3A-6035-41C9-B773-46FB62AC891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CB2-DC65-4B17-BB9C-52241DC6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9226-D034-4969-B16C-74903A8C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751-7A89-4CDE-8A0F-4F357200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F747-7B33-46CD-B38D-CEA07C16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E4C-6335-49E6-BCE2-9EC42F73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71C-33F3-4E49-BD77-BCC6BD87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CA2-1B54-4352-A761-4202BD65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DED-7A2C-4EDE-91B9-A812259D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E80A-9B21-41A7-8406-2C7634DD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29D-90BF-4CB5-8DBD-BE4BCA3F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6BD-C8E6-444D-96DA-C23D7493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883-FD3E-4941-A1CB-33E1D85A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8030-0C16-442C-9FDB-61D517772A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2" descr="C:\Documents and Settings\Nelson Zamorano\Mis documentos\Int. a la Fisica\FI-100-2008\Clases\Resortes con dos masas\NZ095.JPG"/>
          <p:cNvPicPr/>
          <p:nvPr/>
        </p:nvPicPr>
        <p:blipFill>
          <a:blip r:embed="rId2"/>
          <a:stretch/>
        </p:blipFill>
        <p:spPr>
          <a:xfrm>
            <a:off x="285840" y="1000080"/>
            <a:ext cx="41385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4" descr="NZ096"/>
          <p:cNvPicPr/>
          <p:nvPr/>
        </p:nvPicPr>
        <p:blipFill>
          <a:blip r:embed="rId2"/>
          <a:stretch/>
        </p:blipFill>
        <p:spPr>
          <a:xfrm>
            <a:off x="500040" y="1214280"/>
            <a:ext cx="3792600" cy="5286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0" name="Freeform 5"/>
          <p:cNvSpPr/>
          <p:nvPr/>
        </p:nvSpPr>
        <p:spPr>
          <a:xfrm>
            <a:off x="833400" y="3298680"/>
            <a:ext cx="523800" cy="165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1" name="Freeform 8"/>
          <p:cNvSpPr/>
          <p:nvPr/>
        </p:nvSpPr>
        <p:spPr>
          <a:xfrm>
            <a:off x="976320" y="3173400"/>
            <a:ext cx="250920" cy="157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Freeform 11"/>
          <p:cNvSpPr/>
          <p:nvPr/>
        </p:nvSpPr>
        <p:spPr>
          <a:xfrm>
            <a:off x="628560" y="3070080"/>
            <a:ext cx="1069920" cy="303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2" descr="C:\Documents and Settings\Nelson Zamorano\Mis documentos\Int. a la Fisica\FI-100-2008\Clases\Resortes con dos masas\NZ097.JPG"/>
          <p:cNvPicPr/>
          <p:nvPr/>
        </p:nvPicPr>
        <p:blipFill>
          <a:blip r:embed="rId2"/>
          <a:stretch/>
        </p:blipFill>
        <p:spPr>
          <a:xfrm>
            <a:off x="357120" y="1143000"/>
            <a:ext cx="40626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2" descr="C:\Documents and Settings\Nelson Zamorano\Mis documentos\Int. a la Fisica\FI-100-2008\Clases\Resortes con dos masas\NZ098.JPG"/>
          <p:cNvPicPr/>
          <p:nvPr/>
        </p:nvPicPr>
        <p:blipFill>
          <a:blip r:embed="rId2"/>
          <a:stretch/>
        </p:blipFill>
        <p:spPr>
          <a:xfrm>
            <a:off x="214200" y="1214280"/>
            <a:ext cx="407664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2" descr="C:\Documents and Settings\Nelson Zamorano\Mis documentos\Int. a la Fisica\FI-100-2008\Clases\Resortes con dos masas\NZ099.JPG"/>
          <p:cNvPicPr/>
          <p:nvPr/>
        </p:nvPicPr>
        <p:blipFill>
          <a:blip r:embed="rId2"/>
          <a:stretch/>
        </p:blipFill>
        <p:spPr>
          <a:xfrm>
            <a:off x="355680" y="1000080"/>
            <a:ext cx="420048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2" descr="C:\Documents and Settings\Nelson Zamorano\Mis documentos\Int. a la Fisica\FI-100-2008\Clases\Resortes con dos masas\NZ100.JPG"/>
          <p:cNvPicPr/>
          <p:nvPr/>
        </p:nvPicPr>
        <p:blipFill>
          <a:blip r:embed="rId2"/>
          <a:stretch/>
        </p:blipFill>
        <p:spPr>
          <a:xfrm>
            <a:off x="214200" y="1238400"/>
            <a:ext cx="421488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2" name="Picture 2" descr="C:\Documents and Settings\Nelson Zamorano\Mis documentos\Int. a la Fisica\FI-100-2008\Clases\Resortes con dos masas\NZ101.JPG"/>
          <p:cNvPicPr/>
          <p:nvPr/>
        </p:nvPicPr>
        <p:blipFill>
          <a:blip r:embed="rId2"/>
          <a:stretch/>
        </p:blipFill>
        <p:spPr>
          <a:xfrm>
            <a:off x="428760" y="1071720"/>
            <a:ext cx="386712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8" name="Picture 4" descr="clase 15e"/>
          <p:cNvPicPr/>
          <p:nvPr/>
        </p:nvPicPr>
        <p:blipFill>
          <a:blip r:embed="rId2"/>
          <a:stretch/>
        </p:blipFill>
        <p:spPr>
          <a:xfrm>
            <a:off x="214200" y="1071720"/>
            <a:ext cx="42865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11T01:53:52Z</dcterms:modified>
  <cp:revision>58</cp:revision>
  <dc:subject/>
  <dc:title>Introducción a la Física Newtoniana </dc:title>
</cp:coreProperties>
</file>