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3487-623C-42CE-8F96-BD87C3D060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E376-F812-43D1-89E6-3DC6CDD1EF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C045-2D09-4E40-B15C-011826DDE9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19DF-4A2E-4D4C-B6FF-BF93D6B9DF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B14F-873E-4226-9CB2-33B3A27216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B89E-1E92-40B8-991D-289A7C43EC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52FC-430A-4085-8D98-7AC9DD0036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EE9A-2D37-4145-8465-7C5A8908C0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E5D1-DEDA-4526-8EB6-E2385C9B60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F161-92AD-4803-A96D-76DBDAD82B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2B58-E307-4523-A538-B6C8042404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1BA-8703-48E1-8E7F-EFED4582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8F5-F856-4F27-8954-EA1D58AA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4D4-480B-45E1-961E-6BA27A32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60E-F3B5-4FDD-8202-BFD5DF5C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1F6-857A-4BCD-A9BC-CFC6860A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9EB-0D50-4A29-92E1-EF5781B2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181-FF70-428A-9648-605283F9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961-C335-4496-910F-9DC0FAA0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25A-B108-4715-8926-A702D77F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9CB-75AA-4F8C-BB31-F86FE970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8BF-39BD-434D-8BCA-35965E17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749-4283-4F6D-9F79-A85904E4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352E-779A-4561-BD27-DAE8C4A139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" descr="C:\Documents and Settings\Nelson Zamorano\Mis documentos\Int. a la Fisica\FI-100-2008\Clases\Resortes con dos masas\NZ095.JPG"/>
          <p:cNvPicPr/>
          <p:nvPr/>
        </p:nvPicPr>
        <p:blipFill>
          <a:blip r:embed="rId2"/>
          <a:stretch/>
        </p:blipFill>
        <p:spPr>
          <a:xfrm>
            <a:off x="285840" y="1000080"/>
            <a:ext cx="4138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4" descr="NZ096"/>
          <p:cNvPicPr/>
          <p:nvPr/>
        </p:nvPicPr>
        <p:blipFill>
          <a:blip r:embed="rId2"/>
          <a:stretch/>
        </p:blipFill>
        <p:spPr>
          <a:xfrm>
            <a:off x="500040" y="1214280"/>
            <a:ext cx="3792600" cy="5286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" name="Freeform 5"/>
          <p:cNvSpPr/>
          <p:nvPr/>
        </p:nvSpPr>
        <p:spPr>
          <a:xfrm>
            <a:off x="833400" y="3298680"/>
            <a:ext cx="523800" cy="165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Freeform 8"/>
          <p:cNvSpPr/>
          <p:nvPr/>
        </p:nvSpPr>
        <p:spPr>
          <a:xfrm>
            <a:off x="976320" y="3173400"/>
            <a:ext cx="250920" cy="157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628560" y="3070080"/>
            <a:ext cx="1069920" cy="303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2" descr="C:\Documents and Settings\Nelson Zamorano\Mis documentos\Int. a la Fisica\FI-100-2008\Clases\Resortes con dos masas\NZ097.JPG"/>
          <p:cNvPicPr/>
          <p:nvPr/>
        </p:nvPicPr>
        <p:blipFill>
          <a:blip r:embed="rId2"/>
          <a:stretch/>
        </p:blipFill>
        <p:spPr>
          <a:xfrm>
            <a:off x="357120" y="1143000"/>
            <a:ext cx="40626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2" descr="C:\Documents and Settings\Nelson Zamorano\Mis documentos\Int. a la Fisica\FI-100-2008\Clases\Resortes con dos masas\NZ098.JPG"/>
          <p:cNvPicPr/>
          <p:nvPr/>
        </p:nvPicPr>
        <p:blipFill>
          <a:blip r:embed="rId2"/>
          <a:stretch/>
        </p:blipFill>
        <p:spPr>
          <a:xfrm>
            <a:off x="214200" y="1214280"/>
            <a:ext cx="40766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2" descr="C:\Documents and Settings\Nelson Zamorano\Mis documentos\Int. a la Fisica\FI-100-2008\Clases\Resortes con dos masas\NZ099.JPG"/>
          <p:cNvPicPr/>
          <p:nvPr/>
        </p:nvPicPr>
        <p:blipFill>
          <a:blip r:embed="rId2"/>
          <a:stretch/>
        </p:blipFill>
        <p:spPr>
          <a:xfrm>
            <a:off x="355680" y="1000080"/>
            <a:ext cx="42004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2" descr="C:\Documents and Settings\Nelson Zamorano\Mis documentos\Int. a la Fisica\FI-100-2008\Clases\Resortes con dos masas\NZ100.JPG"/>
          <p:cNvPicPr/>
          <p:nvPr/>
        </p:nvPicPr>
        <p:blipFill>
          <a:blip r:embed="rId2"/>
          <a:stretch/>
        </p:blipFill>
        <p:spPr>
          <a:xfrm>
            <a:off x="214200" y="1238400"/>
            <a:ext cx="421488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2" descr="C:\Documents and Settings\Nelson Zamorano\Mis documentos\Int. a la Fisica\FI-100-2008\Clases\Resortes con dos masas\NZ101.JPG"/>
          <p:cNvPicPr/>
          <p:nvPr/>
        </p:nvPicPr>
        <p:blipFill>
          <a:blip r:embed="rId2"/>
          <a:stretch/>
        </p:blipFill>
        <p:spPr>
          <a:xfrm>
            <a:off x="428760" y="1071720"/>
            <a:ext cx="38671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4" descr="clase 15e"/>
          <p:cNvPicPr/>
          <p:nvPr/>
        </p:nvPicPr>
        <p:blipFill>
          <a:blip r:embed="rId2"/>
          <a:stretch/>
        </p:blipFill>
        <p:spPr>
          <a:xfrm>
            <a:off x="214200" y="1071720"/>
            <a:ext cx="42865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1T01:53:52Z</dcterms:modified>
  <cp:revision>58</cp:revision>
  <dc:subject/>
  <dc:title>Introducción a la Física Newtoniana </dc:title>
</cp:coreProperties>
</file>