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6E8A-3E44-4784-9BE5-964AD03A44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21B3-5223-4483-925C-33FE922951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419-609A-41EB-96C9-6949A21DF0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C1C-6EBF-4DCB-B06B-63EEE9617E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FB3D-9CF3-430B-A5BB-C5A71F66F3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32A-B14F-426E-AEF9-F80A7BBD5D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7978-FCB1-4BE9-B47A-4A50EC6DEC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1A88-1E88-4CE2-A8E8-B0AFC1B3B1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34E5-2394-41E8-979B-49F2E01EFA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777-D8C1-4A7D-AA4A-48721CDF8E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2CD-9E6B-4ADC-9B06-96730CE42F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B2E-E4E6-4B39-91C1-261405C4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A70-6EDA-4144-AD01-37A0BF2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BA9-7D36-49D3-8728-CF6E42F9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4A3-8B1B-4A85-A3A3-DD2D77CB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43C-2844-4CF8-ACFB-DCCE6CA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339-9200-441A-8FA9-6B5BFCA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313-FC3B-47BE-9B3B-3FD7BF3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186-99BB-49D6-9231-618611D9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474-D4EC-42F9-BB75-197D3D99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255-081B-4E2A-B4E8-4F771EC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7AC-2787-43A9-AB7E-EE13183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6A1-1A6B-4951-B636-3089641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DB0D-D6E2-4920-A98A-F20C5D64D3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Resortes con dos masas\NZ095.JPG"/>
          <p:cNvPicPr/>
          <p:nvPr/>
        </p:nvPicPr>
        <p:blipFill>
          <a:blip r:embed="rId2"/>
          <a:stretch/>
        </p:blipFill>
        <p:spPr>
          <a:xfrm>
            <a:off x="285840" y="1000080"/>
            <a:ext cx="4138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4" descr="NZ096"/>
          <p:cNvPicPr/>
          <p:nvPr/>
        </p:nvPicPr>
        <p:blipFill>
          <a:blip r:embed="rId2"/>
          <a:stretch/>
        </p:blipFill>
        <p:spPr>
          <a:xfrm>
            <a:off x="500040" y="1214280"/>
            <a:ext cx="3792600" cy="5286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Freeform 5"/>
          <p:cNvSpPr/>
          <p:nvPr/>
        </p:nvSpPr>
        <p:spPr>
          <a:xfrm>
            <a:off x="833400" y="3298680"/>
            <a:ext cx="523800" cy="165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976320" y="3173400"/>
            <a:ext cx="250920" cy="157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628560" y="3070080"/>
            <a:ext cx="1069920" cy="303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" descr="C:\Documents and Settings\Nelson Zamorano\Mis documentos\Int. a la Fisica\FI-100-2008\Clases\Resortes con dos masas\NZ097.JPG"/>
          <p:cNvPicPr/>
          <p:nvPr/>
        </p:nvPicPr>
        <p:blipFill>
          <a:blip r:embed="rId2"/>
          <a:stretch/>
        </p:blipFill>
        <p:spPr>
          <a:xfrm>
            <a:off x="357120" y="1143000"/>
            <a:ext cx="4062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2" descr="C:\Documents and Settings\Nelson Zamorano\Mis documentos\Int. a la Fisica\FI-100-2008\Clases\Resortes con dos masas\NZ098.JPG"/>
          <p:cNvPicPr/>
          <p:nvPr/>
        </p:nvPicPr>
        <p:blipFill>
          <a:blip r:embed="rId2"/>
          <a:stretch/>
        </p:blipFill>
        <p:spPr>
          <a:xfrm>
            <a:off x="214200" y="1214280"/>
            <a:ext cx="4076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2" descr="C:\Documents and Settings\Nelson Zamorano\Mis documentos\Int. a la Fisica\FI-100-2008\Clases\Resortes con dos masas\NZ099.JPG"/>
          <p:cNvPicPr/>
          <p:nvPr/>
        </p:nvPicPr>
        <p:blipFill>
          <a:blip r:embed="rId2"/>
          <a:stretch/>
        </p:blipFill>
        <p:spPr>
          <a:xfrm>
            <a:off x="355680" y="1000080"/>
            <a:ext cx="42004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2" descr="C:\Documents and Settings\Nelson Zamorano\Mis documentos\Int. a la Fisica\FI-100-2008\Clases\Resortes con dos masas\NZ100.JPG"/>
          <p:cNvPicPr/>
          <p:nvPr/>
        </p:nvPicPr>
        <p:blipFill>
          <a:blip r:embed="rId2"/>
          <a:stretch/>
        </p:blipFill>
        <p:spPr>
          <a:xfrm>
            <a:off x="214200" y="1238400"/>
            <a:ext cx="42148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2" descr="C:\Documents and Settings\Nelson Zamorano\Mis documentos\Int. a la Fisica\FI-100-2008\Clases\Resortes con dos masas\NZ101.JPG"/>
          <p:cNvPicPr/>
          <p:nvPr/>
        </p:nvPicPr>
        <p:blipFill>
          <a:blip r:embed="rId2"/>
          <a:stretch/>
        </p:blipFill>
        <p:spPr>
          <a:xfrm>
            <a:off x="428760" y="1071720"/>
            <a:ext cx="38671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4" descr="clase 15e"/>
          <p:cNvPicPr/>
          <p:nvPr/>
        </p:nvPicPr>
        <p:blipFill>
          <a:blip r:embed="rId2"/>
          <a:stretch/>
        </p:blipFill>
        <p:spPr>
          <a:xfrm>
            <a:off x="214200" y="107172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01:53:52Z</dcterms:modified>
  <cp:revision>58</cp:revision>
  <dc:subject/>
  <dc:title>Introducción a la Física Newtoniana </dc:title>
</cp:coreProperties>
</file>