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0660-4E4C-46D7-B308-53E2866E2D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80F4-AB2D-4F08-A2E9-CC20339AD5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4E33-A25A-4400-A463-175B678B5E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FD9B-2AC0-44F6-A1F0-8C8920D8BB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EB06-EDF7-46C2-A288-E32F6F1F93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6E8D-B92C-462F-AC4E-57B9A1A48C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ED85-BCEA-422C-8C8E-BA1BBA9E7B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0C67-D8BF-4391-B0D5-6EC75C97DE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CCE4-42CA-4C44-A56E-D8AE440278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849A-0637-46D5-AEDD-9CA2E7A88B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FE7F-33B4-44A1-9678-1667EBF9CE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59D1-3C78-4ACB-8677-67927F954C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B703-2D8B-45EB-A0DC-077877AD73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7F93-E9A4-4C28-908F-5B49B5CF6D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E3C0-78E3-48C5-B18F-478E157151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ADB8-EFCC-4D25-ADD0-0EB004F247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633E-D69E-4E2B-8246-89A3FFF9F5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B361-614A-4E72-B79E-5CBD0594FE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6F53-0CD0-42C4-9899-ED69B742FD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F22-2DD8-412F-BD82-5675C678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58F-5AEC-4176-B07D-0ADE84DC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FEA-5C82-48C1-8595-35A13082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2C3-0864-43DE-B696-721192C1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7D0-21C7-4DAB-BFCD-D61945AA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477-0444-4184-A948-3919494A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495-509F-4CDA-BC67-32F9E591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4C2-3E2B-4674-B0E1-78A1FCE0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F0F-7719-465C-B471-277C3480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64E-6AA2-4649-BCB9-234944A8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F46-A4B8-4A9E-B74B-7DA7EE3B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019-34BE-4E0C-978E-8169266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609F-BC3B-43AD-A661-2F98F49907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3953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28760" y="1143000"/>
            <a:ext cx="3952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42674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43149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Line 4"/>
          <p:cNvSpPr/>
          <p:nvPr/>
        </p:nvSpPr>
        <p:spPr>
          <a:xfrm>
            <a:off x="5715000" y="114300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500040" y="988920"/>
            <a:ext cx="47862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41436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5-31T03:28:34Z</dcterms:modified>
  <cp:revision>51</cp:revision>
  <dc:subject/>
  <dc:title>Introducción a la Física Newtoniana </dc:title>
</cp:coreProperties>
</file>