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AE83-3A58-4B91-9D8B-FE9C7F7040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074D-7BE8-4C9E-AB6B-F35D34A7A5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EB42-0760-4ABF-8D31-D69038C1A5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FB8C-7249-4C09-AD86-376027A08C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172D-C175-472B-BFD3-A97882386C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1E2E-6F4A-4175-AE18-3D11577C3A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752F-E676-4EF8-926C-2CDCA88616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AE7F-5F5B-4D0B-98AA-82045A1CA3E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322B-F1B1-47B1-AFA6-B517C574F2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D62D-A6B4-4838-B180-017FE89A55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5A3B-8A56-413F-95A6-C5F6ABC9A3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A2A7-5182-447A-B221-F224D61384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50BC-9756-49A8-8DC9-F709A7FED9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178A-5A5B-4DB0-A187-3732A12D09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5621-0963-44D3-957A-A743F47AB1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A8EB-6AAC-4769-B51F-4E7FA0B799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E6F9-DFC5-4189-90F7-F4378F89C8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EC18-E388-4009-B503-407CD1CC9D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FC8C-5EA2-44D1-8D72-3E96530833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C8B-29E3-4810-9A48-F6959621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5C7-EB2B-48E6-9AD3-FFBD44B5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D08-F260-4181-9D03-25B48825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826-CEAE-4186-AE19-BC4541D3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632-C497-470C-8396-114D89A5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2C2-0BD9-4289-9F0B-D04ABAC1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6BE-4F29-4D64-B289-2C0900E7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245-1377-4020-A3D1-7CA6CB57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DC7-ECD0-4DD2-80CF-CF9C2FC4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4B7-AB6A-4484-9EDA-EAC51811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C0A-267A-49F1-AE42-FAD6B099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AFA-FFA3-4F72-BD14-AD9665E3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20FF-5373-4593-9FA9-4B05A7D46D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3953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28760" y="1143000"/>
            <a:ext cx="3952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426744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Line 4"/>
          <p:cNvSpPr/>
          <p:nvPr/>
        </p:nvSpPr>
        <p:spPr>
          <a:xfrm>
            <a:off x="492912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43149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3" name="Line 4"/>
          <p:cNvSpPr/>
          <p:nvPr/>
        </p:nvSpPr>
        <p:spPr>
          <a:xfrm>
            <a:off x="5715000" y="114300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500040" y="988920"/>
            <a:ext cx="478620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41436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5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5-31T03:28:34Z</dcterms:modified>
  <cp:revision>51</cp:revision>
  <dc:subject/>
  <dc:title>Introducción a la Física Newtoniana </dc:title>
</cp:coreProperties>
</file>