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914-5F30-4B8F-9302-B1FF9956FB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3523-6696-48E2-8AD4-5EBDBAF552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9CB8-C432-40CE-9662-E0E2FA6060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C233-2038-4E82-8E8E-9B96778E97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BF1B-AC0B-405B-9BC6-67C8A22B40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B49-FD28-4EF5-A550-2D586A3FCC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97A2-A7C2-4263-A8F1-B4338E74A2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0575-4147-489A-9C01-45D49803FA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E485-CABD-418F-ABBE-FFCE914D60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127B-C045-47FA-8017-93741E24E6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2717-C7EB-44DF-B036-EE3F8D5E3A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A488-0477-4C92-A28C-4FC7CC13E3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B64A-61BE-4AEA-9129-C8A84483CC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44B6-146B-4275-A960-1D70E7EB37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81BE-F049-49F5-81F6-64861351D9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A7EA-0F26-442E-BDF1-384ECFD0AA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C1B-F879-4942-AFA5-85C56EAB98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38A2-0EB9-473A-86E4-120710B3D3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844-4473-43F1-9B11-0EC4DA4A50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AC1-9FFB-45F5-9DEF-2D95B68E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5E9-DEC3-435E-8FAA-11927F00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890-8C7B-4026-8ECE-6787CBF9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369-4A07-4310-9BD9-5D3D3B17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5CE-7C2F-4083-A36A-E392D55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E0C-6663-4576-9C58-72B9C1DA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B67-E425-480A-AB89-920AEDE7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49E-2145-44FE-BCF2-1982071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119-7D5B-46F5-9F25-C9B21F22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10D-59F2-41F3-B0E5-42F499C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4B4-28DD-4CAC-A3B7-23C2D55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751-A3BD-4B6F-BEDC-64B75E5D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193C-5C97-42D8-8732-5361E8453F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3953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395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42674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3149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715000" y="11430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00040" y="988920"/>
            <a:ext cx="47862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143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31T03:28:34Z</dcterms:modified>
  <cp:revision>51</cp:revision>
  <dc:subject/>
  <dc:title>Introducción a la Física Newtoniana </dc:title>
</cp:coreProperties>
</file>