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AE00-A337-4BF3-B89A-6674FF0C904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2C28-BE9B-49E2-AA69-164990B4913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F0A0-3112-4384-8032-68449E5D7FD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4A56-6979-4C8C-B09F-FA8AC8EF613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F08C-DFEB-4E5F-8892-CDF30DDD17C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742C-1ECF-457C-B082-92630F4FD62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ABB5-05FA-4019-B7FC-9DFF9EE4BD6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8526-4975-4898-A7B8-2BC94E09E3E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39A4-2E27-443B-A801-F1C1E4DE81D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AB7D-9B6E-4304-80F6-D58BA49C755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42B9-4150-4D91-A036-9AC39DAA745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B008-602B-4124-82D3-5E7AA38F498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E69B-1CD3-4788-A34F-F46FDFADEAE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A133-45BC-4010-9B32-269FB68F02F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9F4A-97B9-4E96-8AAB-14D3CD55C93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23B0-ACBC-4AFB-AFC4-7C8BD070406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D957-05D9-4DE4-A991-90B1FD431A7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23D5-8F21-492C-9A10-C970FA9B358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E0E0-A0A3-4D48-8FB5-B44ADA21EE7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A958-70F2-470D-AB91-2EE9638B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882F-3666-4A5C-964F-81001C31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BD79-2A85-4DFC-AC1A-EBD724EF5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D8BA-F86C-4303-A6AB-48CA9391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99BE-5F10-4923-9657-AE2553F9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C7C2-594C-48AE-BFA1-C8296FC7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C392-6B8C-45AD-9CFC-3F484164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CD03-C4E5-443C-826A-AFA09BB5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C32E-0A1C-4307-B721-1F60B55B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E11A-99AD-4ECC-80EA-069E7D98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798B-406A-4F46-87E7-C61EE0BC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42C2-2EE8-4595-8A18-DF1DBA0E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AA4E-EF97-4A5F-A3DC-BA088942144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214200" y="1143000"/>
            <a:ext cx="39531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428760" y="1143000"/>
            <a:ext cx="3952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1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214200" y="1500120"/>
            <a:ext cx="426744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7" name="Line 4"/>
          <p:cNvSpPr/>
          <p:nvPr/>
        </p:nvSpPr>
        <p:spPr>
          <a:xfrm>
            <a:off x="492912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357120" y="1143000"/>
            <a:ext cx="431496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3" name="Line 4"/>
          <p:cNvSpPr/>
          <p:nvPr/>
        </p:nvSpPr>
        <p:spPr>
          <a:xfrm>
            <a:off x="5715000" y="114300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500040" y="988920"/>
            <a:ext cx="478620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9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357120" y="1143000"/>
            <a:ext cx="41436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David</cp:lastModifiedBy>
  <dcterms:modified xsi:type="dcterms:W3CDTF">2010-05-31T03:28:34Z</dcterms:modified>
  <cp:revision>51</cp:revision>
  <dc:subject/>
  <dc:title>Introducción a la Física Newtoniana </dc:title>
</cp:coreProperties>
</file>