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F7C1-4A9E-4262-8FE6-73FC2CFF89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7907-2A88-4F6F-B507-2A4D7745FB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243A-905C-4257-9BB1-23EED67FA8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32EB-5730-465A-800D-B58E0F72DE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B799-3772-4C3D-9754-671DB4D1FA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5507-DEA9-4DCA-B618-DA7DD156EC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3140-D25B-4061-8B52-50909904F7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50B6-2E05-4E29-966B-741894CFE7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098F-3F26-4917-B6E1-D8460C8EBC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8915-7C1E-4CE9-8FFD-E7C81EA666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589C-D348-40E8-9B64-8FA03C875C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29A2-F280-42B7-91E1-94EDF056F6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33C6-541E-4683-A06C-C4225F666D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56E7-9831-45C4-87D5-EE2972B79E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2D8A-60E0-47F6-A755-EE87FE548D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17BF-F4EA-49FD-A95B-FB0B4A7AEB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257E-E978-4318-B743-8EFD4F438C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919A-202B-4206-8000-877FD9EED7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5B33-7D4B-4A73-A4FD-52B9A92B87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DB8B-FA58-480A-9AF6-215E6B2EA3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79E2-A43B-45A3-93FD-77F4E912DC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3AB-8E2B-406A-B931-D65FCC6A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D8E-EEE9-4FE4-BFFA-82BCD3F8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1DE-8642-4EF2-AA42-85D48B47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BF5-B256-4E24-B3BA-B8511AA7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5E6-55B2-4258-A3EC-5335F815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B0B-2CE6-4AB0-9293-40167D97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DA6-C830-48C7-924F-B73DFB39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7FA-6B1B-4992-976B-CB8511C1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AC7-ABE9-4600-B67C-4007191C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D4D-B605-4ED5-BD75-DC527EC5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DCF6-6362-4606-95F1-FEA5FE50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416-B506-4B1C-8998-5C4ECA79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158C-D39F-4B5E-8748-AC05EEB021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12" descr="C:\Documents and Settings\Alejandra Avila.ALITA\Escritorio\clase_21\Lunes 2.jpg"/>
          <p:cNvPicPr/>
          <p:nvPr/>
        </p:nvPicPr>
        <p:blipFill>
          <a:blip r:embed="rId2"/>
          <a:srcRect l="0" t="0" r="9279" b="0"/>
          <a:stretch/>
        </p:blipFill>
        <p:spPr>
          <a:xfrm>
            <a:off x="179280" y="1143000"/>
            <a:ext cx="4392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11" descr="C:\Documents and Settings\Alejandra Avila.ALITA\Escritorio\clase_21\new\Lunes-2h.jpg"/>
          <p:cNvPicPr/>
          <p:nvPr/>
        </p:nvPicPr>
        <p:blipFill>
          <a:blip r:embed="rId2"/>
          <a:stretch/>
        </p:blipFill>
        <p:spPr>
          <a:xfrm>
            <a:off x="725400" y="914400"/>
            <a:ext cx="4040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9" descr="C:\Documents and Settings\Alejandra Avila.ALITA\Escritorio\clase_21\new\Lunes-3.jpg"/>
          <p:cNvPicPr/>
          <p:nvPr/>
        </p:nvPicPr>
        <p:blipFill>
          <a:blip r:embed="rId2"/>
          <a:stretch/>
        </p:blipFill>
        <p:spPr>
          <a:xfrm>
            <a:off x="328680" y="988920"/>
            <a:ext cx="42958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8" descr="C:\Documents and Settings\Alejandra Avila.ALITA\Escritorio\clase_21\new\Lunes-3a.jpg"/>
          <p:cNvPicPr/>
          <p:nvPr/>
        </p:nvPicPr>
        <p:blipFill>
          <a:blip r:embed="rId2"/>
          <a:stretch/>
        </p:blipFill>
        <p:spPr>
          <a:xfrm>
            <a:off x="235080" y="1042920"/>
            <a:ext cx="44542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5" descr="C:\Documents and Settings\Alejandra Avila.ALITA\Escritorio\clase_21\new\Lunes-3b.jpg"/>
          <p:cNvPicPr/>
          <p:nvPr/>
        </p:nvPicPr>
        <p:blipFill>
          <a:blip r:embed="rId2"/>
          <a:stretch/>
        </p:blipFill>
        <p:spPr>
          <a:xfrm>
            <a:off x="55440" y="1216080"/>
            <a:ext cx="464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6" descr="C:\Documents and Settings\Alejandra Avila.ALITA\Escritorio\clase_21\new\Lunes-3c.jpg"/>
          <p:cNvPicPr/>
          <p:nvPr/>
        </p:nvPicPr>
        <p:blipFill>
          <a:blip r:embed="rId2"/>
          <a:stretch/>
        </p:blipFill>
        <p:spPr>
          <a:xfrm>
            <a:off x="304920" y="1330200"/>
            <a:ext cx="40226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31" descr="C:\Documents and Settings\Alejandra Avila.ALITA\Escritorio\clase_21\new\Lunes-2.jpg"/>
          <p:cNvPicPr/>
          <p:nvPr/>
        </p:nvPicPr>
        <p:blipFill>
          <a:blip r:embed="rId2"/>
          <a:srcRect l="1660" t="0" r="10372" b="0"/>
          <a:stretch/>
        </p:blipFill>
        <p:spPr>
          <a:xfrm>
            <a:off x="281160" y="981000"/>
            <a:ext cx="4319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8578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13" descr="C:\Documents and Settings\Alejandra Avila.ALITA\Escritorio\clase_21\new\Lunes-2a.jpg"/>
          <p:cNvPicPr/>
          <p:nvPr/>
        </p:nvPicPr>
        <p:blipFill>
          <a:blip r:embed="rId2"/>
          <a:srcRect l="0" t="0" r="0" b="3843"/>
          <a:stretch/>
        </p:blipFill>
        <p:spPr>
          <a:xfrm>
            <a:off x="30240" y="981000"/>
            <a:ext cx="473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9" descr="C:\Documents and Settings\Alejandra Avila.ALITA\Escritorio\clase_21\new\Lunes-2b.jpg"/>
          <p:cNvPicPr/>
          <p:nvPr/>
        </p:nvPicPr>
        <p:blipFill>
          <a:blip r:embed="rId2"/>
          <a:stretch/>
        </p:blipFill>
        <p:spPr>
          <a:xfrm>
            <a:off x="314280" y="1023840"/>
            <a:ext cx="4257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14" descr="C:\Documents and Settings\Alejandra Avila.ALITA\Escritorio\clase_21\new\Lunes-2c.jpg"/>
          <p:cNvPicPr/>
          <p:nvPr/>
        </p:nvPicPr>
        <p:blipFill>
          <a:blip r:embed="rId2"/>
          <a:stretch/>
        </p:blipFill>
        <p:spPr>
          <a:xfrm>
            <a:off x="204840" y="1000080"/>
            <a:ext cx="4287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13" descr="C:\Documents and Settings\Alejandra Avila.ALITA\Escritorio\clase_21\new\Lunes-2d.jpg"/>
          <p:cNvPicPr/>
          <p:nvPr/>
        </p:nvPicPr>
        <p:blipFill>
          <a:blip r:embed="rId2"/>
          <a:srcRect l="0" t="1233" r="5286" b="0"/>
          <a:stretch/>
        </p:blipFill>
        <p:spPr>
          <a:xfrm>
            <a:off x="380880" y="990720"/>
            <a:ext cx="426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13" descr="C:\Documents and Settings\Alejandra Avila.ALITA\Escritorio\clase_21\new\Lunes-2e.jpg"/>
          <p:cNvPicPr/>
          <p:nvPr/>
        </p:nvPicPr>
        <p:blipFill>
          <a:blip r:embed="rId2"/>
          <a:stretch/>
        </p:blipFill>
        <p:spPr>
          <a:xfrm>
            <a:off x="241200" y="987480"/>
            <a:ext cx="4391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13" descr="C:\Documents and Settings\Alejandra Avila.ALITA\Escritorio\clase_21\new\Lunes-2f.jpg"/>
          <p:cNvPicPr/>
          <p:nvPr/>
        </p:nvPicPr>
        <p:blipFill>
          <a:blip r:embed="rId2"/>
          <a:stretch/>
        </p:blipFill>
        <p:spPr>
          <a:xfrm>
            <a:off x="208080" y="990720"/>
            <a:ext cx="4492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10" descr="C:\Documents and Settings\Alejandra Avila.ALITA\Escritorio\clase_21\new\Lunes-2g.jpg"/>
          <p:cNvPicPr/>
          <p:nvPr/>
        </p:nvPicPr>
        <p:blipFill>
          <a:blip r:embed="rId2"/>
          <a:stretch/>
        </p:blipFill>
        <p:spPr>
          <a:xfrm>
            <a:off x="96840" y="1515960"/>
            <a:ext cx="4572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5-22T05:02:18Z</dcterms:modified>
  <cp:revision>47</cp:revision>
  <dc:subject/>
  <dc:title>Introducción a la Física Newtoniana </dc:title>
</cp:coreProperties>
</file>