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6B61-48BF-4612-8CBC-F0ADD57CE76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05AF-875D-4155-A656-F0EA6EF8067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58A6-A816-425A-936B-3B473C444B7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BAF0-48F4-4CF5-8508-FC89FDFF4BC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13CD-1E3B-4285-A012-60382168B6C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9736-3942-4834-B44C-CBFDAAAF527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EEAB-C7F8-42BC-A4E1-032840AB508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0FA8-9EBD-4464-ACEC-E2926BD245F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BE16-2B1E-4900-8A9E-5ACE49D3C7D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CE72-9DE7-4910-8561-A2787D6F794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F6FB-32D0-480F-AAAC-FD1266AB0D1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D37A-5F27-4BB0-B9B3-860B35C1C39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677C-8DF6-4697-8429-32A9BEC35F3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8A9F-1457-4212-A0B9-171D611474B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9912-2B9A-4B7F-B412-559F0D42810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F38C-DFA4-4CC9-B750-519C6D6D74A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7ACF-0E6C-4C99-ADC9-1D61418A333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5BCD-3D84-4BBB-820B-FE195AC1FC3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689C-9BAD-4A60-B8E8-89C11B8149A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E33B-868A-4FF2-91A3-B6327493D59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5C62-5DCC-450E-BC7B-093D31C82CD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3157-751C-402E-B559-2AD7AE086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EAD3-95CD-42D1-AB6E-06FB3D92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80F3-8989-4245-AED2-687A33A7D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24A4-2120-4682-A100-51CF32403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E031-8ADB-4D22-A939-FB3341F9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5051-2E74-475D-9CF7-E02222F1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3D92-10E0-49E3-BD1F-D8B30C11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5218-ABF8-4E13-9586-14BAA47F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2CC8-D09D-47CE-B3C8-67C27CBC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D538-25DB-40B4-A616-A9CCB26C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F834-D1C0-46C7-9DF6-F9A56BE1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5216-5F50-4041-A37D-386B589F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1D61-0BA5-4965-BEF3-1E4564061D4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3" name="Picture 12" descr="C:\Documents and Settings\Alejandra Avila.ALITA\Escritorio\clase_21\Lunes 2.jpg"/>
          <p:cNvPicPr/>
          <p:nvPr/>
        </p:nvPicPr>
        <p:blipFill>
          <a:blip r:embed="rId2"/>
          <a:srcRect l="0" t="0" r="9279" b="0"/>
          <a:stretch/>
        </p:blipFill>
        <p:spPr>
          <a:xfrm>
            <a:off x="179280" y="1143000"/>
            <a:ext cx="43927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7" name="Picture 11" descr="C:\Documents and Settings\Alejandra Avila.ALITA\Escritorio\clase_21\new\Lunes-2h.jpg"/>
          <p:cNvPicPr/>
          <p:nvPr/>
        </p:nvPicPr>
        <p:blipFill>
          <a:blip r:embed="rId2"/>
          <a:stretch/>
        </p:blipFill>
        <p:spPr>
          <a:xfrm>
            <a:off x="725400" y="914400"/>
            <a:ext cx="40402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3" name="Picture 9" descr="C:\Documents and Settings\Alejandra Avila.ALITA\Escritorio\clase_21\new\Lunes-3.jpg"/>
          <p:cNvPicPr/>
          <p:nvPr/>
        </p:nvPicPr>
        <p:blipFill>
          <a:blip r:embed="rId2"/>
          <a:stretch/>
        </p:blipFill>
        <p:spPr>
          <a:xfrm>
            <a:off x="328680" y="988920"/>
            <a:ext cx="429588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9" name="Picture 8" descr="C:\Documents and Settings\Alejandra Avila.ALITA\Escritorio\clase_21\new\Lunes-3a.jpg"/>
          <p:cNvPicPr/>
          <p:nvPr/>
        </p:nvPicPr>
        <p:blipFill>
          <a:blip r:embed="rId2"/>
          <a:stretch/>
        </p:blipFill>
        <p:spPr>
          <a:xfrm>
            <a:off x="235080" y="1042920"/>
            <a:ext cx="445428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2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5" name="Picture 5" descr="C:\Documents and Settings\Alejandra Avila.ALITA\Escritorio\clase_21\new\Lunes-3b.jpg"/>
          <p:cNvPicPr/>
          <p:nvPr/>
        </p:nvPicPr>
        <p:blipFill>
          <a:blip r:embed="rId2"/>
          <a:stretch/>
        </p:blipFill>
        <p:spPr>
          <a:xfrm>
            <a:off x="55440" y="1216080"/>
            <a:ext cx="46497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1" name="Picture 6" descr="C:\Documents and Settings\Alejandra Avila.ALITA\Escritorio\clase_21\new\Lunes-3c.jpg"/>
          <p:cNvPicPr/>
          <p:nvPr/>
        </p:nvPicPr>
        <p:blipFill>
          <a:blip r:embed="rId2"/>
          <a:stretch/>
        </p:blipFill>
        <p:spPr>
          <a:xfrm>
            <a:off x="304920" y="1330200"/>
            <a:ext cx="402264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9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4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9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4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5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9" name="Picture 31" descr="C:\Documents and Settings\Alejandra Avila.ALITA\Escritorio\clase_21\new\Lunes-2.jpg"/>
          <p:cNvPicPr/>
          <p:nvPr/>
        </p:nvPicPr>
        <p:blipFill>
          <a:blip r:embed="rId2"/>
          <a:srcRect l="1660" t="0" r="10372" b="0"/>
          <a:stretch/>
        </p:blipFill>
        <p:spPr>
          <a:xfrm>
            <a:off x="281160" y="981000"/>
            <a:ext cx="4319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9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2" name="Line 4"/>
          <p:cNvSpPr/>
          <p:nvPr/>
        </p:nvSpPr>
        <p:spPr>
          <a:xfrm>
            <a:off x="485784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5" name="Picture 13" descr="C:\Documents and Settings\Alejandra Avila.ALITA\Escritorio\clase_21\new\Lunes-2a.jpg"/>
          <p:cNvPicPr/>
          <p:nvPr/>
        </p:nvPicPr>
        <p:blipFill>
          <a:blip r:embed="rId2"/>
          <a:srcRect l="0" t="0" r="0" b="3843"/>
          <a:stretch/>
        </p:blipFill>
        <p:spPr>
          <a:xfrm>
            <a:off x="30240" y="981000"/>
            <a:ext cx="473400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8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1" name="Picture 9" descr="C:\Documents and Settings\Alejandra Avila.ALITA\Escritorio\clase_21\new\Lunes-2b.jpg"/>
          <p:cNvPicPr/>
          <p:nvPr/>
        </p:nvPicPr>
        <p:blipFill>
          <a:blip r:embed="rId2"/>
          <a:stretch/>
        </p:blipFill>
        <p:spPr>
          <a:xfrm>
            <a:off x="314280" y="1023840"/>
            <a:ext cx="425772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4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7" name="Picture 14" descr="C:\Documents and Settings\Alejandra Avila.ALITA\Escritorio\clase_21\new\Lunes-2c.jpg"/>
          <p:cNvPicPr/>
          <p:nvPr/>
        </p:nvPicPr>
        <p:blipFill>
          <a:blip r:embed="rId2"/>
          <a:stretch/>
        </p:blipFill>
        <p:spPr>
          <a:xfrm>
            <a:off x="204840" y="1000080"/>
            <a:ext cx="42879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0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3" name="Picture 13" descr="C:\Documents and Settings\Alejandra Avila.ALITA\Escritorio\clase_21\new\Lunes-2d.jpg"/>
          <p:cNvPicPr/>
          <p:nvPr/>
        </p:nvPicPr>
        <p:blipFill>
          <a:blip r:embed="rId2"/>
          <a:srcRect l="0" t="1233" r="5286" b="0"/>
          <a:stretch/>
        </p:blipFill>
        <p:spPr>
          <a:xfrm>
            <a:off x="380880" y="990720"/>
            <a:ext cx="42624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6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9" name="Picture 13" descr="C:\Documents and Settings\Alejandra Avila.ALITA\Escritorio\clase_21\new\Lunes-2e.jpg"/>
          <p:cNvPicPr/>
          <p:nvPr/>
        </p:nvPicPr>
        <p:blipFill>
          <a:blip r:embed="rId2"/>
          <a:stretch/>
        </p:blipFill>
        <p:spPr>
          <a:xfrm>
            <a:off x="241200" y="987480"/>
            <a:ext cx="43912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2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5" name="Picture 13" descr="C:\Documents and Settings\Alejandra Avila.ALITA\Escritorio\clase_21\new\Lunes-2f.jpg"/>
          <p:cNvPicPr/>
          <p:nvPr/>
        </p:nvPicPr>
        <p:blipFill>
          <a:blip r:embed="rId2"/>
          <a:stretch/>
        </p:blipFill>
        <p:spPr>
          <a:xfrm>
            <a:off x="208080" y="990720"/>
            <a:ext cx="44924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8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1" name="Picture 10" descr="C:\Documents and Settings\Alejandra Avila.ALITA\Escritorio\clase_21\new\Lunes-2g.jpg"/>
          <p:cNvPicPr/>
          <p:nvPr/>
        </p:nvPicPr>
        <p:blipFill>
          <a:blip r:embed="rId2"/>
          <a:stretch/>
        </p:blipFill>
        <p:spPr>
          <a:xfrm>
            <a:off x="96840" y="1515960"/>
            <a:ext cx="457200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David</cp:lastModifiedBy>
  <dcterms:modified xsi:type="dcterms:W3CDTF">2010-05-22T05:02:18Z</dcterms:modified>
  <cp:revision>47</cp:revision>
  <dc:subject/>
  <dc:title>Introducción a la Física Newtoniana </dc:title>
</cp:coreProperties>
</file>