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D345-5FCF-4DC1-85AE-43DBA5B41D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95A2-AF6B-43D1-AD76-E2FE6ADF99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F761-7801-4CCC-97EA-FD7751DF71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F5BC-64DB-4811-B7D3-4428CD2A2F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684B-2EA5-430E-B4A1-6011D8A6F2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2C66-8138-4859-85C0-B49EBF9C16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8296-E9E7-45F5-AEDF-BA2286B55F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0158-B66C-4BD1-95D9-FD995CC8D5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1A48-E01B-4E6B-A5EF-8D0BC487A3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33EF-1134-4F98-B197-E9D271F231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D1DC-7D0E-4558-8E57-C1A6978ED7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92AF-76B4-4DCA-8299-A6E4E1A4EB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7B8A-452E-44A9-96E0-72174F132C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8302-925D-46E6-B8F9-450D41B211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30D2-5AC3-4FEB-94DE-C7B63288C8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705D-5C18-4F80-97B9-73FCC54465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A516-B9F2-4717-9A9C-D62CDD51A7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F299-5604-4403-8403-B529F2D30E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2970-4EE9-40BB-9E4B-776912579F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2D3A-FFCB-4587-BD86-1D59E3CB32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C6FC-C7D9-4C21-8E7C-8FA7A9ADCD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453-0973-48D7-9C2F-08A34EBA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D54-F4A6-48AD-BFFE-273A7E18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1C0-1A32-4BA0-85CA-7C8DC910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DB0-2CD3-496A-A548-684A3689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E61-9922-417E-92C4-7180BB56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356-239C-4E2D-A284-D3A88601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3FB-49E3-4C3C-9C4E-8B1906C0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BD2-E374-4B69-AE3A-D9708620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7F8-9C00-436E-BBF2-7ED5681E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FCC-AAC0-466D-9544-5299BAA5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D60-BECA-47E6-9EA1-E08121CD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6E8-3105-4CE1-8F30-C1E97FD9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E9EA-8C9B-4E57-BB9E-04B504D06B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12" descr="C:\Documents and Settings\Alejandra Avila.ALITA\Escritorio\clase_21\Lunes 2.jpg"/>
          <p:cNvPicPr/>
          <p:nvPr/>
        </p:nvPicPr>
        <p:blipFill>
          <a:blip r:embed="rId2"/>
          <a:srcRect l="0" t="0" r="9279" b="0"/>
          <a:stretch/>
        </p:blipFill>
        <p:spPr>
          <a:xfrm>
            <a:off x="179280" y="1143000"/>
            <a:ext cx="4392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11" descr="C:\Documents and Settings\Alejandra Avila.ALITA\Escritorio\clase_21\new\Lunes-2h.jpg"/>
          <p:cNvPicPr/>
          <p:nvPr/>
        </p:nvPicPr>
        <p:blipFill>
          <a:blip r:embed="rId2"/>
          <a:stretch/>
        </p:blipFill>
        <p:spPr>
          <a:xfrm>
            <a:off x="725400" y="914400"/>
            <a:ext cx="4040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9" descr="C:\Documents and Settings\Alejandra Avila.ALITA\Escritorio\clase_21\new\Lunes-3.jpg"/>
          <p:cNvPicPr/>
          <p:nvPr/>
        </p:nvPicPr>
        <p:blipFill>
          <a:blip r:embed="rId2"/>
          <a:stretch/>
        </p:blipFill>
        <p:spPr>
          <a:xfrm>
            <a:off x="328680" y="988920"/>
            <a:ext cx="42958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8" descr="C:\Documents and Settings\Alejandra Avila.ALITA\Escritorio\clase_21\new\Lunes-3a.jpg"/>
          <p:cNvPicPr/>
          <p:nvPr/>
        </p:nvPicPr>
        <p:blipFill>
          <a:blip r:embed="rId2"/>
          <a:stretch/>
        </p:blipFill>
        <p:spPr>
          <a:xfrm>
            <a:off x="235080" y="1042920"/>
            <a:ext cx="44542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5" descr="C:\Documents and Settings\Alejandra Avila.ALITA\Escritorio\clase_21\new\Lunes-3b.jpg"/>
          <p:cNvPicPr/>
          <p:nvPr/>
        </p:nvPicPr>
        <p:blipFill>
          <a:blip r:embed="rId2"/>
          <a:stretch/>
        </p:blipFill>
        <p:spPr>
          <a:xfrm>
            <a:off x="55440" y="1216080"/>
            <a:ext cx="464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6" descr="C:\Documents and Settings\Alejandra Avila.ALITA\Escritorio\clase_21\new\Lunes-3c.jpg"/>
          <p:cNvPicPr/>
          <p:nvPr/>
        </p:nvPicPr>
        <p:blipFill>
          <a:blip r:embed="rId2"/>
          <a:stretch/>
        </p:blipFill>
        <p:spPr>
          <a:xfrm>
            <a:off x="304920" y="1330200"/>
            <a:ext cx="40226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31" descr="C:\Documents and Settings\Alejandra Avila.ALITA\Escritorio\clase_21\new\Lunes-2.jpg"/>
          <p:cNvPicPr/>
          <p:nvPr/>
        </p:nvPicPr>
        <p:blipFill>
          <a:blip r:embed="rId2"/>
          <a:srcRect l="1660" t="0" r="10372" b="0"/>
          <a:stretch/>
        </p:blipFill>
        <p:spPr>
          <a:xfrm>
            <a:off x="281160" y="981000"/>
            <a:ext cx="4319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8578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13" descr="C:\Documents and Settings\Alejandra Avila.ALITA\Escritorio\clase_21\new\Lunes-2a.jpg"/>
          <p:cNvPicPr/>
          <p:nvPr/>
        </p:nvPicPr>
        <p:blipFill>
          <a:blip r:embed="rId2"/>
          <a:srcRect l="0" t="0" r="0" b="3843"/>
          <a:stretch/>
        </p:blipFill>
        <p:spPr>
          <a:xfrm>
            <a:off x="30240" y="981000"/>
            <a:ext cx="473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9" descr="C:\Documents and Settings\Alejandra Avila.ALITA\Escritorio\clase_21\new\Lunes-2b.jpg"/>
          <p:cNvPicPr/>
          <p:nvPr/>
        </p:nvPicPr>
        <p:blipFill>
          <a:blip r:embed="rId2"/>
          <a:stretch/>
        </p:blipFill>
        <p:spPr>
          <a:xfrm>
            <a:off x="314280" y="1023840"/>
            <a:ext cx="4257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14" descr="C:\Documents and Settings\Alejandra Avila.ALITA\Escritorio\clase_21\new\Lunes-2c.jpg"/>
          <p:cNvPicPr/>
          <p:nvPr/>
        </p:nvPicPr>
        <p:blipFill>
          <a:blip r:embed="rId2"/>
          <a:stretch/>
        </p:blipFill>
        <p:spPr>
          <a:xfrm>
            <a:off x="204840" y="1000080"/>
            <a:ext cx="4287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13" descr="C:\Documents and Settings\Alejandra Avila.ALITA\Escritorio\clase_21\new\Lunes-2d.jpg"/>
          <p:cNvPicPr/>
          <p:nvPr/>
        </p:nvPicPr>
        <p:blipFill>
          <a:blip r:embed="rId2"/>
          <a:srcRect l="0" t="1233" r="5286" b="0"/>
          <a:stretch/>
        </p:blipFill>
        <p:spPr>
          <a:xfrm>
            <a:off x="380880" y="990720"/>
            <a:ext cx="426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13" descr="C:\Documents and Settings\Alejandra Avila.ALITA\Escritorio\clase_21\new\Lunes-2e.jpg"/>
          <p:cNvPicPr/>
          <p:nvPr/>
        </p:nvPicPr>
        <p:blipFill>
          <a:blip r:embed="rId2"/>
          <a:stretch/>
        </p:blipFill>
        <p:spPr>
          <a:xfrm>
            <a:off x="241200" y="987480"/>
            <a:ext cx="4391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13" descr="C:\Documents and Settings\Alejandra Avila.ALITA\Escritorio\clase_21\new\Lunes-2f.jpg"/>
          <p:cNvPicPr/>
          <p:nvPr/>
        </p:nvPicPr>
        <p:blipFill>
          <a:blip r:embed="rId2"/>
          <a:stretch/>
        </p:blipFill>
        <p:spPr>
          <a:xfrm>
            <a:off x="208080" y="990720"/>
            <a:ext cx="4492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10" descr="C:\Documents and Settings\Alejandra Avila.ALITA\Escritorio\clase_21\new\Lunes-2g.jpg"/>
          <p:cNvPicPr/>
          <p:nvPr/>
        </p:nvPicPr>
        <p:blipFill>
          <a:blip r:embed="rId2"/>
          <a:stretch/>
        </p:blipFill>
        <p:spPr>
          <a:xfrm>
            <a:off x="96840" y="1515960"/>
            <a:ext cx="4572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5-22T05:02:18Z</dcterms:modified>
  <cp:revision>47</cp:revision>
  <dc:subject/>
  <dc:title>Introducción a la Física Newtoniana </dc:title>
</cp:coreProperties>
</file>