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10FC-BAE9-40CA-820E-E3A29F7077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B6C8-518E-4852-ADC3-6C17506783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105-42A4-4DDB-B544-0508A31155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143-6C87-421A-A0A2-5DFF0AD3F7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322-0425-4141-A65B-F80E96AFB8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D94-3EBF-4033-941A-FF43591077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E486-570F-4A1D-ABC6-3FD7F042DE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0042-2995-4832-A4A9-B258BCCC78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1F10-3720-46DB-8F02-6DA83A9E8D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A409-BE0E-4555-88D8-07187CDEBC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247B-A82E-44A7-A1A4-3C751ADC3F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5EAC-DFB5-4D28-99F5-95D1C0DD8B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E1BC-7B20-4594-BF04-5CA02DDCEB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8D82-8DE5-41F4-B2DE-A6E707D5B0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A869-E06C-4591-805F-7DEA7C67FA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BA34-1558-489F-8AE5-22FC3B873D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932-A879-48DA-89B3-8E05673783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D44A-A678-4511-BAC6-493D2DA9ED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3905-23D5-493F-809F-B0E7629877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1FCE-79E5-4AF0-8ACA-0FC2CF5296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3876-F272-4015-A215-5993B165DC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E75-F0DF-409B-803E-CD821B24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AD3-B655-4C6C-A959-A92E8D2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9D0-BEA4-4867-B224-AEB3F0D3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FF7-41EA-423D-B25B-BD31E561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2B5-FA4D-4819-94FB-03AD451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8F8-5CC0-4CAA-8093-8CA33DC3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ED5-0725-49AE-A170-0456199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31D-738F-45D9-AD64-FCEC8DB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CD6-BDB4-4779-B7B5-3DAFA08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F4A-B208-4402-90CB-B6540AB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56F-34E8-41D2-B3AD-2CF5D94C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88E-561B-40BC-B21C-4A4F512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191-D5EB-437B-9198-2084DFAF58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C:\Documents and Settings\Alejandra Avila.ALITA\Escritorio\clase_21\Lunes 2.jpg"/>
          <p:cNvPicPr/>
          <p:nvPr/>
        </p:nvPicPr>
        <p:blipFill>
          <a:blip r:embed="rId2"/>
          <a:srcRect l="0" t="0" r="9279" b="0"/>
          <a:stretch/>
        </p:blipFill>
        <p:spPr>
          <a:xfrm>
            <a:off x="179280" y="1143000"/>
            <a:ext cx="4392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11" descr="C:\Documents and Settings\Alejandra Avila.ALITA\Escritorio\clase_21\new\Lunes-2h.jpg"/>
          <p:cNvPicPr/>
          <p:nvPr/>
        </p:nvPicPr>
        <p:blipFill>
          <a:blip r:embed="rId2"/>
          <a:stretch/>
        </p:blipFill>
        <p:spPr>
          <a:xfrm>
            <a:off x="725400" y="914400"/>
            <a:ext cx="404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9" descr="C:\Documents and Settings\Alejandra Avila.ALITA\Escritorio\clase_21\new\Lunes-3.jpg"/>
          <p:cNvPicPr/>
          <p:nvPr/>
        </p:nvPicPr>
        <p:blipFill>
          <a:blip r:embed="rId2"/>
          <a:stretch/>
        </p:blipFill>
        <p:spPr>
          <a:xfrm>
            <a:off x="328680" y="988920"/>
            <a:ext cx="42958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8" descr="C:\Documents and Settings\Alejandra Avila.ALITA\Escritorio\clase_21\new\Lunes-3a.jpg"/>
          <p:cNvPicPr/>
          <p:nvPr/>
        </p:nvPicPr>
        <p:blipFill>
          <a:blip r:embed="rId2"/>
          <a:stretch/>
        </p:blipFill>
        <p:spPr>
          <a:xfrm>
            <a:off x="235080" y="1042920"/>
            <a:ext cx="44542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5" descr="C:\Documents and Settings\Alejandra Avila.ALITA\Escritorio\clase_21\new\Lunes-3b.jpg"/>
          <p:cNvPicPr/>
          <p:nvPr/>
        </p:nvPicPr>
        <p:blipFill>
          <a:blip r:embed="rId2"/>
          <a:stretch/>
        </p:blipFill>
        <p:spPr>
          <a:xfrm>
            <a:off x="55440" y="1216080"/>
            <a:ext cx="464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6" descr="C:\Documents and Settings\Alejandra Avila.ALITA\Escritorio\clase_21\new\Lunes-3c.jpg"/>
          <p:cNvPicPr/>
          <p:nvPr/>
        </p:nvPicPr>
        <p:blipFill>
          <a:blip r:embed="rId2"/>
          <a:stretch/>
        </p:blipFill>
        <p:spPr>
          <a:xfrm>
            <a:off x="304920" y="1330200"/>
            <a:ext cx="40226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31" descr="C:\Documents and Settings\Alejandra Avila.ALITA\Escritorio\clase_21\new\Lunes-2.jpg"/>
          <p:cNvPicPr/>
          <p:nvPr/>
        </p:nvPicPr>
        <p:blipFill>
          <a:blip r:embed="rId2"/>
          <a:srcRect l="1660" t="0" r="10372" b="0"/>
          <a:stretch/>
        </p:blipFill>
        <p:spPr>
          <a:xfrm>
            <a:off x="281160" y="981000"/>
            <a:ext cx="4319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3" descr="C:\Documents and Settings\Alejandra Avila.ALITA\Escritorio\clase_21\new\Lunes-2a.jpg"/>
          <p:cNvPicPr/>
          <p:nvPr/>
        </p:nvPicPr>
        <p:blipFill>
          <a:blip r:embed="rId2"/>
          <a:srcRect l="0" t="0" r="0" b="3843"/>
          <a:stretch/>
        </p:blipFill>
        <p:spPr>
          <a:xfrm>
            <a:off x="30240" y="981000"/>
            <a:ext cx="473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9" descr="C:\Documents and Settings\Alejandra Avila.ALITA\Escritorio\clase_21\new\Lunes-2b.jpg"/>
          <p:cNvPicPr/>
          <p:nvPr/>
        </p:nvPicPr>
        <p:blipFill>
          <a:blip r:embed="rId2"/>
          <a:stretch/>
        </p:blipFill>
        <p:spPr>
          <a:xfrm>
            <a:off x="314280" y="1023840"/>
            <a:ext cx="4257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14" descr="C:\Documents and Settings\Alejandra Avila.ALITA\Escritorio\clase_21\new\Lunes-2c.jpg"/>
          <p:cNvPicPr/>
          <p:nvPr/>
        </p:nvPicPr>
        <p:blipFill>
          <a:blip r:embed="rId2"/>
          <a:stretch/>
        </p:blipFill>
        <p:spPr>
          <a:xfrm>
            <a:off x="204840" y="1000080"/>
            <a:ext cx="4287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13" descr="C:\Documents and Settings\Alejandra Avila.ALITA\Escritorio\clase_21\new\Lunes-2d.jpg"/>
          <p:cNvPicPr/>
          <p:nvPr/>
        </p:nvPicPr>
        <p:blipFill>
          <a:blip r:embed="rId2"/>
          <a:srcRect l="0" t="1233" r="5286" b="0"/>
          <a:stretch/>
        </p:blipFill>
        <p:spPr>
          <a:xfrm>
            <a:off x="380880" y="990720"/>
            <a:ext cx="426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13" descr="C:\Documents and Settings\Alejandra Avila.ALITA\Escritorio\clase_21\new\Lunes-2e.jpg"/>
          <p:cNvPicPr/>
          <p:nvPr/>
        </p:nvPicPr>
        <p:blipFill>
          <a:blip r:embed="rId2"/>
          <a:stretch/>
        </p:blipFill>
        <p:spPr>
          <a:xfrm>
            <a:off x="241200" y="987480"/>
            <a:ext cx="4391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13" descr="C:\Documents and Settings\Alejandra Avila.ALITA\Escritorio\clase_21\new\Lunes-2f.jpg"/>
          <p:cNvPicPr/>
          <p:nvPr/>
        </p:nvPicPr>
        <p:blipFill>
          <a:blip r:embed="rId2"/>
          <a:stretch/>
        </p:blipFill>
        <p:spPr>
          <a:xfrm>
            <a:off x="208080" y="990720"/>
            <a:ext cx="4492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10" descr="C:\Documents and Settings\Alejandra Avila.ALITA\Escritorio\clase_21\new\Lunes-2g.jpg"/>
          <p:cNvPicPr/>
          <p:nvPr/>
        </p:nvPicPr>
        <p:blipFill>
          <a:blip r:embed="rId2"/>
          <a:stretch/>
        </p:blipFill>
        <p:spPr>
          <a:xfrm>
            <a:off x="96840" y="1515960"/>
            <a:ext cx="4572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05:02:18Z</dcterms:modified>
  <cp:revision>47</cp:revision>
  <dc:subject/>
  <dc:title>Introducción a la Física Newtoniana </dc:title>
</cp:coreProperties>
</file>