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2AB7-F499-4F22-BB49-1358DA9694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4FA0-0C86-4012-BC28-568622B22A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3AC5-3D57-42D7-B689-FC9ADE1BD3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EF68-0250-4B89-9F16-7975B64427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987C-27CB-4759-89EE-1D4B0435CF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7207-6A8D-4812-85AB-1648DBFA9E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F17F-48E3-49CF-BD6D-6294483C40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36BC-7E66-4D1F-8B94-1D7BA89F47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1A4A-DA7A-43FB-B2AF-183D84F1E7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6641-45C6-4DA2-B75F-515F02C1DD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20D8-4DB7-4ABB-8CC3-440A87DA90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625C-031B-4CDC-B7A6-7D85B7CBC7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DF9B-CED6-44B7-AD0B-3BE1CA263E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E958-3F46-466B-9EAC-74E8999345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D188-A70C-4BDF-A101-4A0E0D9646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9AD4-8811-4480-A1E7-0718805E89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3202-8BCB-4FF5-B00F-D4DF8A2C21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7139-47A2-46B9-B280-4786120ADE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61F0-2170-478F-9BE9-E92EEFFE76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22AE-9D50-498C-B1DC-3A14E17C26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F5C1-BF84-4108-8024-F23368B07F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F8B-AF85-4F82-87B7-77BC4798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0E6-00AB-47EE-B525-04D4D894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DC6-5F6E-4E6E-8382-999B3F3B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CA8-6C4A-4D08-BDBC-86EE6033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AB9-EE44-46A9-A77F-E4E30D63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CBD-0A53-42E5-A4B0-4044F31B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9DF-506B-4014-975C-2139F7AD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282-0172-439D-BC95-8BF5AC62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6C5-B16E-4730-81D4-96F4D5A2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413-67B8-4B94-99BC-3EC5AACC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5E4-E331-45DE-A601-6100632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66D-3142-4427-8AA4-13840529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182F-FCDB-4C7F-BDD9-A9CA3D790B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357120" y="2093760"/>
            <a:ext cx="8143920" cy="242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500040" y="4643280"/>
            <a:ext cx="3376800" cy="1714680"/>
          </a:xfrm>
          <a:prstGeom prst="rect">
            <a:avLst/>
          </a:prstGeom>
          <a:ln w="0">
            <a:noFill/>
          </a:ln>
        </p:spPr>
      </p:pic>
      <p:sp>
        <p:nvSpPr>
          <p:cNvPr id="54" name="10 CuadroTexto"/>
          <p:cNvSpPr/>
          <p:nvPr/>
        </p:nvSpPr>
        <p:spPr>
          <a:xfrm>
            <a:off x="4845240" y="5357880"/>
            <a:ext cx="304884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l aplicar una fuerza sobre u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ólido éste se deforma localment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y así ejerce una resistencia a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fuerza de contact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11 CuadroTexto"/>
          <p:cNvSpPr/>
          <p:nvPr/>
        </p:nvSpPr>
        <p:spPr>
          <a:xfrm>
            <a:off x="1061280" y="1428840"/>
            <a:ext cx="63849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odelo simple pero muy útil para representar un sólido: esferas (átomos)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idas por resortes que modelan las  interacciones atómica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2" name="Picture 9" descr="C:\Documents and Settings\Alejandra Avila.ALITA\Escritorio\clase 20\new\friccion5.jpg"/>
          <p:cNvPicPr/>
          <p:nvPr/>
        </p:nvPicPr>
        <p:blipFill>
          <a:blip r:embed="rId2"/>
          <a:stretch/>
        </p:blipFill>
        <p:spPr>
          <a:xfrm>
            <a:off x="174600" y="1066680"/>
            <a:ext cx="43974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8" name="Picture 9" descr="C:\Documents and Settings\Alejandra Avila.ALITA\Escritorio\clase 20\new\fricción4.jpg"/>
          <p:cNvPicPr/>
          <p:nvPr/>
        </p:nvPicPr>
        <p:blipFill>
          <a:blip r:embed="rId2"/>
          <a:stretch/>
        </p:blipFill>
        <p:spPr>
          <a:xfrm>
            <a:off x="92160" y="1268280"/>
            <a:ext cx="4468680" cy="22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4" name="Picture 8" descr="C:\Documents and Settings\Alejandra Avila.ALITA\Escritorio\clase 20\new\friccion3.jpg"/>
          <p:cNvPicPr/>
          <p:nvPr/>
        </p:nvPicPr>
        <p:blipFill>
          <a:blip r:embed="rId2"/>
          <a:stretch/>
        </p:blipFill>
        <p:spPr>
          <a:xfrm>
            <a:off x="360360" y="1219320"/>
            <a:ext cx="422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0" name="Picture 7" descr="C:\Documents and Settings\Alejandra Avila.ALITA\Escritorio\clase 20\new\friccion2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31920" y="1143000"/>
            <a:ext cx="424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6" name="Picture 7" descr="C:\Documents and Settings\Alejandra Avila.ALITA\Escritorio\clase 20\new\friccion1.jpg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35080" y="990720"/>
            <a:ext cx="4441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1" name="Picture 11" descr="C:\Documents and Settings\Alejandra Avila.ALITA\Escritorio\clase 20\new\friccion13.jpg"/>
          <p:cNvPicPr/>
          <p:nvPr/>
        </p:nvPicPr>
        <p:blipFill>
          <a:blip r:embed="rId2">
            <a:lum contrast="18000"/>
          </a:blip>
          <a:srcRect l="0" t="0" r="-718" b="0"/>
          <a:stretch/>
        </p:blipFill>
        <p:spPr>
          <a:xfrm>
            <a:off x="212760" y="981000"/>
            <a:ext cx="4305240" cy="572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5357880" y="1143000"/>
            <a:ext cx="2071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29" descr="C:\Documents and Settings\Alejandra Avila.ALITA\Escritorio\clase 20\new\friccion12.jpg"/>
          <p:cNvPicPr/>
          <p:nvPr/>
        </p:nvPicPr>
        <p:blipFill>
          <a:blip r:embed="rId2"/>
          <a:stretch/>
        </p:blipFill>
        <p:spPr>
          <a:xfrm>
            <a:off x="252360" y="984240"/>
            <a:ext cx="441972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5286240" y="1500120"/>
            <a:ext cx="34862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11" descr="C:\Documents and Settings\Alejandra Avila.ALITA\Escritorio\clase 20\new\friccion11.jpg"/>
          <p:cNvPicPr/>
          <p:nvPr/>
        </p:nvPicPr>
        <p:blipFill>
          <a:blip r:embed="rId2"/>
          <a:stretch/>
        </p:blipFill>
        <p:spPr>
          <a:xfrm>
            <a:off x="412920" y="996840"/>
            <a:ext cx="4132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5" descr="C:\Documents and Settings\Alejandra Avila.ALITA\Escritorio\clase 20\new\friccion10.jpg"/>
          <p:cNvPicPr/>
          <p:nvPr/>
        </p:nvPicPr>
        <p:blipFill>
          <a:blip r:embed="rId2"/>
          <a:stretch/>
        </p:blipFill>
        <p:spPr>
          <a:xfrm>
            <a:off x="182520" y="963720"/>
            <a:ext cx="4451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12" descr="C:\Documents and Settings\Alejandra Avila.ALITA\Escritorio\clase 20\new\friccion9.jpg"/>
          <p:cNvPicPr/>
          <p:nvPr/>
        </p:nvPicPr>
        <p:blipFill>
          <a:blip r:embed="rId2"/>
          <a:stretch/>
        </p:blipFill>
        <p:spPr>
          <a:xfrm>
            <a:off x="198360" y="963720"/>
            <a:ext cx="4519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12" descr="C:\Documents and Settings\Alejandra Avila.ALITA\Escritorio\clase 20\new\friccion8.jpg"/>
          <p:cNvPicPr/>
          <p:nvPr/>
        </p:nvPicPr>
        <p:blipFill>
          <a:blip r:embed="rId2"/>
          <a:stretch/>
        </p:blipFill>
        <p:spPr>
          <a:xfrm>
            <a:off x="182520" y="1003320"/>
            <a:ext cx="449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12" descr="C:\Documents and Settings\Alejandra Avila.ALITA\Escritorio\clase 20\new\friccion7.jpg"/>
          <p:cNvPicPr/>
          <p:nvPr/>
        </p:nvPicPr>
        <p:blipFill>
          <a:blip r:embed="rId2"/>
          <a:stretch/>
        </p:blipFill>
        <p:spPr>
          <a:xfrm>
            <a:off x="-36360" y="933480"/>
            <a:ext cx="48067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49593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12" descr="C:\Documents and Settings\Alejandra Avila.ALITA\Escritorio\clase 20\new\friccion6.jpg"/>
          <p:cNvPicPr/>
          <p:nvPr/>
        </p:nvPicPr>
        <p:blipFill>
          <a:blip r:embed="rId2"/>
          <a:stretch/>
        </p:blipFill>
        <p:spPr>
          <a:xfrm>
            <a:off x="152280" y="1482840"/>
            <a:ext cx="4724640" cy="389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5072040" y="1714680"/>
            <a:ext cx="38671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22T20:57:58Z</dcterms:modified>
  <cp:revision>50</cp:revision>
  <dc:subject/>
  <dc:title>Introducción a la Física Newtoniana </dc:title>
</cp:coreProperties>
</file>