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F1E9-3836-4D8E-88AE-838A2A5AE5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CD24-02F3-4217-8AD2-3E09E57CB9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4512-40BD-498E-A272-A4012FC564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CBD1-9CDC-42A9-9E64-C6FF19B434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5BE7-4264-4933-B56D-CD94D06CDD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6669-4301-4F71-BCEB-941A51E4EE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40E-F379-4446-8FF7-EB644D76DA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47E2-E1DE-41E3-8711-31B6033742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98FF-3ABA-4B38-BCC5-35F6FEF77C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3A9-31F1-4417-8E6D-FB8063DEDB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A3AE-AC12-47B6-B11E-94D72F8F0B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9744-02E3-4C3B-8845-6C26EED56C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7DBC-16C9-4A3F-AC06-47A028D9C7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B4D9-3D34-4095-87A1-DA065B494E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90CB-4409-4CF5-9C37-C13E5A02F1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4ED2-3F64-430B-A96D-E5E375B9C4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24D6-6933-4892-96F6-3B116CFB9F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2DD1-CEF0-485A-BE72-96DF00C610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ED7-2656-4F2A-A85B-A2594C682E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7391-60DB-458E-9077-DE41AA881D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5997-0753-4D1E-9A94-01AF9B3E9C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C45-8CC0-4F59-B91F-8E9115E0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A63-9F1E-4A05-BD37-4656C7F2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34D-0368-4607-BC95-E93D458B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C2E-047B-40C3-BC56-3C0E7DFA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3AB-5398-4DEE-9584-C7204FAB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643-0695-4AB2-B125-2E11FB52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7EB-A1E3-4326-BC0A-11057C79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F2F-92E4-4AE9-878A-FC6FAFEB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5F4-C826-461D-8198-1C812372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082-5310-4443-B68B-24B38AE5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155-0B1C-41B6-87AA-8A47156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1DE-5A37-44A3-B103-1606F0D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C27B-EA19-4D5F-A607-A5D05E1863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357120" y="2093760"/>
            <a:ext cx="8143920" cy="242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500040" y="4643280"/>
            <a:ext cx="3376800" cy="1714680"/>
          </a:xfrm>
          <a:prstGeom prst="rect">
            <a:avLst/>
          </a:prstGeom>
          <a:ln w="0">
            <a:noFill/>
          </a:ln>
        </p:spPr>
      </p:pic>
      <p:sp>
        <p:nvSpPr>
          <p:cNvPr id="54" name="10 CuadroTexto"/>
          <p:cNvSpPr/>
          <p:nvPr/>
        </p:nvSpPr>
        <p:spPr>
          <a:xfrm>
            <a:off x="4845240" y="5357880"/>
            <a:ext cx="304884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l aplicar una fuerza sobre u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ólido éste se deforma localment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y así ejerce una resistencia a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fuerza de contact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11 CuadroTexto"/>
          <p:cNvSpPr/>
          <p:nvPr/>
        </p:nvSpPr>
        <p:spPr>
          <a:xfrm>
            <a:off x="1061280" y="1428840"/>
            <a:ext cx="63849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odelo simple pero muy útil para representar un sólido: esferas (átomos)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idas por resortes que modelan las  interacciones atómica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9" descr="C:\Documents and Settings\Alejandra Avila.ALITA\Escritorio\clase 20\new\friccion5.jpg"/>
          <p:cNvPicPr/>
          <p:nvPr/>
        </p:nvPicPr>
        <p:blipFill>
          <a:blip r:embed="rId2"/>
          <a:stretch/>
        </p:blipFill>
        <p:spPr>
          <a:xfrm>
            <a:off x="174600" y="1066680"/>
            <a:ext cx="43974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8" name="Picture 9" descr="C:\Documents and Settings\Alejandra Avila.ALITA\Escritorio\clase 20\new\fricción4.jpg"/>
          <p:cNvPicPr/>
          <p:nvPr/>
        </p:nvPicPr>
        <p:blipFill>
          <a:blip r:embed="rId2"/>
          <a:stretch/>
        </p:blipFill>
        <p:spPr>
          <a:xfrm>
            <a:off x="92160" y="1268280"/>
            <a:ext cx="446868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8" descr="C:\Documents and Settings\Alejandra Avila.ALITA\Escritorio\clase 20\new\friccion3.jpg"/>
          <p:cNvPicPr/>
          <p:nvPr/>
        </p:nvPicPr>
        <p:blipFill>
          <a:blip r:embed="rId2"/>
          <a:stretch/>
        </p:blipFill>
        <p:spPr>
          <a:xfrm>
            <a:off x="360360" y="12193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0" name="Picture 7" descr="C:\Documents and Settings\Alejandra Avila.ALITA\Escritorio\clase 20\new\friccion2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31920" y="1143000"/>
            <a:ext cx="424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6" name="Picture 7" descr="C:\Documents and Settings\Alejandra Avila.ALITA\Escritorio\clase 20\new\friccion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35080" y="990720"/>
            <a:ext cx="4441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1" name="Picture 11" descr="C:\Documents and Settings\Alejandra Avila.ALITA\Escritorio\clase 20\new\friccion13.jpg"/>
          <p:cNvPicPr/>
          <p:nvPr/>
        </p:nvPicPr>
        <p:blipFill>
          <a:blip r:embed="rId2">
            <a:lum contrast="18000"/>
          </a:blip>
          <a:srcRect l="0" t="0" r="-718" b="0"/>
          <a:stretch/>
        </p:blipFill>
        <p:spPr>
          <a:xfrm>
            <a:off x="212760" y="981000"/>
            <a:ext cx="4305240" cy="572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5357880" y="1143000"/>
            <a:ext cx="2071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29" descr="C:\Documents and Settings\Alejandra Avila.ALITA\Escritorio\clase 20\new\friccion12.jpg"/>
          <p:cNvPicPr/>
          <p:nvPr/>
        </p:nvPicPr>
        <p:blipFill>
          <a:blip r:embed="rId2"/>
          <a:stretch/>
        </p:blipFill>
        <p:spPr>
          <a:xfrm>
            <a:off x="252360" y="984240"/>
            <a:ext cx="441972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5286240" y="1500120"/>
            <a:ext cx="3486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11" descr="C:\Documents and Settings\Alejandra Avila.ALITA\Escritorio\clase 20\new\friccion11.jpg"/>
          <p:cNvPicPr/>
          <p:nvPr/>
        </p:nvPicPr>
        <p:blipFill>
          <a:blip r:embed="rId2"/>
          <a:stretch/>
        </p:blipFill>
        <p:spPr>
          <a:xfrm>
            <a:off x="412920" y="996840"/>
            <a:ext cx="4132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5" descr="C:\Documents and Settings\Alejandra Avila.ALITA\Escritorio\clase 20\new\friccion10.jpg"/>
          <p:cNvPicPr/>
          <p:nvPr/>
        </p:nvPicPr>
        <p:blipFill>
          <a:blip r:embed="rId2"/>
          <a:stretch/>
        </p:blipFill>
        <p:spPr>
          <a:xfrm>
            <a:off x="182520" y="963720"/>
            <a:ext cx="4451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12" descr="C:\Documents and Settings\Alejandra Avila.ALITA\Escritorio\clase 20\new\friccion9.jpg"/>
          <p:cNvPicPr/>
          <p:nvPr/>
        </p:nvPicPr>
        <p:blipFill>
          <a:blip r:embed="rId2"/>
          <a:stretch/>
        </p:blipFill>
        <p:spPr>
          <a:xfrm>
            <a:off x="198360" y="963720"/>
            <a:ext cx="4519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12" descr="C:\Documents and Settings\Alejandra Avila.ALITA\Escritorio\clase 20\new\friccion8.jpg"/>
          <p:cNvPicPr/>
          <p:nvPr/>
        </p:nvPicPr>
        <p:blipFill>
          <a:blip r:embed="rId2"/>
          <a:stretch/>
        </p:blipFill>
        <p:spPr>
          <a:xfrm>
            <a:off x="182520" y="1003320"/>
            <a:ext cx="449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12" descr="C:\Documents and Settings\Alejandra Avila.ALITA\Escritorio\clase 20\new\friccion7.jpg"/>
          <p:cNvPicPr/>
          <p:nvPr/>
        </p:nvPicPr>
        <p:blipFill>
          <a:blip r:embed="rId2"/>
          <a:stretch/>
        </p:blipFill>
        <p:spPr>
          <a:xfrm>
            <a:off x="-36360" y="933480"/>
            <a:ext cx="48067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49593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12" descr="C:\Documents and Settings\Alejandra Avila.ALITA\Escritorio\clase 20\new\friccion6.jpg"/>
          <p:cNvPicPr/>
          <p:nvPr/>
        </p:nvPicPr>
        <p:blipFill>
          <a:blip r:embed="rId2"/>
          <a:stretch/>
        </p:blipFill>
        <p:spPr>
          <a:xfrm>
            <a:off x="152280" y="1482840"/>
            <a:ext cx="4724640" cy="389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5072040" y="1714680"/>
            <a:ext cx="38671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22T20:57:58Z</dcterms:modified>
  <cp:revision>50</cp:revision>
  <dc:subject/>
  <dc:title>Introducción a la Física Newtoniana </dc:title>
</cp:coreProperties>
</file>