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D6E-6621-470B-9575-800B2E9DDD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FE9E-7D04-49A0-9428-817E29997B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6B25-BBC1-4667-B211-275C4F9599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9F98-B1F2-48B4-97EA-B172104364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4430-4ABC-4836-BC50-83641299A2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08C-E00E-4BFD-9AE1-AD5DADC3F8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33BD-CC20-48E1-88B1-E4F1759014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6560-CEE7-4A37-90FB-6FE3A090AE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4464-8F17-487C-A0C6-D56BB215ED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46AB-9ABF-4D2D-9F0A-4B2E94F274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F30A-672F-4F84-A687-B837931EF0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2342-37E8-43A5-9577-1B8DB1AF8A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62E7-EA28-4479-A05E-A272BA51F3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3744-75CB-40F4-9113-BFA2D724AD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D102-DFD6-4120-B13D-404F11379B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7B5-1BBB-4818-95B9-85720CA294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1C11-4080-4737-B215-F819E5EC42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A14F-6A6B-466A-A434-719DF5FB9E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637-DB05-4CFD-ACD7-95EBCA2CD4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A87C-A447-4BC7-9AFB-0D1C389883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B6DC-64CC-4B74-A0F3-5C3FD57983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F6E-1121-4FD6-BB60-62AA406B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326-51BF-47AA-A632-EA7BD4A0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322-6361-4795-9698-40EBCC64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85C-CD0D-4722-98DD-3452D052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28B-3647-4BBC-B0FE-C6F69E9D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1AB-7249-4A3F-9BBD-2F708A8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86B-F37E-4F07-B5F7-112C339C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BD3-6065-43EC-8447-42501E2B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EA2-B5A0-4E0B-9ED5-737CCB8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3F1-3D1D-439E-B74A-156D8CE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543-FB5E-4D87-869F-78F009BF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CB3-183F-4DD6-BDC2-8666691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2D77-603E-4B79-8951-36FA1B1D2E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357120" y="2093760"/>
            <a:ext cx="814392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3376800" cy="1714680"/>
          </a:xfrm>
          <a:prstGeom prst="rect">
            <a:avLst/>
          </a:prstGeom>
          <a:ln w="0">
            <a:noFill/>
          </a:ln>
        </p:spPr>
      </p:pic>
      <p:sp>
        <p:nvSpPr>
          <p:cNvPr id="54" name="10 CuadroTexto"/>
          <p:cNvSpPr/>
          <p:nvPr/>
        </p:nvSpPr>
        <p:spPr>
          <a:xfrm>
            <a:off x="4845240" y="5357880"/>
            <a:ext cx="304884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l aplicar una fuerza sobre u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ólido éste se deforma localment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y así ejerce una resistencia a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fuerza de contact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11 CuadroTexto"/>
          <p:cNvSpPr/>
          <p:nvPr/>
        </p:nvSpPr>
        <p:spPr>
          <a:xfrm>
            <a:off x="1061280" y="1428840"/>
            <a:ext cx="63849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odelo simple pero muy útil para representar un sólido: esferas (átomos)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idas por resortes que modelan las  interacciones atómica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9" descr="C:\Documents and Settings\Alejandra Avila.ALITA\Escritorio\clase 20\new\friccion5.jpg"/>
          <p:cNvPicPr/>
          <p:nvPr/>
        </p:nvPicPr>
        <p:blipFill>
          <a:blip r:embed="rId2"/>
          <a:stretch/>
        </p:blipFill>
        <p:spPr>
          <a:xfrm>
            <a:off x="174600" y="1066680"/>
            <a:ext cx="43974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8" name="Picture 9" descr="C:\Documents and Settings\Alejandra Avila.ALITA\Escritorio\clase 20\new\fricción4.jpg"/>
          <p:cNvPicPr/>
          <p:nvPr/>
        </p:nvPicPr>
        <p:blipFill>
          <a:blip r:embed="rId2"/>
          <a:stretch/>
        </p:blipFill>
        <p:spPr>
          <a:xfrm>
            <a:off x="92160" y="1268280"/>
            <a:ext cx="446868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8" descr="C:\Documents and Settings\Alejandra Avila.ALITA\Escritorio\clase 20\new\friccion3.jpg"/>
          <p:cNvPicPr/>
          <p:nvPr/>
        </p:nvPicPr>
        <p:blipFill>
          <a:blip r:embed="rId2"/>
          <a:stretch/>
        </p:blipFill>
        <p:spPr>
          <a:xfrm>
            <a:off x="360360" y="12193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0" name="Picture 7" descr="C:\Documents and Settings\Alejandra Avila.ALITA\Escritorio\clase 20\new\friccion2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31920" y="1143000"/>
            <a:ext cx="424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6" name="Picture 7" descr="C:\Documents and Settings\Alejandra Avila.ALITA\Escritorio\clase 20\new\friccion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35080" y="990720"/>
            <a:ext cx="4441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1" name="Picture 11" descr="C:\Documents and Settings\Alejandra Avila.ALITA\Escritorio\clase 20\new\friccion13.jpg"/>
          <p:cNvPicPr/>
          <p:nvPr/>
        </p:nvPicPr>
        <p:blipFill>
          <a:blip r:embed="rId2">
            <a:lum contrast="18000"/>
          </a:blip>
          <a:srcRect l="0" t="0" r="-718" b="0"/>
          <a:stretch/>
        </p:blipFill>
        <p:spPr>
          <a:xfrm>
            <a:off x="212760" y="981000"/>
            <a:ext cx="4305240" cy="572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5357880" y="1143000"/>
            <a:ext cx="2071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29" descr="C:\Documents and Settings\Alejandra Avila.ALITA\Escritorio\clase 20\new\friccion12.jpg"/>
          <p:cNvPicPr/>
          <p:nvPr/>
        </p:nvPicPr>
        <p:blipFill>
          <a:blip r:embed="rId2"/>
          <a:stretch/>
        </p:blipFill>
        <p:spPr>
          <a:xfrm>
            <a:off x="252360" y="984240"/>
            <a:ext cx="441972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5286240" y="1500120"/>
            <a:ext cx="3486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11" descr="C:\Documents and Settings\Alejandra Avila.ALITA\Escritorio\clase 20\new\friccion11.jpg"/>
          <p:cNvPicPr/>
          <p:nvPr/>
        </p:nvPicPr>
        <p:blipFill>
          <a:blip r:embed="rId2"/>
          <a:stretch/>
        </p:blipFill>
        <p:spPr>
          <a:xfrm>
            <a:off x="412920" y="996840"/>
            <a:ext cx="4132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5" descr="C:\Documents and Settings\Alejandra Avila.ALITA\Escritorio\clase 20\new\friccion10.jpg"/>
          <p:cNvPicPr/>
          <p:nvPr/>
        </p:nvPicPr>
        <p:blipFill>
          <a:blip r:embed="rId2"/>
          <a:stretch/>
        </p:blipFill>
        <p:spPr>
          <a:xfrm>
            <a:off x="182520" y="963720"/>
            <a:ext cx="4451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12" descr="C:\Documents and Settings\Alejandra Avila.ALITA\Escritorio\clase 20\new\friccion9.jpg"/>
          <p:cNvPicPr/>
          <p:nvPr/>
        </p:nvPicPr>
        <p:blipFill>
          <a:blip r:embed="rId2"/>
          <a:stretch/>
        </p:blipFill>
        <p:spPr>
          <a:xfrm>
            <a:off x="198360" y="963720"/>
            <a:ext cx="4519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12" descr="C:\Documents and Settings\Alejandra Avila.ALITA\Escritorio\clase 20\new\friccion8.jpg"/>
          <p:cNvPicPr/>
          <p:nvPr/>
        </p:nvPicPr>
        <p:blipFill>
          <a:blip r:embed="rId2"/>
          <a:stretch/>
        </p:blipFill>
        <p:spPr>
          <a:xfrm>
            <a:off x="182520" y="1003320"/>
            <a:ext cx="449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12" descr="C:\Documents and Settings\Alejandra Avila.ALITA\Escritorio\clase 20\new\friccion7.jpg"/>
          <p:cNvPicPr/>
          <p:nvPr/>
        </p:nvPicPr>
        <p:blipFill>
          <a:blip r:embed="rId2"/>
          <a:stretch/>
        </p:blipFill>
        <p:spPr>
          <a:xfrm>
            <a:off x="-36360" y="933480"/>
            <a:ext cx="48067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49593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12" descr="C:\Documents and Settings\Alejandra Avila.ALITA\Escritorio\clase 20\new\friccion6.jpg"/>
          <p:cNvPicPr/>
          <p:nvPr/>
        </p:nvPicPr>
        <p:blipFill>
          <a:blip r:embed="rId2"/>
          <a:stretch/>
        </p:blipFill>
        <p:spPr>
          <a:xfrm>
            <a:off x="152280" y="1482840"/>
            <a:ext cx="4724640" cy="389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5072040" y="1714680"/>
            <a:ext cx="38671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22T20:57:58Z</dcterms:modified>
  <cp:revision>50</cp:revision>
  <dc:subject/>
  <dc:title>Introducción a la Física Newtoniana </dc:title>
</cp:coreProperties>
</file>