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6551-56FC-4B6E-A92B-E9794427DE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EF52-B842-47E2-B3C2-19FEA465DBF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EB28-61CC-402A-8528-A0EEFA3D03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B43A-0A79-46F1-97B6-7C0ECF1972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18BC-5622-4DA5-BDA3-87496744718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B131-D652-49B2-A7CE-5ED690455F3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B545-DD2A-4F88-8413-0D05B84726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26C2-31B4-4A0D-B31C-D8A7202C87D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9F07-ADA0-4A60-A8CF-8A8CE24A38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36B1-244D-4AB6-A203-A2ECA3C814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4582-B567-4861-8C3A-63ED5FD848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9B75-C3F7-47AB-8975-CA2DEB55113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F7F0-1D37-442B-BBE8-0FC4C497FF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8F65-E1DD-45AD-B7CA-8A39E390AA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3D7F-C0F9-471C-B16D-AA51B0F38F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222D-A1AE-4A84-87E7-97E614020D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D585-A4E8-4EA1-BF98-F78FADE277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39D4-3C5A-4BE1-B7F9-C63F6F04F74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9156-ADB2-46D2-8880-597C1C016A2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D10A-7D28-445E-9F02-9752D08200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530F-C65E-4817-80CE-327087EB50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878-F34C-4471-9AB0-A828E057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5675-E66C-4A70-8532-748A6E4A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5B2-F7C5-4DAB-B3A4-87C214A3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EA2-52AD-488A-AF6B-566E3B9C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FA3-6F55-4E32-AC7F-A19B7448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7B7C-D5FD-4CFA-A78E-C6D8F00D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C07-5EB4-4E3A-B2A7-508F3EAC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1C49-3213-4F1A-B2E5-4BE9A4D8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02CF-A58A-449A-808F-A434262A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C06-7D47-461B-B2FE-F8D73303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3CE6-73D3-4838-BFA5-48A3D8AC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176D-5C61-47C9-AFCC-E175EEEB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4FF6-04A6-45DC-91F1-3C5757A05A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357120" y="2093760"/>
            <a:ext cx="8143920" cy="2428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500040" y="4643280"/>
            <a:ext cx="3376800" cy="1714680"/>
          </a:xfrm>
          <a:prstGeom prst="rect">
            <a:avLst/>
          </a:prstGeom>
          <a:ln w="0">
            <a:noFill/>
          </a:ln>
        </p:spPr>
      </p:pic>
      <p:sp>
        <p:nvSpPr>
          <p:cNvPr id="54" name="10 CuadroTexto"/>
          <p:cNvSpPr/>
          <p:nvPr/>
        </p:nvSpPr>
        <p:spPr>
          <a:xfrm>
            <a:off x="4845240" y="5357880"/>
            <a:ext cx="304884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l aplicar una fuerza sobre un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sólido éste se deforma localment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y así ejerce una resistencia a l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fuerza de contact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11 CuadroTexto"/>
          <p:cNvSpPr/>
          <p:nvPr/>
        </p:nvSpPr>
        <p:spPr>
          <a:xfrm>
            <a:off x="1061280" y="1428840"/>
            <a:ext cx="638496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Modelo simple pero muy útil para representar un sólido: esferas (átomos)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unidas por resortes que modelan las  interacciones atómicas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2" name="Picture 9" descr="C:\Documents and Settings\Alejandra Avila.ALITA\Escritorio\clase 20\new\friccion5.jpg"/>
          <p:cNvPicPr/>
          <p:nvPr/>
        </p:nvPicPr>
        <p:blipFill>
          <a:blip r:embed="rId2"/>
          <a:stretch/>
        </p:blipFill>
        <p:spPr>
          <a:xfrm>
            <a:off x="174600" y="1066680"/>
            <a:ext cx="43974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8" name="Picture 9" descr="C:\Documents and Settings\Alejandra Avila.ALITA\Escritorio\clase 20\new\fricción4.jpg"/>
          <p:cNvPicPr/>
          <p:nvPr/>
        </p:nvPicPr>
        <p:blipFill>
          <a:blip r:embed="rId2"/>
          <a:stretch/>
        </p:blipFill>
        <p:spPr>
          <a:xfrm>
            <a:off x="92160" y="1268280"/>
            <a:ext cx="4468680" cy="22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4" name="Picture 8" descr="C:\Documents and Settings\Alejandra Avila.ALITA\Escritorio\clase 20\new\friccion3.jpg"/>
          <p:cNvPicPr/>
          <p:nvPr/>
        </p:nvPicPr>
        <p:blipFill>
          <a:blip r:embed="rId2"/>
          <a:stretch/>
        </p:blipFill>
        <p:spPr>
          <a:xfrm>
            <a:off x="360360" y="1219320"/>
            <a:ext cx="4229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0" name="Picture 7" descr="C:\Documents and Settings\Alejandra Avila.ALITA\Escritorio\clase 20\new\friccion2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31920" y="1143000"/>
            <a:ext cx="4240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6" name="Picture 7" descr="C:\Documents and Settings\Alejandra Avila.ALITA\Escritorio\clase 20\new\friccion1.jpg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35080" y="990720"/>
            <a:ext cx="4441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1" name="Picture 11" descr="C:\Documents and Settings\Alejandra Avila.ALITA\Escritorio\clase 20\new\friccion13.jpg"/>
          <p:cNvPicPr/>
          <p:nvPr/>
        </p:nvPicPr>
        <p:blipFill>
          <a:blip r:embed="rId2">
            <a:lum contrast="18000"/>
          </a:blip>
          <a:srcRect l="0" t="0" r="-718" b="0"/>
          <a:stretch/>
        </p:blipFill>
        <p:spPr>
          <a:xfrm>
            <a:off x="212760" y="981000"/>
            <a:ext cx="4305240" cy="572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3"/>
          <a:stretch/>
        </p:blipFill>
        <p:spPr>
          <a:xfrm>
            <a:off x="5357880" y="1143000"/>
            <a:ext cx="2071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5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29" descr="C:\Documents and Settings\Alejandra Avila.ALITA\Escritorio\clase 20\new\friccion12.jpg"/>
          <p:cNvPicPr/>
          <p:nvPr/>
        </p:nvPicPr>
        <p:blipFill>
          <a:blip r:embed="rId2"/>
          <a:stretch/>
        </p:blipFill>
        <p:spPr>
          <a:xfrm>
            <a:off x="252360" y="984240"/>
            <a:ext cx="4419720" cy="571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5286240" y="1500120"/>
            <a:ext cx="34862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11" descr="C:\Documents and Settings\Alejandra Avila.ALITA\Escritorio\clase 20\new\friccion11.jpg"/>
          <p:cNvPicPr/>
          <p:nvPr/>
        </p:nvPicPr>
        <p:blipFill>
          <a:blip r:embed="rId2"/>
          <a:stretch/>
        </p:blipFill>
        <p:spPr>
          <a:xfrm>
            <a:off x="412920" y="996840"/>
            <a:ext cx="4132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5" descr="C:\Documents and Settings\Alejandra Avila.ALITA\Escritorio\clase 20\new\friccion10.jpg"/>
          <p:cNvPicPr/>
          <p:nvPr/>
        </p:nvPicPr>
        <p:blipFill>
          <a:blip r:embed="rId2"/>
          <a:stretch/>
        </p:blipFill>
        <p:spPr>
          <a:xfrm>
            <a:off x="182520" y="963720"/>
            <a:ext cx="4451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12" descr="C:\Documents and Settings\Alejandra Avila.ALITA\Escritorio\clase 20\new\friccion9.jpg"/>
          <p:cNvPicPr/>
          <p:nvPr/>
        </p:nvPicPr>
        <p:blipFill>
          <a:blip r:embed="rId2"/>
          <a:stretch/>
        </p:blipFill>
        <p:spPr>
          <a:xfrm>
            <a:off x="198360" y="963720"/>
            <a:ext cx="4519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12" descr="C:\Documents and Settings\Alejandra Avila.ALITA\Escritorio\clase 20\new\friccion8.jpg"/>
          <p:cNvPicPr/>
          <p:nvPr/>
        </p:nvPicPr>
        <p:blipFill>
          <a:blip r:embed="rId2"/>
          <a:stretch/>
        </p:blipFill>
        <p:spPr>
          <a:xfrm>
            <a:off x="182520" y="1003320"/>
            <a:ext cx="4497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12" descr="C:\Documents and Settings\Alejandra Avila.ALITA\Escritorio\clase 20\new\friccion7.jpg"/>
          <p:cNvPicPr/>
          <p:nvPr/>
        </p:nvPicPr>
        <p:blipFill>
          <a:blip r:embed="rId2"/>
          <a:stretch/>
        </p:blipFill>
        <p:spPr>
          <a:xfrm>
            <a:off x="-36360" y="933480"/>
            <a:ext cx="48067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495936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12" descr="C:\Documents and Settings\Alejandra Avila.ALITA\Escritorio\clase 20\new\friccion6.jpg"/>
          <p:cNvPicPr/>
          <p:nvPr/>
        </p:nvPicPr>
        <p:blipFill>
          <a:blip r:embed="rId2"/>
          <a:stretch/>
        </p:blipFill>
        <p:spPr>
          <a:xfrm>
            <a:off x="152280" y="1482840"/>
            <a:ext cx="4724640" cy="3890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5072040" y="1714680"/>
            <a:ext cx="38671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5-22T20:57:58Z</dcterms:modified>
  <cp:revision>50</cp:revision>
  <dc:subject/>
  <dc:title>Introducción a la Física Newtoniana </dc:title>
</cp:coreProperties>
</file>