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325E-E004-4B6C-8DA6-C2FC11B46D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B6E5-9BFF-4220-9B57-855346480C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B128-AF17-4A53-8032-F30836806F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CF59-B807-4B7A-84F6-1C45E611AC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4EBE-696F-4528-AEFA-DC3585B3A9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4A49-1908-4441-8C95-D10D398CB8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008C-F9CF-4A77-BC54-D9152C9E27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445-C0CB-410F-B6FE-AF78618335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A2E8-ADD0-4EB8-93EA-1B45F705B2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CFCD-4595-49FF-A4E4-D79F98C145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25D-6BD0-42A6-8686-D39046E21D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A22D-ACCF-4A69-8366-A0363BD2E8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C1C6-F4ED-47C0-8109-07D93CA4A3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370C-ABBF-4306-B263-431E1E71D7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A42-7D11-4AD1-A8DC-B0BD243C69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8AF0-5CFF-49A1-BA39-42E2425548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94E6-2FFF-4E15-BDC1-082FFD779F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6CF3-8EE8-43AB-96D9-E2930E0ABA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89CF-AA99-4242-B9CB-0B72843156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D0D2-6522-48D7-9314-F6AB62CD90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0282-4B59-4614-8B89-2EEAF667B3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EB60-4E7F-49EB-8725-0C93539128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8337-8B67-4774-8E54-3665C160C2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7A08-DD9E-492F-BC06-853C4BFA32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DFD8-1171-463C-BB8C-5E1F3E61A9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C31C-58D7-4FBE-8113-39E00AAE9D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926-DF58-4E29-9BC6-ECDD9E7A03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F5D0-BA6B-4014-AB0E-67D1E9A39A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F83C-A3D5-4176-AE50-CD936873B2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56BF-7DDD-4354-8B71-44EFBB326A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C57C-4B0E-4D1F-A370-103453F583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AA9-C54D-4C94-901F-DD5FBBF31B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380-FF69-4949-9969-930658AA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4EA-8819-49CD-AB5C-F5323DE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E50-D4AF-463B-AFEF-248AD27C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4C1-7C01-4848-A353-0B23F04F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0F8-BC5C-45FC-99FB-95D87D5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4D1-85E8-48D0-ACAD-975D924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B20-53C9-4F43-84E7-37BECBE4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D5B-BC65-4DF0-B23B-B97FCAA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945-0DB2-4D5D-8B10-F83A055E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043-786D-45BB-84E9-0D1D19B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6AC-7988-4AC2-9459-DCF7983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84C-C4A0-4D0E-AD96-13577A1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DF72-8605-4AE9-A536-974DD57EB2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2" descr="C:\alita\Ev\Fisica 2004\clases\clase_18\new\Dinamica-3.jpg"/>
          <p:cNvPicPr/>
          <p:nvPr/>
        </p:nvPicPr>
        <p:blipFill>
          <a:blip r:embed="rId2"/>
          <a:stretch/>
        </p:blipFill>
        <p:spPr>
          <a:xfrm>
            <a:off x="380880" y="1066680"/>
            <a:ext cx="4133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6" descr="C:\alita\Ev\Fisica 2004\clases\clase_18\new\Dinamica-4d.jpg"/>
          <p:cNvPicPr/>
          <p:nvPr/>
        </p:nvPicPr>
        <p:blipFill>
          <a:blip r:embed="rId2"/>
          <a:stretch/>
        </p:blipFill>
        <p:spPr>
          <a:xfrm>
            <a:off x="380880" y="1066680"/>
            <a:ext cx="41799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10" descr="C:\Documents and Settings\Alejandra Avila.ALITA\Escritorio\dinamica\new\Dinamica-1-aplicaciones.jpg"/>
          <p:cNvPicPr/>
          <p:nvPr/>
        </p:nvPicPr>
        <p:blipFill>
          <a:blip r:embed="rId2"/>
          <a:stretch/>
        </p:blipFill>
        <p:spPr>
          <a:xfrm>
            <a:off x="388800" y="1066680"/>
            <a:ext cx="418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10" descr="C:\Documents and Settings\Alejandra Avila.ALITA\Escritorio\dinamica\new\Dinamica-1-aplicaciones.jpg"/>
          <p:cNvPicPr/>
          <p:nvPr/>
        </p:nvPicPr>
        <p:blipFill>
          <a:blip r:embed="rId2"/>
          <a:stretch/>
        </p:blipFill>
        <p:spPr>
          <a:xfrm>
            <a:off x="388800" y="1066680"/>
            <a:ext cx="418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3" descr="C:\Documents and Settings\Alejandra Avila.ALITA\Escritorio\dinamica\new\Dinamica-1a-aplicaciones.jpg"/>
          <p:cNvPicPr/>
          <p:nvPr/>
        </p:nvPicPr>
        <p:blipFill>
          <a:blip r:embed="rId2"/>
          <a:stretch/>
        </p:blipFill>
        <p:spPr>
          <a:xfrm>
            <a:off x="428760" y="1143000"/>
            <a:ext cx="399384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9" descr="C:\Documents and Settings\Alejandra Avila.ALITA\Escritorio\dinamica\new\Dinamica-1b-aplicaciones.jpg"/>
          <p:cNvPicPr/>
          <p:nvPr/>
        </p:nvPicPr>
        <p:blipFill>
          <a:blip r:embed="rId2"/>
          <a:stretch/>
        </p:blipFill>
        <p:spPr>
          <a:xfrm>
            <a:off x="351000" y="1042920"/>
            <a:ext cx="4221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10" descr="C:\Documents and Settings\Alejandra Avila.ALITA\Escritorio\dinamica\new\Dinamica-1c-aplicaciones.jpg"/>
          <p:cNvPicPr/>
          <p:nvPr/>
        </p:nvPicPr>
        <p:blipFill>
          <a:blip r:embed="rId2"/>
          <a:stretch/>
        </p:blipFill>
        <p:spPr>
          <a:xfrm>
            <a:off x="426960" y="990720"/>
            <a:ext cx="43736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10" descr="C:\Documents and Settings\Alejandra Avila.ALITA\Escritorio\dinamica\new\Dinamica-1d-aplicaciones.jpg"/>
          <p:cNvPicPr/>
          <p:nvPr/>
        </p:nvPicPr>
        <p:blipFill>
          <a:blip r:embed="rId2"/>
          <a:stretch/>
        </p:blipFill>
        <p:spPr>
          <a:xfrm>
            <a:off x="360360" y="1023840"/>
            <a:ext cx="43545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Documents and Settings\Alejandra Avila.ALITA\Escritorio\dinamica\new\Dinamica-1e-aplicaciones.jpg"/>
          <p:cNvPicPr/>
          <p:nvPr/>
        </p:nvPicPr>
        <p:blipFill>
          <a:blip r:embed="rId2"/>
          <a:stretch/>
        </p:blipFill>
        <p:spPr>
          <a:xfrm>
            <a:off x="392040" y="1066680"/>
            <a:ext cx="4251240" cy="557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10" descr="C:\Documents and Settings\Alejandra Avila.ALITA\Escritorio\dinamica\new\Dinamica-1f-aplicaciones.jpg"/>
          <p:cNvPicPr/>
          <p:nvPr/>
        </p:nvPicPr>
        <p:blipFill>
          <a:blip r:embed="rId2"/>
          <a:srcRect l="0" t="0" r="8252" b="0"/>
          <a:stretch/>
        </p:blipFill>
        <p:spPr>
          <a:xfrm>
            <a:off x="336600" y="985680"/>
            <a:ext cx="409248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1" name="Picture 7" descr="C:\Documents and Settings\Alejandra Avila.ALITA\Escritorio\dinamica\new\Dinamica-1g-aplicaciones.jpg"/>
          <p:cNvPicPr/>
          <p:nvPr/>
        </p:nvPicPr>
        <p:blipFill>
          <a:blip r:embed="rId2"/>
          <a:stretch/>
        </p:blipFill>
        <p:spPr>
          <a:xfrm>
            <a:off x="285840" y="1285920"/>
            <a:ext cx="39114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9" descr="C:\alita\Ev\Fisica 2004\clases\clase_18\new\Dinamica-3a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990720" y="1219320"/>
            <a:ext cx="32684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7" name="Picture 7" descr="C:\Documents and Settings\Alejandra Avila.ALITA\Escritorio\dinamica\new\Dinamica-1h-aplicaciones.jpg"/>
          <p:cNvPicPr/>
          <p:nvPr/>
        </p:nvPicPr>
        <p:blipFill>
          <a:blip r:embed="rId2"/>
          <a:stretch/>
        </p:blipFill>
        <p:spPr>
          <a:xfrm>
            <a:off x="109440" y="971640"/>
            <a:ext cx="42483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3" name="Picture 7" descr="C:\Documents and Settings\Alejandra Avila.ALITA\Escritorio\dinamica\new\Dinamica-2a-aplicaciones.jpg"/>
          <p:cNvPicPr/>
          <p:nvPr/>
        </p:nvPicPr>
        <p:blipFill>
          <a:blip r:embed="rId2"/>
          <a:stretch/>
        </p:blipFill>
        <p:spPr>
          <a:xfrm>
            <a:off x="357120" y="1000080"/>
            <a:ext cx="425448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9" name="Picture 6" descr="C:\Documents and Settings\Alejandra Avila.ALITA\Escritorio\dinamica\new\Dinamica-2-aplicaciones.jpg"/>
          <p:cNvPicPr/>
          <p:nvPr/>
        </p:nvPicPr>
        <p:blipFill>
          <a:blip r:embed="rId2"/>
          <a:stretch/>
        </p:blipFill>
        <p:spPr>
          <a:xfrm>
            <a:off x="214200" y="1000080"/>
            <a:ext cx="45007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5" name="Picture 6" descr="C:\Documents and Settings\Alejandra Avila.ALITA\Escritorio\dinamica\new\Dinamica-2b-aplicaciones.jpg"/>
          <p:cNvPicPr/>
          <p:nvPr/>
        </p:nvPicPr>
        <p:blipFill>
          <a:blip r:embed="rId2"/>
          <a:stretch/>
        </p:blipFill>
        <p:spPr>
          <a:xfrm>
            <a:off x="357120" y="1000080"/>
            <a:ext cx="42242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1" name="Picture 1030" descr="C:\Documents and Settings\Alejandra Avila.ALITA\Escritorio\dinamica\new\Dinamica-2c-aplicaciones.jpg"/>
          <p:cNvPicPr/>
          <p:nvPr/>
        </p:nvPicPr>
        <p:blipFill>
          <a:blip r:embed="rId2"/>
          <a:stretch/>
        </p:blipFill>
        <p:spPr>
          <a:xfrm>
            <a:off x="380880" y="952560"/>
            <a:ext cx="440532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7" name="Picture 6" descr="C:\Documents and Settings\Alejandra Avila.ALITA\Escritorio\dinamica\new\Dinamica-2d-aplicaciones.jpg"/>
          <p:cNvPicPr/>
          <p:nvPr/>
        </p:nvPicPr>
        <p:blipFill>
          <a:blip r:embed="rId2"/>
          <a:stretch/>
        </p:blipFill>
        <p:spPr>
          <a:xfrm>
            <a:off x="382680" y="990720"/>
            <a:ext cx="418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3" name="Picture 6" descr="C:\Documents and Settings\Alejandra Avila.ALITA\Escritorio\dinamica\new\Dinamica-2e-aplicaciones.jpg"/>
          <p:cNvPicPr/>
          <p:nvPr/>
        </p:nvPicPr>
        <p:blipFill>
          <a:blip r:embed="rId2"/>
          <a:stretch/>
        </p:blipFill>
        <p:spPr>
          <a:xfrm>
            <a:off x="330120" y="990720"/>
            <a:ext cx="4021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9" name="Picture 6" descr="C:\Documents and Settings\Alejandra Avila.ALITA\Escritorio\dinamica\new\Dinamica-2f-aplicaciones.jpg"/>
          <p:cNvPicPr/>
          <p:nvPr/>
        </p:nvPicPr>
        <p:blipFill>
          <a:blip r:embed="rId2"/>
          <a:stretch/>
        </p:blipFill>
        <p:spPr>
          <a:xfrm>
            <a:off x="330120" y="1066680"/>
            <a:ext cx="424188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5" name="Picture 6" descr="C:\Documents and Settings\Alejandra Avila.ALITA\Escritorio\dinamica\new\Dinamica-2g-aplicaciones.jpg"/>
          <p:cNvPicPr/>
          <p:nvPr/>
        </p:nvPicPr>
        <p:blipFill>
          <a:blip r:embed="rId2"/>
          <a:stretch/>
        </p:blipFill>
        <p:spPr>
          <a:xfrm>
            <a:off x="304920" y="1214280"/>
            <a:ext cx="43844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1" name="Picture 6" descr="C:\Documents and Settings\Alejandra Avila.ALITA\Escritorio\dinamica\new\Dinamica-2h-aplicaciones.jpg"/>
          <p:cNvPicPr/>
          <p:nvPr/>
        </p:nvPicPr>
        <p:blipFill>
          <a:blip r:embed="rId2"/>
          <a:stretch/>
        </p:blipFill>
        <p:spPr>
          <a:xfrm>
            <a:off x="295200" y="990720"/>
            <a:ext cx="4133880" cy="5607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8" descr="C:\alita\Ev\Fisica 2004\clases\clase_18\new\Dinamica-3b.jpg"/>
          <p:cNvPicPr/>
          <p:nvPr/>
        </p:nvPicPr>
        <p:blipFill>
          <a:blip r:embed="rId2"/>
          <a:stretch/>
        </p:blipFill>
        <p:spPr>
          <a:xfrm>
            <a:off x="403200" y="990720"/>
            <a:ext cx="402588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7572240" y="4000680"/>
            <a:ext cx="878040" cy="225252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8"/>
          <p:cNvGrpSpPr/>
          <p:nvPr/>
        </p:nvGrpSpPr>
        <p:grpSpPr>
          <a:xfrm>
            <a:off x="7358040" y="1714680"/>
            <a:ext cx="1143000" cy="2004840"/>
            <a:chOff x="7358040" y="1714680"/>
            <a:chExt cx="1143000" cy="2004840"/>
          </a:xfrm>
        </p:grpSpPr>
        <p:sp>
          <p:nvSpPr>
            <p:cNvPr id="229" name="Oval 23"/>
            <p:cNvSpPr/>
            <p:nvPr/>
          </p:nvSpPr>
          <p:spPr>
            <a:xfrm>
              <a:off x="7700040" y="2013120"/>
              <a:ext cx="317520" cy="3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0" name="Oval 22"/>
            <p:cNvSpPr/>
            <p:nvPr/>
          </p:nvSpPr>
          <p:spPr>
            <a:xfrm>
              <a:off x="7555680" y="2558160"/>
              <a:ext cx="31752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1" name="Rectangle 21"/>
            <p:cNvSpPr/>
            <p:nvPr/>
          </p:nvSpPr>
          <p:spPr>
            <a:xfrm>
              <a:off x="7484760" y="1714680"/>
              <a:ext cx="825480" cy="622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2" name="Line 20"/>
            <p:cNvSpPr/>
            <p:nvPr/>
          </p:nvSpPr>
          <p:spPr>
            <a:xfrm>
              <a:off x="7866000" y="1776960"/>
              <a:ext cx="3240" cy="41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8022960" y="21729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7696800" y="2172960"/>
              <a:ext cx="50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7544880" y="271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>
              <a:off x="7878240" y="2702160"/>
              <a:ext cx="6840" cy="7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7929360" y="2526840"/>
              <a:ext cx="25380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8" name="Text Box 14"/>
            <p:cNvSpPr/>
            <p:nvPr/>
          </p:nvSpPr>
          <p:spPr>
            <a:xfrm>
              <a:off x="7364880" y="3013200"/>
              <a:ext cx="31752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r>
                <a:rPr b="0" lang="es-ES" sz="1000" spc="-1" strike="noStrike" baseline="-30000">
                  <a:solidFill>
                    <a:srgbClr val="0000ff"/>
                  </a:solidFill>
                  <a:latin typeface="Verdana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9" name="Text Box 13"/>
            <p:cNvSpPr/>
            <p:nvPr/>
          </p:nvSpPr>
          <p:spPr>
            <a:xfrm>
              <a:off x="7746120" y="3469680"/>
              <a:ext cx="317520" cy="24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r>
                <a:rPr b="0" lang="es-ES" sz="1200" spc="-1" strike="noStrike" baseline="-30000">
                  <a:solidFill>
                    <a:srgbClr val="0000ff"/>
                  </a:solidFill>
                  <a:latin typeface="Verdana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8373960" y="2901960"/>
              <a:ext cx="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8183520" y="2964600"/>
              <a:ext cx="317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2" name="Text Box 10"/>
            <p:cNvSpPr/>
            <p:nvPr/>
          </p:nvSpPr>
          <p:spPr>
            <a:xfrm>
              <a:off x="8056440" y="2027160"/>
              <a:ext cx="2538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7358040" y="2589480"/>
              <a:ext cx="317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44" name="Rectangle 24"/>
          <p:cNvSpPr/>
          <p:nvPr/>
        </p:nvSpPr>
        <p:spPr>
          <a:xfrm>
            <a:off x="500040" y="1784520"/>
            <a:ext cx="64292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a.- En el sistema de poleas de la figura de la derecha, la masa M fue elegida cuidadosamente de manera que se mantiene en equilibrio con la polea B, que la consideramos sin masa ni roce.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    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Las masas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y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si están en movimiento.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   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Si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= 2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, encuentre el valor de la masa M en función de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y g, que logra mantenerse en  equilibrio con la polea B.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Conviene pensar qué sucedería si, por ejemplo, la masa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es una mosca y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un kg: Si Ud. Sostiene la polea B, ¿qué fuerza debe ejercer para sostener el sistema?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b.- Hacer el DCL de la persona ubicada dentro del contenedor (Figura de la izquierda) y escribir las ecuaciones correspondientes del DCL de la persona y el contenedor. Considere dos casos: la persona se mueve con rapidez constante  y la persona (y por tanto el contenedor) se mueve con aceleración constante. (El movimiento es vertical)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La polea superior está sostenida desde el techo y el contenedor no toca el piso.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0" y="37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7" name="26 CuadroTexto"/>
          <p:cNvSpPr/>
          <p:nvPr/>
        </p:nvSpPr>
        <p:spPr>
          <a:xfrm>
            <a:off x="609480" y="1071720"/>
            <a:ext cx="31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valuación # 2 (Viernes 14 de Mayo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9" descr="C:\alita\Ev\Fisica 2004\clases\clase_18\new\Dinamica-3c.jpg"/>
          <p:cNvPicPr/>
          <p:nvPr/>
        </p:nvPicPr>
        <p:blipFill>
          <a:blip r:embed="rId2">
            <a:lum contrast="6000"/>
          </a:blip>
          <a:srcRect l="6199" t="0" r="0" b="0"/>
          <a:stretch/>
        </p:blipFill>
        <p:spPr>
          <a:xfrm>
            <a:off x="304920" y="1523880"/>
            <a:ext cx="46116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9" descr="C:\alita\Ev\Fisica 2004\clases\clase_18\new\Dinamica-3d.jpg"/>
          <p:cNvPicPr/>
          <p:nvPr/>
        </p:nvPicPr>
        <p:blipFill>
          <a:blip r:embed="rId2"/>
          <a:stretch/>
        </p:blipFill>
        <p:spPr>
          <a:xfrm>
            <a:off x="357120" y="1214280"/>
            <a:ext cx="406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14200" y="1000080"/>
            <a:ext cx="2457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9" descr="C:\alita\Ev\Fisica 2004\clases\clase_18\new\Dinamica-4a.jpg"/>
          <p:cNvPicPr/>
          <p:nvPr/>
        </p:nvPicPr>
        <p:blipFill>
          <a:blip r:embed="rId2"/>
          <a:stretch/>
        </p:blipFill>
        <p:spPr>
          <a:xfrm>
            <a:off x="652320" y="1066680"/>
            <a:ext cx="39196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C:\alita\Ev\Fisica 2004\clases\clase_18\new\Dinamica-4b.jpg"/>
          <p:cNvPicPr/>
          <p:nvPr/>
        </p:nvPicPr>
        <p:blipFill>
          <a:blip r:embed="rId2"/>
          <a:stretch/>
        </p:blipFill>
        <p:spPr>
          <a:xfrm>
            <a:off x="244440" y="1066680"/>
            <a:ext cx="4327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C:\alita\Ev\Fisica 2004\clases\clase_18\new\Dinamica-4c.jpg"/>
          <p:cNvPicPr/>
          <p:nvPr/>
        </p:nvPicPr>
        <p:blipFill>
          <a:blip r:embed="rId2"/>
          <a:stretch/>
        </p:blipFill>
        <p:spPr>
          <a:xfrm>
            <a:off x="285840" y="1000080"/>
            <a:ext cx="425124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5-16T01:41:45Z</dcterms:modified>
  <cp:revision>47</cp:revision>
  <dc:subject/>
  <dc:title>Introducción a la Física Newtoniana </dc:title>
</cp:coreProperties>
</file>