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C9F9-FCFD-40E4-9C19-84E3141349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C006-857A-47DA-9331-C32C19D6A8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BEAD-67CE-4C4D-B719-2BE3BC1DF9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F10B-32C1-4CF4-87E4-8CD6747822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33AB-11E1-45DD-91D5-7CE8772AA4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F6FA-20E4-4297-BAAE-9868A6EED4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77A8-708F-4C05-8F3D-4DAFD655A9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D717-0DDA-4240-BACE-1F78227044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3DEA-A40B-4A62-8C41-DC2F6764D8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6744-4BCB-4CA1-8C0F-F720E5643B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50E3-E835-48FD-9103-D6DD3A0D22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FA0E-3FC5-45DA-98E6-56C2B9EBB8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199B-50E2-45C2-9EE2-CEA681B78E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5137-BE59-477D-B107-D9B89A49AD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4855-4096-4CAE-A2B9-07BCDE4A17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649F-9D5D-45BE-8C9E-67C9E40B5B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110B-1183-418A-911B-8C41B927BF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087F-93F2-4AE4-8151-6D8420F406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FC78-D6E9-46FA-8840-C429FF2B1B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31DB-46D1-42E8-BE58-1BF5615138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A8D2-4196-43A5-87D2-B5BF8A23E0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89E1-0428-4C18-ABC9-928311EC07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F7F6-4472-46F7-92C5-037E9716BA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2612-1E35-4127-881D-20FCB4452F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CD42-3A4F-4DDB-9870-D25F577D24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7589-587B-4424-A225-5DCED38EA3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6209-4544-4588-9C2B-E685A8D663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E2F4-FA12-4996-9748-9B5BCCC080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93C0-1A17-4EFC-8398-A4E3DC5C26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6E29-FF74-47CB-99ED-C0F4C3E855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7306-00B6-4C0E-B6CD-E9EA9F10DC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8452-1CEB-4CF7-8E93-032B2B7FB3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71B-71C5-4F52-81CB-8B5AC2F7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894-E860-4BD6-B8C3-5C84D8FB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6F8-613C-40CE-978E-F3EF1A74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B24-2F02-43B5-A90B-67E00870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97B-D5B6-4849-8586-B929A361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307-1046-4A85-8A51-5A8B82A9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478-3969-40A6-A2C3-858CA2B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45C-0940-4A8D-8575-348AD870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9FD-1174-4A4E-B974-899CE175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3BC-2A60-4757-AB85-33046DE6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729-6B0A-4AC6-A09C-1486E582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8DC-8D77-4B3D-9134-221FBAF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5D92-C71E-4478-96A5-969B60DDC9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2" descr="C:\alita\Ev\Fisica 2004\clases\clase_18\new\Dinamica-3.jpg"/>
          <p:cNvPicPr/>
          <p:nvPr/>
        </p:nvPicPr>
        <p:blipFill>
          <a:blip r:embed="rId2"/>
          <a:stretch/>
        </p:blipFill>
        <p:spPr>
          <a:xfrm>
            <a:off x="380880" y="1066680"/>
            <a:ext cx="4133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6" descr="C:\alita\Ev\Fisica 2004\clases\clase_18\new\Dinamica-4d.jpg"/>
          <p:cNvPicPr/>
          <p:nvPr/>
        </p:nvPicPr>
        <p:blipFill>
          <a:blip r:embed="rId2"/>
          <a:stretch/>
        </p:blipFill>
        <p:spPr>
          <a:xfrm>
            <a:off x="380880" y="1066680"/>
            <a:ext cx="41799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10" descr="C:\Documents and Settings\Alejandra Avila.ALITA\Escritorio\dinamica\new\Dinamica-1-aplicaciones.jpg"/>
          <p:cNvPicPr/>
          <p:nvPr/>
        </p:nvPicPr>
        <p:blipFill>
          <a:blip r:embed="rId2"/>
          <a:stretch/>
        </p:blipFill>
        <p:spPr>
          <a:xfrm>
            <a:off x="388800" y="1066680"/>
            <a:ext cx="418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10" descr="C:\Documents and Settings\Alejandra Avila.ALITA\Escritorio\dinamica\new\Dinamica-1-aplicaciones.jpg"/>
          <p:cNvPicPr/>
          <p:nvPr/>
        </p:nvPicPr>
        <p:blipFill>
          <a:blip r:embed="rId2"/>
          <a:stretch/>
        </p:blipFill>
        <p:spPr>
          <a:xfrm>
            <a:off x="388800" y="1066680"/>
            <a:ext cx="418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3" descr="C:\Documents and Settings\Alejandra Avila.ALITA\Escritorio\dinamica\new\Dinamica-1a-aplicaciones.jpg"/>
          <p:cNvPicPr/>
          <p:nvPr/>
        </p:nvPicPr>
        <p:blipFill>
          <a:blip r:embed="rId2"/>
          <a:stretch/>
        </p:blipFill>
        <p:spPr>
          <a:xfrm>
            <a:off x="428760" y="1143000"/>
            <a:ext cx="399384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9" descr="C:\Documents and Settings\Alejandra Avila.ALITA\Escritorio\dinamica\new\Dinamica-1b-aplicaciones.jpg"/>
          <p:cNvPicPr/>
          <p:nvPr/>
        </p:nvPicPr>
        <p:blipFill>
          <a:blip r:embed="rId2"/>
          <a:stretch/>
        </p:blipFill>
        <p:spPr>
          <a:xfrm>
            <a:off x="351000" y="1042920"/>
            <a:ext cx="4221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10" descr="C:\Documents and Settings\Alejandra Avila.ALITA\Escritorio\dinamica\new\Dinamica-1c-aplicaciones.jpg"/>
          <p:cNvPicPr/>
          <p:nvPr/>
        </p:nvPicPr>
        <p:blipFill>
          <a:blip r:embed="rId2"/>
          <a:stretch/>
        </p:blipFill>
        <p:spPr>
          <a:xfrm>
            <a:off x="426960" y="990720"/>
            <a:ext cx="43736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10" descr="C:\Documents and Settings\Alejandra Avila.ALITA\Escritorio\dinamica\new\Dinamica-1d-aplicaciones.jpg"/>
          <p:cNvPicPr/>
          <p:nvPr/>
        </p:nvPicPr>
        <p:blipFill>
          <a:blip r:embed="rId2"/>
          <a:stretch/>
        </p:blipFill>
        <p:spPr>
          <a:xfrm>
            <a:off x="360360" y="1023840"/>
            <a:ext cx="43545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Documents and Settings\Alejandra Avila.ALITA\Escritorio\dinamica\new\Dinamica-1e-aplicaciones.jpg"/>
          <p:cNvPicPr/>
          <p:nvPr/>
        </p:nvPicPr>
        <p:blipFill>
          <a:blip r:embed="rId2"/>
          <a:stretch/>
        </p:blipFill>
        <p:spPr>
          <a:xfrm>
            <a:off x="392040" y="1066680"/>
            <a:ext cx="4251240" cy="5570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10" descr="C:\Documents and Settings\Alejandra Avila.ALITA\Escritorio\dinamica\new\Dinamica-1f-aplicaciones.jpg"/>
          <p:cNvPicPr/>
          <p:nvPr/>
        </p:nvPicPr>
        <p:blipFill>
          <a:blip r:embed="rId2"/>
          <a:srcRect l="0" t="0" r="8252" b="0"/>
          <a:stretch/>
        </p:blipFill>
        <p:spPr>
          <a:xfrm>
            <a:off x="336600" y="985680"/>
            <a:ext cx="409248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1" name="Picture 7" descr="C:\Documents and Settings\Alejandra Avila.ALITA\Escritorio\dinamica\new\Dinamica-1g-aplicaciones.jpg"/>
          <p:cNvPicPr/>
          <p:nvPr/>
        </p:nvPicPr>
        <p:blipFill>
          <a:blip r:embed="rId2"/>
          <a:stretch/>
        </p:blipFill>
        <p:spPr>
          <a:xfrm>
            <a:off x="285840" y="1285920"/>
            <a:ext cx="39114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9" descr="C:\alita\Ev\Fisica 2004\clases\clase_18\new\Dinamica-3a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990720" y="1219320"/>
            <a:ext cx="32684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7" name="Picture 7" descr="C:\Documents and Settings\Alejandra Avila.ALITA\Escritorio\dinamica\new\Dinamica-1h-aplicaciones.jpg"/>
          <p:cNvPicPr/>
          <p:nvPr/>
        </p:nvPicPr>
        <p:blipFill>
          <a:blip r:embed="rId2"/>
          <a:stretch/>
        </p:blipFill>
        <p:spPr>
          <a:xfrm>
            <a:off x="109440" y="971640"/>
            <a:ext cx="42483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3" name="Picture 7" descr="C:\Documents and Settings\Alejandra Avila.ALITA\Escritorio\dinamica\new\Dinamica-2a-aplicaciones.jpg"/>
          <p:cNvPicPr/>
          <p:nvPr/>
        </p:nvPicPr>
        <p:blipFill>
          <a:blip r:embed="rId2"/>
          <a:stretch/>
        </p:blipFill>
        <p:spPr>
          <a:xfrm>
            <a:off x="357120" y="1000080"/>
            <a:ext cx="425448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9" name="Picture 6" descr="C:\Documents and Settings\Alejandra Avila.ALITA\Escritorio\dinamica\new\Dinamica-2-aplicaciones.jpg"/>
          <p:cNvPicPr/>
          <p:nvPr/>
        </p:nvPicPr>
        <p:blipFill>
          <a:blip r:embed="rId2"/>
          <a:stretch/>
        </p:blipFill>
        <p:spPr>
          <a:xfrm>
            <a:off x="214200" y="1000080"/>
            <a:ext cx="450072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85" name="Picture 6" descr="C:\Documents and Settings\Alejandra Avila.ALITA\Escritorio\dinamica\new\Dinamica-2b-aplicaciones.jpg"/>
          <p:cNvPicPr/>
          <p:nvPr/>
        </p:nvPicPr>
        <p:blipFill>
          <a:blip r:embed="rId2"/>
          <a:stretch/>
        </p:blipFill>
        <p:spPr>
          <a:xfrm>
            <a:off x="357120" y="1000080"/>
            <a:ext cx="42242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1" name="Picture 1030" descr="C:\Documents and Settings\Alejandra Avila.ALITA\Escritorio\dinamica\new\Dinamica-2c-aplicaciones.jpg"/>
          <p:cNvPicPr/>
          <p:nvPr/>
        </p:nvPicPr>
        <p:blipFill>
          <a:blip r:embed="rId2"/>
          <a:stretch/>
        </p:blipFill>
        <p:spPr>
          <a:xfrm>
            <a:off x="380880" y="952560"/>
            <a:ext cx="440532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7" name="Picture 6" descr="C:\Documents and Settings\Alejandra Avila.ALITA\Escritorio\dinamica\new\Dinamica-2d-aplicaciones.jpg"/>
          <p:cNvPicPr/>
          <p:nvPr/>
        </p:nvPicPr>
        <p:blipFill>
          <a:blip r:embed="rId2"/>
          <a:stretch/>
        </p:blipFill>
        <p:spPr>
          <a:xfrm>
            <a:off x="382680" y="990720"/>
            <a:ext cx="418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3" name="Picture 6" descr="C:\Documents and Settings\Alejandra Avila.ALITA\Escritorio\dinamica\new\Dinamica-2e-aplicaciones.jpg"/>
          <p:cNvPicPr/>
          <p:nvPr/>
        </p:nvPicPr>
        <p:blipFill>
          <a:blip r:embed="rId2"/>
          <a:stretch/>
        </p:blipFill>
        <p:spPr>
          <a:xfrm>
            <a:off x="330120" y="990720"/>
            <a:ext cx="4021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09" name="Picture 6" descr="C:\Documents and Settings\Alejandra Avila.ALITA\Escritorio\dinamica\new\Dinamica-2f-aplicaciones.jpg"/>
          <p:cNvPicPr/>
          <p:nvPr/>
        </p:nvPicPr>
        <p:blipFill>
          <a:blip r:embed="rId2"/>
          <a:stretch/>
        </p:blipFill>
        <p:spPr>
          <a:xfrm>
            <a:off x="330120" y="1066680"/>
            <a:ext cx="424188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5" name="Picture 6" descr="C:\Documents and Settings\Alejandra Avila.ALITA\Escritorio\dinamica\new\Dinamica-2g-aplicaciones.jpg"/>
          <p:cNvPicPr/>
          <p:nvPr/>
        </p:nvPicPr>
        <p:blipFill>
          <a:blip r:embed="rId2"/>
          <a:stretch/>
        </p:blipFill>
        <p:spPr>
          <a:xfrm>
            <a:off x="304920" y="1214280"/>
            <a:ext cx="43844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1" name="Picture 6" descr="C:\Documents and Settings\Alejandra Avila.ALITA\Escritorio\dinamica\new\Dinamica-2h-aplicaciones.jpg"/>
          <p:cNvPicPr/>
          <p:nvPr/>
        </p:nvPicPr>
        <p:blipFill>
          <a:blip r:embed="rId2"/>
          <a:stretch/>
        </p:blipFill>
        <p:spPr>
          <a:xfrm>
            <a:off x="295200" y="990720"/>
            <a:ext cx="4133880" cy="5607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8" descr="C:\alita\Ev\Fisica 2004\clases\clase_18\new\Dinamica-3b.jpg"/>
          <p:cNvPicPr/>
          <p:nvPr/>
        </p:nvPicPr>
        <p:blipFill>
          <a:blip r:embed="rId2"/>
          <a:stretch/>
        </p:blipFill>
        <p:spPr>
          <a:xfrm>
            <a:off x="403200" y="990720"/>
            <a:ext cx="402588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7572240" y="4000680"/>
            <a:ext cx="878040" cy="225252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8"/>
          <p:cNvGrpSpPr/>
          <p:nvPr/>
        </p:nvGrpSpPr>
        <p:grpSpPr>
          <a:xfrm>
            <a:off x="7358040" y="1714680"/>
            <a:ext cx="1143000" cy="2004840"/>
            <a:chOff x="7358040" y="1714680"/>
            <a:chExt cx="1143000" cy="2004840"/>
          </a:xfrm>
        </p:grpSpPr>
        <p:sp>
          <p:nvSpPr>
            <p:cNvPr id="229" name="Oval 23"/>
            <p:cNvSpPr/>
            <p:nvPr/>
          </p:nvSpPr>
          <p:spPr>
            <a:xfrm>
              <a:off x="7700040" y="2013120"/>
              <a:ext cx="317520" cy="3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0" name="Oval 22"/>
            <p:cNvSpPr/>
            <p:nvPr/>
          </p:nvSpPr>
          <p:spPr>
            <a:xfrm>
              <a:off x="7555680" y="2558160"/>
              <a:ext cx="317520" cy="31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1" name="Rectangle 21"/>
            <p:cNvSpPr/>
            <p:nvPr/>
          </p:nvSpPr>
          <p:spPr>
            <a:xfrm>
              <a:off x="7484760" y="1714680"/>
              <a:ext cx="825480" cy="622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2" name="Line 20"/>
            <p:cNvSpPr/>
            <p:nvPr/>
          </p:nvSpPr>
          <p:spPr>
            <a:xfrm>
              <a:off x="7866000" y="1776960"/>
              <a:ext cx="3240" cy="41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8022960" y="21729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7696800" y="2172960"/>
              <a:ext cx="504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7544880" y="271116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6" name="Line 16"/>
            <p:cNvSpPr/>
            <p:nvPr/>
          </p:nvSpPr>
          <p:spPr>
            <a:xfrm>
              <a:off x="7878240" y="2702160"/>
              <a:ext cx="6840" cy="7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7" name="Text Box 15"/>
            <p:cNvSpPr/>
            <p:nvPr/>
          </p:nvSpPr>
          <p:spPr>
            <a:xfrm>
              <a:off x="7929360" y="2526840"/>
              <a:ext cx="25380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M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8" name="Text Box 14"/>
            <p:cNvSpPr/>
            <p:nvPr/>
          </p:nvSpPr>
          <p:spPr>
            <a:xfrm>
              <a:off x="7364880" y="3013200"/>
              <a:ext cx="317520" cy="18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m</a:t>
              </a:r>
              <a:r>
                <a:rPr b="0" lang="es-ES" sz="1000" spc="-1" strike="noStrike" baseline="-30000">
                  <a:solidFill>
                    <a:srgbClr val="0000ff"/>
                  </a:solidFill>
                  <a:latin typeface="Verdana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9" name="Text Box 13"/>
            <p:cNvSpPr/>
            <p:nvPr/>
          </p:nvSpPr>
          <p:spPr>
            <a:xfrm>
              <a:off x="7746120" y="3469680"/>
              <a:ext cx="317520" cy="24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m</a:t>
              </a:r>
              <a:r>
                <a:rPr b="0" lang="es-ES" sz="1200" spc="-1" strike="noStrike" baseline="-30000">
                  <a:solidFill>
                    <a:srgbClr val="0000ff"/>
                  </a:solidFill>
                  <a:latin typeface="Verdana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8373960" y="2901960"/>
              <a:ext cx="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8183520" y="2964600"/>
              <a:ext cx="317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g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2" name="Text Box 10"/>
            <p:cNvSpPr/>
            <p:nvPr/>
          </p:nvSpPr>
          <p:spPr>
            <a:xfrm>
              <a:off x="8056440" y="2027160"/>
              <a:ext cx="2538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7358040" y="2589480"/>
              <a:ext cx="317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244" name="Rectangle 24"/>
          <p:cNvSpPr/>
          <p:nvPr/>
        </p:nvSpPr>
        <p:spPr>
          <a:xfrm>
            <a:off x="500040" y="1784520"/>
            <a:ext cx="64292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  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a.- En el sistema de poleas de la figura de la derecha, la masa M fue elegida cuidadosamente de manera que se mantiene en equilibrio con la polea B, que la consideramos sin masa ni roce.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         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Las masas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y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si están en movimiento.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        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Si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= 2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, encuentre el valor de la masa M en función de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y g, que logra mantenerse en  equilibrio con la polea B.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Conviene pensar qué sucedería si, por ejemplo, la masa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es una mosca y m</a:t>
            </a:r>
            <a:r>
              <a:rPr b="0" lang="es-ES" sz="11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un kg: Si Ud. Sostiene la polea B, ¿qué fuerza debe ejercer para sostener el sistema?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b.- Hacer el DCL de la persona ubicada dentro del contenedor (Figura de la izquierda) y escribir las ecuaciones correspondientes del DCL de la persona y el contenedor. Considere dos casos: la persona se mueve con rapidez constante  y la persona (y por tanto el contenedor) se mueve con aceleración constante. (El movimiento es vertical)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ff"/>
                </a:solidFill>
                <a:latin typeface="Verdana"/>
                <a:ea typeface="Times New Roman"/>
              </a:rPr>
              <a:t>La polea superior está sostenida desde el techo y el contenedor no toca el piso.</a:t>
            </a: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0" y="37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7" name="26 CuadroTexto"/>
          <p:cNvSpPr/>
          <p:nvPr/>
        </p:nvSpPr>
        <p:spPr>
          <a:xfrm>
            <a:off x="609480" y="1071720"/>
            <a:ext cx="31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valuación # 2 (Viernes 14 de Mayo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9" descr="C:\alita\Ev\Fisica 2004\clases\clase_18\new\Dinamica-3c.jpg"/>
          <p:cNvPicPr/>
          <p:nvPr/>
        </p:nvPicPr>
        <p:blipFill>
          <a:blip r:embed="rId2">
            <a:lum contrast="6000"/>
          </a:blip>
          <a:srcRect l="6199" t="0" r="0" b="0"/>
          <a:stretch/>
        </p:blipFill>
        <p:spPr>
          <a:xfrm>
            <a:off x="304920" y="1523880"/>
            <a:ext cx="46116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9" descr="C:\alita\Ev\Fisica 2004\clases\clase_18\new\Dinamica-3d.jpg"/>
          <p:cNvPicPr/>
          <p:nvPr/>
        </p:nvPicPr>
        <p:blipFill>
          <a:blip r:embed="rId2"/>
          <a:stretch/>
        </p:blipFill>
        <p:spPr>
          <a:xfrm>
            <a:off x="357120" y="1214280"/>
            <a:ext cx="406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14200" y="1000080"/>
            <a:ext cx="24577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9" descr="C:\alita\Ev\Fisica 2004\clases\clase_18\new\Dinamica-4a.jpg"/>
          <p:cNvPicPr/>
          <p:nvPr/>
        </p:nvPicPr>
        <p:blipFill>
          <a:blip r:embed="rId2"/>
          <a:stretch/>
        </p:blipFill>
        <p:spPr>
          <a:xfrm>
            <a:off x="652320" y="1066680"/>
            <a:ext cx="39196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6" descr="C:\alita\Ev\Fisica 2004\clases\clase_18\new\Dinamica-4b.jpg"/>
          <p:cNvPicPr/>
          <p:nvPr/>
        </p:nvPicPr>
        <p:blipFill>
          <a:blip r:embed="rId2"/>
          <a:stretch/>
        </p:blipFill>
        <p:spPr>
          <a:xfrm>
            <a:off x="244440" y="1066680"/>
            <a:ext cx="4327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2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6" descr="C:\alita\Ev\Fisica 2004\clases\clase_18\new\Dinamica-4c.jpg"/>
          <p:cNvPicPr/>
          <p:nvPr/>
        </p:nvPicPr>
        <p:blipFill>
          <a:blip r:embed="rId2"/>
          <a:stretch/>
        </p:blipFill>
        <p:spPr>
          <a:xfrm>
            <a:off x="285840" y="1000080"/>
            <a:ext cx="425124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5-16T01:41:45Z</dcterms:modified>
  <cp:revision>47</cp:revision>
  <dc:subject/>
  <dc:title>Introducción a la Física Newtoniana </dc:title>
</cp:coreProperties>
</file>