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270F-C0D4-4723-ACC4-EFC46A0C62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EE11-95F1-4ADB-8864-72B5ED7997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F44D-0DE0-48F7-8D8D-83380B03C0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B319-414F-4AB4-9A35-CF771679E7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6616-8688-4893-8C84-F22E66FD95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00CB-C1A7-4A28-AEE1-4099E4C45C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9697-766C-4CB3-8BF8-AFCBC0CF86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26B2-C730-4292-BBF6-E40273FF07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1CEE-F0C4-415E-9B83-8D035D41EF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3608-273D-4107-998B-527578720B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0285-52D7-4CC8-B16B-0DA4AA3F12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5D8B-40E5-4D42-8B7D-D2C9776533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43D4-A937-4A61-9009-628AF4CE76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3D66-59F0-494B-B70A-AE3BAFF3B0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E10D-16E7-49F2-8FA9-BB42996C7E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F472-7F72-48C1-8240-ACFF8DBB73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BC61-E375-4114-A98C-B54C1A8F8C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CAE1-3C53-4E88-82DA-D89B5F4956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367C-F6B2-44EE-A7EE-2EA98E01A2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2607-3BB5-47AA-BECF-9660B6EFF8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BE08-F62F-4F28-97CE-D2C068706B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45B7-DC8F-4740-B687-A1B16D3C2A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8EC9-47A9-4981-A87E-1460E1FDF7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D0DD-5526-44EB-8F7C-1D9524D9FE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1A82-A64D-4EFA-98EF-D0EB89CF1A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2F3B-183F-4A0E-9918-E3182069C6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36DC-FBC7-4179-8F5A-FBEE79F6F9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3D73-367C-47A6-A24B-0B39C9EE64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B3D1-DC2F-4F3D-822B-AD6CB06D8C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1D09-F76D-4251-B223-987433D254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E887-BE98-4164-855E-57D44DA5B1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0463-CE57-4B1B-A634-665FFEF6EC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FE7-A6B7-4A94-8CDE-7AC54ADF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0A3-D66B-45AC-89EA-DB55C5DA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B65-C24A-4DBA-B02E-3DC677A3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A20-0AD3-4747-BF93-B8293F6B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975-C378-4FE2-A57D-20C4B698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B65-A2CE-45B2-8FC4-3295A97A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4C1-73A9-452E-8AA3-B2114CFD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4F0-F857-4887-BE7A-DB9A2738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D09-F9B8-4BD3-B3BA-D1F65B0C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D00-36A4-450F-978F-4BAF246B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751-98DC-480B-B2C2-328E7674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64F-CE4E-401F-BB27-BD3A64C0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CAB6-891D-47FD-8E18-961CD3176F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22" descr="C:\alita\Ev\Fisica 2004\clases\clase_18\new\Dinamica-3.jpg"/>
          <p:cNvPicPr/>
          <p:nvPr/>
        </p:nvPicPr>
        <p:blipFill>
          <a:blip r:embed="rId2"/>
          <a:stretch/>
        </p:blipFill>
        <p:spPr>
          <a:xfrm>
            <a:off x="380880" y="1066680"/>
            <a:ext cx="4133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6" descr="C:\alita\Ev\Fisica 2004\clases\clase_18\new\Dinamica-4d.jpg"/>
          <p:cNvPicPr/>
          <p:nvPr/>
        </p:nvPicPr>
        <p:blipFill>
          <a:blip r:embed="rId2"/>
          <a:stretch/>
        </p:blipFill>
        <p:spPr>
          <a:xfrm>
            <a:off x="380880" y="1066680"/>
            <a:ext cx="41799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10" descr="C:\Documents and Settings\Alejandra Avila.ALITA\Escritorio\dinamica\new\Dinamica-1-aplicaciones.jpg"/>
          <p:cNvPicPr/>
          <p:nvPr/>
        </p:nvPicPr>
        <p:blipFill>
          <a:blip r:embed="rId2"/>
          <a:stretch/>
        </p:blipFill>
        <p:spPr>
          <a:xfrm>
            <a:off x="388800" y="1066680"/>
            <a:ext cx="4183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10" descr="C:\Documents and Settings\Alejandra Avila.ALITA\Escritorio\dinamica\new\Dinamica-1-aplicaciones.jpg"/>
          <p:cNvPicPr/>
          <p:nvPr/>
        </p:nvPicPr>
        <p:blipFill>
          <a:blip r:embed="rId2"/>
          <a:stretch/>
        </p:blipFill>
        <p:spPr>
          <a:xfrm>
            <a:off x="388800" y="1066680"/>
            <a:ext cx="4183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3" descr="C:\Documents and Settings\Alejandra Avila.ALITA\Escritorio\dinamica\new\Dinamica-1a-aplicaciones.jpg"/>
          <p:cNvPicPr/>
          <p:nvPr/>
        </p:nvPicPr>
        <p:blipFill>
          <a:blip r:embed="rId2"/>
          <a:stretch/>
        </p:blipFill>
        <p:spPr>
          <a:xfrm>
            <a:off x="428760" y="1143000"/>
            <a:ext cx="399384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9" descr="C:\Documents and Settings\Alejandra Avila.ALITA\Escritorio\dinamica\new\Dinamica-1b-aplicaciones.jpg"/>
          <p:cNvPicPr/>
          <p:nvPr/>
        </p:nvPicPr>
        <p:blipFill>
          <a:blip r:embed="rId2"/>
          <a:stretch/>
        </p:blipFill>
        <p:spPr>
          <a:xfrm>
            <a:off x="351000" y="1042920"/>
            <a:ext cx="4221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10" descr="C:\Documents and Settings\Alejandra Avila.ALITA\Escritorio\dinamica\new\Dinamica-1c-aplicaciones.jpg"/>
          <p:cNvPicPr/>
          <p:nvPr/>
        </p:nvPicPr>
        <p:blipFill>
          <a:blip r:embed="rId2"/>
          <a:stretch/>
        </p:blipFill>
        <p:spPr>
          <a:xfrm>
            <a:off x="426960" y="990720"/>
            <a:ext cx="437364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3" name="Picture 10" descr="C:\Documents and Settings\Alejandra Avila.ALITA\Escritorio\dinamica\new\Dinamica-1d-aplicaciones.jpg"/>
          <p:cNvPicPr/>
          <p:nvPr/>
        </p:nvPicPr>
        <p:blipFill>
          <a:blip r:embed="rId2"/>
          <a:stretch/>
        </p:blipFill>
        <p:spPr>
          <a:xfrm>
            <a:off x="360360" y="1023840"/>
            <a:ext cx="435456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C:\Documents and Settings\Alejandra Avila.ALITA\Escritorio\dinamica\new\Dinamica-1e-aplicaciones.jpg"/>
          <p:cNvPicPr/>
          <p:nvPr/>
        </p:nvPicPr>
        <p:blipFill>
          <a:blip r:embed="rId2"/>
          <a:stretch/>
        </p:blipFill>
        <p:spPr>
          <a:xfrm>
            <a:off x="392040" y="1066680"/>
            <a:ext cx="4251240" cy="5570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764388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10" descr="C:\Documents and Settings\Alejandra Avila.ALITA\Escritorio\dinamica\new\Dinamica-1f-aplicaciones.jpg"/>
          <p:cNvPicPr/>
          <p:nvPr/>
        </p:nvPicPr>
        <p:blipFill>
          <a:blip r:embed="rId2"/>
          <a:srcRect l="0" t="0" r="8252" b="0"/>
          <a:stretch/>
        </p:blipFill>
        <p:spPr>
          <a:xfrm>
            <a:off x="336600" y="985680"/>
            <a:ext cx="409248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1" name="Picture 7" descr="C:\Documents and Settings\Alejandra Avila.ALITA\Escritorio\dinamica\new\Dinamica-1g-aplicaciones.jpg"/>
          <p:cNvPicPr/>
          <p:nvPr/>
        </p:nvPicPr>
        <p:blipFill>
          <a:blip r:embed="rId2"/>
          <a:stretch/>
        </p:blipFill>
        <p:spPr>
          <a:xfrm>
            <a:off x="285840" y="1285920"/>
            <a:ext cx="39114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9" descr="C:\alita\Ev\Fisica 2004\clases\clase_18\new\Dinamica-3a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990720" y="1219320"/>
            <a:ext cx="32684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7" name="Picture 7" descr="C:\Documents and Settings\Alejandra Avila.ALITA\Escritorio\dinamica\new\Dinamica-1h-aplicaciones.jpg"/>
          <p:cNvPicPr/>
          <p:nvPr/>
        </p:nvPicPr>
        <p:blipFill>
          <a:blip r:embed="rId2"/>
          <a:stretch/>
        </p:blipFill>
        <p:spPr>
          <a:xfrm>
            <a:off x="109440" y="971640"/>
            <a:ext cx="424836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3" name="Picture 7" descr="C:\Documents and Settings\Alejandra Avila.ALITA\Escritorio\dinamica\new\Dinamica-2a-aplicaciones.jpg"/>
          <p:cNvPicPr/>
          <p:nvPr/>
        </p:nvPicPr>
        <p:blipFill>
          <a:blip r:embed="rId2"/>
          <a:stretch/>
        </p:blipFill>
        <p:spPr>
          <a:xfrm>
            <a:off x="357120" y="1000080"/>
            <a:ext cx="425448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9" name="Picture 6" descr="C:\Documents and Settings\Alejandra Avila.ALITA\Escritorio\dinamica\new\Dinamica-2-aplicaciones.jpg"/>
          <p:cNvPicPr/>
          <p:nvPr/>
        </p:nvPicPr>
        <p:blipFill>
          <a:blip r:embed="rId2"/>
          <a:stretch/>
        </p:blipFill>
        <p:spPr>
          <a:xfrm>
            <a:off x="214200" y="1000080"/>
            <a:ext cx="450072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85" name="Picture 6" descr="C:\Documents and Settings\Alejandra Avila.ALITA\Escritorio\dinamica\new\Dinamica-2b-aplicaciones.jpg"/>
          <p:cNvPicPr/>
          <p:nvPr/>
        </p:nvPicPr>
        <p:blipFill>
          <a:blip r:embed="rId2"/>
          <a:stretch/>
        </p:blipFill>
        <p:spPr>
          <a:xfrm>
            <a:off x="357120" y="1000080"/>
            <a:ext cx="42242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91" name="Picture 1030" descr="C:\Documents and Settings\Alejandra Avila.ALITA\Escritorio\dinamica\new\Dinamica-2c-aplicaciones.jpg"/>
          <p:cNvPicPr/>
          <p:nvPr/>
        </p:nvPicPr>
        <p:blipFill>
          <a:blip r:embed="rId2"/>
          <a:stretch/>
        </p:blipFill>
        <p:spPr>
          <a:xfrm>
            <a:off x="380880" y="952560"/>
            <a:ext cx="440532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97" name="Picture 6" descr="C:\Documents and Settings\Alejandra Avila.ALITA\Escritorio\dinamica\new\Dinamica-2d-aplicaciones.jpg"/>
          <p:cNvPicPr/>
          <p:nvPr/>
        </p:nvPicPr>
        <p:blipFill>
          <a:blip r:embed="rId2"/>
          <a:stretch/>
        </p:blipFill>
        <p:spPr>
          <a:xfrm>
            <a:off x="382680" y="990720"/>
            <a:ext cx="418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03" name="Picture 6" descr="C:\Documents and Settings\Alejandra Avila.ALITA\Escritorio\dinamica\new\Dinamica-2e-aplicaciones.jpg"/>
          <p:cNvPicPr/>
          <p:nvPr/>
        </p:nvPicPr>
        <p:blipFill>
          <a:blip r:embed="rId2"/>
          <a:stretch/>
        </p:blipFill>
        <p:spPr>
          <a:xfrm>
            <a:off x="330120" y="990720"/>
            <a:ext cx="4021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09" name="Picture 6" descr="C:\Documents and Settings\Alejandra Avila.ALITA\Escritorio\dinamica\new\Dinamica-2f-aplicaciones.jpg"/>
          <p:cNvPicPr/>
          <p:nvPr/>
        </p:nvPicPr>
        <p:blipFill>
          <a:blip r:embed="rId2"/>
          <a:stretch/>
        </p:blipFill>
        <p:spPr>
          <a:xfrm>
            <a:off x="330120" y="1066680"/>
            <a:ext cx="424188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15" name="Picture 6" descr="C:\Documents and Settings\Alejandra Avila.ALITA\Escritorio\dinamica\new\Dinamica-2g-aplicaciones.jpg"/>
          <p:cNvPicPr/>
          <p:nvPr/>
        </p:nvPicPr>
        <p:blipFill>
          <a:blip r:embed="rId2"/>
          <a:stretch/>
        </p:blipFill>
        <p:spPr>
          <a:xfrm>
            <a:off x="304920" y="1214280"/>
            <a:ext cx="438444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21" name="Picture 6" descr="C:\Documents and Settings\Alejandra Avila.ALITA\Escritorio\dinamica\new\Dinamica-2h-aplicaciones.jpg"/>
          <p:cNvPicPr/>
          <p:nvPr/>
        </p:nvPicPr>
        <p:blipFill>
          <a:blip r:embed="rId2"/>
          <a:stretch/>
        </p:blipFill>
        <p:spPr>
          <a:xfrm>
            <a:off x="295200" y="990720"/>
            <a:ext cx="4133880" cy="5607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764388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8" descr="C:\alita\Ev\Fisica 2004\clases\clase_18\new\Dinamica-3b.jpg"/>
          <p:cNvPicPr/>
          <p:nvPr/>
        </p:nvPicPr>
        <p:blipFill>
          <a:blip r:embed="rId2"/>
          <a:stretch/>
        </p:blipFill>
        <p:spPr>
          <a:xfrm>
            <a:off x="403200" y="990720"/>
            <a:ext cx="402588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2"/>
          <a:stretch/>
        </p:blipFill>
        <p:spPr>
          <a:xfrm>
            <a:off x="7572240" y="4000680"/>
            <a:ext cx="878040" cy="225252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8"/>
          <p:cNvGrpSpPr/>
          <p:nvPr/>
        </p:nvGrpSpPr>
        <p:grpSpPr>
          <a:xfrm>
            <a:off x="7358040" y="1714680"/>
            <a:ext cx="1143000" cy="2004840"/>
            <a:chOff x="7358040" y="1714680"/>
            <a:chExt cx="1143000" cy="2004840"/>
          </a:xfrm>
        </p:grpSpPr>
        <p:sp>
          <p:nvSpPr>
            <p:cNvPr id="229" name="Oval 23"/>
            <p:cNvSpPr/>
            <p:nvPr/>
          </p:nvSpPr>
          <p:spPr>
            <a:xfrm>
              <a:off x="7700040" y="2013120"/>
              <a:ext cx="317520" cy="31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0" name="Oval 22"/>
            <p:cNvSpPr/>
            <p:nvPr/>
          </p:nvSpPr>
          <p:spPr>
            <a:xfrm>
              <a:off x="7555680" y="2558160"/>
              <a:ext cx="317520" cy="31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1" name="Rectangle 21"/>
            <p:cNvSpPr/>
            <p:nvPr/>
          </p:nvSpPr>
          <p:spPr>
            <a:xfrm>
              <a:off x="7484760" y="1714680"/>
              <a:ext cx="825480" cy="622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2" name="Line 20"/>
            <p:cNvSpPr/>
            <p:nvPr/>
          </p:nvSpPr>
          <p:spPr>
            <a:xfrm>
              <a:off x="7866000" y="1776960"/>
              <a:ext cx="3240" cy="41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3" name="Line 19"/>
            <p:cNvSpPr/>
            <p:nvPr/>
          </p:nvSpPr>
          <p:spPr>
            <a:xfrm>
              <a:off x="8022960" y="21729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4" name="Line 18"/>
            <p:cNvSpPr/>
            <p:nvPr/>
          </p:nvSpPr>
          <p:spPr>
            <a:xfrm>
              <a:off x="7696800" y="2172960"/>
              <a:ext cx="5040" cy="52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7544880" y="271116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6" name="Line 16"/>
            <p:cNvSpPr/>
            <p:nvPr/>
          </p:nvSpPr>
          <p:spPr>
            <a:xfrm>
              <a:off x="7878240" y="2702160"/>
              <a:ext cx="6840" cy="76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7" name="Text Box 15"/>
            <p:cNvSpPr/>
            <p:nvPr/>
          </p:nvSpPr>
          <p:spPr>
            <a:xfrm>
              <a:off x="7929360" y="2526840"/>
              <a:ext cx="253800" cy="18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M</a:t>
              </a:r>
              <a:endParaRPr b="0" lang="en-US" sz="12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8" name="Text Box 14"/>
            <p:cNvSpPr/>
            <p:nvPr/>
          </p:nvSpPr>
          <p:spPr>
            <a:xfrm>
              <a:off x="7364880" y="3013200"/>
              <a:ext cx="317520" cy="18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m</a:t>
              </a:r>
              <a:r>
                <a:rPr b="0" lang="es-ES" sz="1000" spc="-1" strike="noStrike" baseline="-30000">
                  <a:solidFill>
                    <a:srgbClr val="0000ff"/>
                  </a:solidFill>
                  <a:latin typeface="Verdana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9" name="Text Box 13"/>
            <p:cNvSpPr/>
            <p:nvPr/>
          </p:nvSpPr>
          <p:spPr>
            <a:xfrm>
              <a:off x="7746120" y="3469680"/>
              <a:ext cx="317520" cy="24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m</a:t>
              </a:r>
              <a:r>
                <a:rPr b="0" lang="es-ES" sz="1200" spc="-1" strike="noStrike" baseline="-30000">
                  <a:solidFill>
                    <a:srgbClr val="0000ff"/>
                  </a:solidFill>
                  <a:latin typeface="Verdana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8373960" y="2901960"/>
              <a:ext cx="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41" name="Text Box 11"/>
            <p:cNvSpPr/>
            <p:nvPr/>
          </p:nvSpPr>
          <p:spPr>
            <a:xfrm>
              <a:off x="8183520" y="2964600"/>
              <a:ext cx="317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g</a:t>
              </a:r>
              <a:endParaRPr b="0" lang="en-US" sz="12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42" name="Text Box 10"/>
            <p:cNvSpPr/>
            <p:nvPr/>
          </p:nvSpPr>
          <p:spPr>
            <a:xfrm>
              <a:off x="8056440" y="2027160"/>
              <a:ext cx="25380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7358040" y="2589480"/>
              <a:ext cx="317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244" name="Rectangle 24"/>
          <p:cNvSpPr/>
          <p:nvPr/>
        </p:nvSpPr>
        <p:spPr>
          <a:xfrm>
            <a:off x="500040" y="1784520"/>
            <a:ext cx="642924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  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a.- En el sistema de poleas de la figura de la derecha, la masa M fue elegida cuidadosamente de manera que se mantiene en equilibrio con la polea B, que la consideramos sin masa ni roce. 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         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Las masas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y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si están en movimiento. 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        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Si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= 2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, encuentre el valor de la masa M en función de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y g, que logra mantenerse en  equilibrio con la polea B.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Conviene pensar qué sucedería si, por ejemplo, la masa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es una mosca y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un kg: Si Ud. Sostiene la polea B, ¿qué fuerza debe ejercer para sostener el sistema? 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b.- Hacer el DCL de la persona ubicada dentro del contenedor (Figura de la izquierda) y escribir las ecuaciones correspondientes del DCL de la persona y el contenedor. Considere dos casos: la persona se mueve con rapidez constante  y la persona (y por tanto el contenedor) se mueve con aceleración constante. (El movimiento es vertical)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La polea superior está sostenida desde el techo y el contenedor no toca el piso.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0" y="37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7" name="26 CuadroTexto"/>
          <p:cNvSpPr/>
          <p:nvPr/>
        </p:nvSpPr>
        <p:spPr>
          <a:xfrm>
            <a:off x="609480" y="1071720"/>
            <a:ext cx="31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valuación # 2 (Viernes 14 de Mayo)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9" descr="C:\alita\Ev\Fisica 2004\clases\clase_18\new\Dinamica-3c.jpg"/>
          <p:cNvPicPr/>
          <p:nvPr/>
        </p:nvPicPr>
        <p:blipFill>
          <a:blip r:embed="rId2">
            <a:lum contrast="6000"/>
          </a:blip>
          <a:srcRect l="6199" t="0" r="0" b="0"/>
          <a:stretch/>
        </p:blipFill>
        <p:spPr>
          <a:xfrm>
            <a:off x="304920" y="1523880"/>
            <a:ext cx="46116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9" descr="C:\alita\Ev\Fisica 2004\clases\clase_18\new\Dinamica-3d.jpg"/>
          <p:cNvPicPr/>
          <p:nvPr/>
        </p:nvPicPr>
        <p:blipFill>
          <a:blip r:embed="rId2"/>
          <a:stretch/>
        </p:blipFill>
        <p:spPr>
          <a:xfrm>
            <a:off x="357120" y="1214280"/>
            <a:ext cx="4062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214200" y="1000080"/>
            <a:ext cx="24577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9" descr="C:\alita\Ev\Fisica 2004\clases\clase_18\new\Dinamica-4a.jpg"/>
          <p:cNvPicPr/>
          <p:nvPr/>
        </p:nvPicPr>
        <p:blipFill>
          <a:blip r:embed="rId2"/>
          <a:stretch/>
        </p:blipFill>
        <p:spPr>
          <a:xfrm>
            <a:off x="652320" y="1066680"/>
            <a:ext cx="391968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6" descr="C:\alita\Ev\Fisica 2004\clases\clase_18\new\Dinamica-4b.jpg"/>
          <p:cNvPicPr/>
          <p:nvPr/>
        </p:nvPicPr>
        <p:blipFill>
          <a:blip r:embed="rId2"/>
          <a:stretch/>
        </p:blipFill>
        <p:spPr>
          <a:xfrm>
            <a:off x="244440" y="1066680"/>
            <a:ext cx="4327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6" descr="C:\alita\Ev\Fisica 2004\clases\clase_18\new\Dinamica-4c.jpg"/>
          <p:cNvPicPr/>
          <p:nvPr/>
        </p:nvPicPr>
        <p:blipFill>
          <a:blip r:embed="rId2"/>
          <a:stretch/>
        </p:blipFill>
        <p:spPr>
          <a:xfrm>
            <a:off x="285840" y="1000080"/>
            <a:ext cx="425124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5-16T01:41:45Z</dcterms:modified>
  <cp:revision>47</cp:revision>
  <dc:subject/>
  <dc:title>Introducción a la Física Newtoniana </dc:title>
</cp:coreProperties>
</file>