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B5CD-B6CE-4A1D-9A1F-23B0B84D570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CE09-AAA1-4E66-9E43-9E637AF1FD2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0AC5-AD1D-45D6-B1C3-4EFEC6B8A81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0BB1-CA18-42E0-96FB-B0FA2724924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9837-D231-49CA-9B45-AF740F6FDB5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308C-AFAD-4342-8CDA-0DA4558B007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1E2C-A489-4FCF-B907-18878AF381B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401C-DA31-4024-B6BE-8DBC87FC72C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BBF9-2C31-467E-861D-12BBA8067BA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C647-4743-4C9C-ADE0-F4551FDAD6F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7A41-9976-4F65-8224-C624A3E9FE5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9D56-22E1-46E8-AB5D-46C39BE60DD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61DB-C0B0-4E5F-8061-03315AA804D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BE3E-FC1E-4FCB-B01A-AAA5E14BBC4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2FAE-5310-4579-9A35-544519D3E20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6E0A-BD11-4EB9-BE86-AAA771BD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F161-9AB0-4F1D-B806-A150B2D4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9797-0A9D-4D20-A361-C919532B9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EABB-BA42-4AC9-A501-E9F0EF31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6480-730F-49A0-81C3-D1B470A2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B18D-4407-4E84-B574-5C0C7841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2602-9E99-47DA-B7B5-207EAC12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53F3-3C7E-4BF2-836E-ACF76C32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F037-6320-476B-B69A-38CBA1BA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8C15-7F8E-4D39-83DA-5DA4247D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E374-EA12-45F4-8977-B2F8E20D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D88B-669B-4FAC-82A4-891E60CB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FF15-12F1-49BC-94D5-78ACC1E941E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1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3" name="Picture 22" descr="C:\Documents and Settings\Alejandra Avila.ALITA\Escritorio\clase_17\new\Dinamica-1.jpg"/>
          <p:cNvPicPr/>
          <p:nvPr/>
        </p:nvPicPr>
        <p:blipFill>
          <a:blip r:embed="rId2"/>
          <a:stretch/>
        </p:blipFill>
        <p:spPr>
          <a:xfrm>
            <a:off x="390600" y="1143000"/>
            <a:ext cx="433368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4859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1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8" name="Picture 6" descr="C:\Documents and Settings\Alejandra Avila.ALITA\Escritorio\clase_17\new\Dinamica-2d.jpg"/>
          <p:cNvPicPr/>
          <p:nvPr/>
        </p:nvPicPr>
        <p:blipFill>
          <a:blip r:embed="rId2"/>
          <a:stretch/>
        </p:blipFill>
        <p:spPr>
          <a:xfrm>
            <a:off x="169920" y="1417680"/>
            <a:ext cx="463860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1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4" name="Picture 6" descr="C:\Documents and Settings\Alejandra Avila.ALITA\Escritorio\clase_17\new\Dinamica-2e.jpg"/>
          <p:cNvPicPr/>
          <p:nvPr/>
        </p:nvPicPr>
        <p:blipFill>
          <a:blip r:embed="rId2"/>
          <a:stretch/>
        </p:blipFill>
        <p:spPr>
          <a:xfrm>
            <a:off x="380880" y="1058760"/>
            <a:ext cx="430848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48736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1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0" name="Picture 6" descr="C:\Documents and Settings\Alejandra Avila.ALITA\Escritorio\clase_17\new\Dinamica-2f.jpg"/>
          <p:cNvPicPr/>
          <p:nvPr/>
        </p:nvPicPr>
        <p:blipFill>
          <a:blip r:embed="rId2"/>
          <a:srcRect l="6406" t="6101" r="8999" b="7318"/>
          <a:stretch/>
        </p:blipFill>
        <p:spPr>
          <a:xfrm>
            <a:off x="125280" y="1371600"/>
            <a:ext cx="4675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48736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1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6" name="Picture 6" descr="C:\Documents and Settings\Alejandra Avila.ALITA\Escritorio\clase_17\new\Dinamica-2g.jpg"/>
          <p:cNvPicPr/>
          <p:nvPr/>
        </p:nvPicPr>
        <p:blipFill>
          <a:blip r:embed="rId2"/>
          <a:srcRect l="5986" t="4690" r="5426" b="10941"/>
          <a:stretch/>
        </p:blipFill>
        <p:spPr>
          <a:xfrm>
            <a:off x="384120" y="1371600"/>
            <a:ext cx="4424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1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1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10" descr="C:\Documents and Settings\Alejandra Avila.ALITA\Escritorio\clase_17\new\Dinamica-1a.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57120" y="971640"/>
            <a:ext cx="4186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2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1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5" name="Picture 10" descr="C:\Documents and Settings\Alejandra Avila.ALITA\Escritorio\clase_17\new\Dinamica-1b.jpg"/>
          <p:cNvPicPr/>
          <p:nvPr/>
        </p:nvPicPr>
        <p:blipFill>
          <a:blip r:embed="rId2"/>
          <a:stretch/>
        </p:blipFill>
        <p:spPr>
          <a:xfrm>
            <a:off x="281160" y="1143000"/>
            <a:ext cx="429084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8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1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1" name="Picture 12" descr="C:\Documents and Settings\Alejandra Avila.ALITA\Escritorio\clase_17\new\Dinamica-1c.jpg"/>
          <p:cNvPicPr/>
          <p:nvPr/>
        </p:nvPicPr>
        <p:blipFill>
          <a:blip r:embed="rId2"/>
          <a:stretch/>
        </p:blipFill>
        <p:spPr>
          <a:xfrm>
            <a:off x="665280" y="1143000"/>
            <a:ext cx="39067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1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7" name="Picture 9" descr="C:\Documents and Settings\Alejandra Avila.ALITA\Escritorio\clase_17\new\Dinamica-1d.jpg"/>
          <p:cNvPicPr/>
          <p:nvPr/>
        </p:nvPicPr>
        <p:blipFill>
          <a:blip r:embed="rId2"/>
          <a:stretch/>
        </p:blipFill>
        <p:spPr>
          <a:xfrm>
            <a:off x="160200" y="1055520"/>
            <a:ext cx="4321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0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1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3" name="Picture 10" descr="C:\Documents and Settings\Alejandra Avila.ALITA\Escritorio\clase_17\new\Dinamica-1e.jpg"/>
          <p:cNvPicPr/>
          <p:nvPr/>
        </p:nvPicPr>
        <p:blipFill>
          <a:blip r:embed="rId2"/>
          <a:srcRect l="4513" t="0" r="4546" b="0"/>
          <a:stretch/>
        </p:blipFill>
        <p:spPr>
          <a:xfrm>
            <a:off x="169920" y="1089000"/>
            <a:ext cx="4572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6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1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9" name="Picture 6" descr="C:\Documents and Settings\Alejandra Avila.ALITA\Escritorio\clase_17\new\Dinamica-2.jpg"/>
          <p:cNvPicPr/>
          <p:nvPr/>
        </p:nvPicPr>
        <p:blipFill>
          <a:blip r:embed="rId2"/>
          <a:stretch/>
        </p:blipFill>
        <p:spPr>
          <a:xfrm>
            <a:off x="277920" y="1030320"/>
            <a:ext cx="411300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2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1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5" name="Picture 6" descr="C:\Documents and Settings\Alejandra Avila.ALITA\Escritorio\clase_17\new\Dinamica-2.jpg"/>
          <p:cNvPicPr/>
          <p:nvPr/>
        </p:nvPicPr>
        <p:blipFill>
          <a:blip r:embed="rId2"/>
          <a:stretch/>
        </p:blipFill>
        <p:spPr>
          <a:xfrm>
            <a:off x="365040" y="1058760"/>
            <a:ext cx="411336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8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1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1" name="Picture 6" descr="C:\Documents and Settings\Alejandra Avila.ALITA\Escritorio\clase_17\new\Dinamica-2b.jpg"/>
          <p:cNvPicPr/>
          <p:nvPr/>
        </p:nvPicPr>
        <p:blipFill>
          <a:blip r:embed="rId2"/>
          <a:srcRect l="0" t="2446" r="0" b="59514"/>
          <a:stretch/>
        </p:blipFill>
        <p:spPr>
          <a:xfrm>
            <a:off x="914400" y="1143000"/>
            <a:ext cx="3191040" cy="2743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C:\Documents and Settings\Alejandra Avila.ALITA\Escritorio\clase_17\new\Dinamica-2b.jpg"/>
          <p:cNvPicPr/>
          <p:nvPr/>
        </p:nvPicPr>
        <p:blipFill>
          <a:blip r:embed="rId3"/>
          <a:srcRect l="9556" t="60043" r="0" b="859"/>
          <a:stretch/>
        </p:blipFill>
        <p:spPr>
          <a:xfrm>
            <a:off x="1219320" y="3962520"/>
            <a:ext cx="28861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5-14T00:25:54Z</dcterms:modified>
  <cp:revision>38</cp:revision>
  <dc:subject/>
  <dc:title>Introducción a la Física Newtoniana </dc:title>
</cp:coreProperties>
</file>