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4AA-A264-40EE-B10B-627C5944EE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E3D9-0E07-47DF-ACB6-C7ECEB783B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9992-5B56-439B-B2F1-23B3F48FD4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C26F-7DE8-48FF-8EBF-49953AAC06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4AEF-05B9-4F96-B312-1722B93C16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ACF4-107E-464B-95D7-AF242B4F00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86B7-E814-4D8D-A04F-4B08B0C974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E91F-ECC1-48B2-82C2-3583E25828E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382-9C53-4E7B-8668-3B6A3EAC2B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22D-926C-4FF7-8F1D-FADF6CACFE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87F-172F-44F3-A90C-7A23781C63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C8BB-786F-4177-8D98-6167C66C31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F0E6-FBEC-4249-AC74-3DF7EF4AB6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7D14-E7EA-43B2-9506-28D9E6BD669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AA1E-67A9-4F1F-BB1E-F17C5188C9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CFE-EB87-4BAC-8764-DA82CD2A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B54-5586-4202-A96F-DBF7713E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9C6-99F5-47B8-A673-2F328C67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B61-A01E-42DC-9254-DF1D39F8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5BE-AF9D-4943-934B-BCFFFCCB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E4B-011D-42AA-B12E-614B0D60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CAC-8FC7-4A01-BA3E-7279943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5DF-0B08-43AC-9D1A-F5D04A1B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184-7737-417C-BEF6-7852DFD9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982-B304-496A-AA32-ADA7617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4B9-0A93-4639-B862-75B65EB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3FA-1065-4DA3-95FE-9099310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9387-4658-4438-BB0E-998B267263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3" name="Picture 22" descr="C:\Documents and Settings\Alejandra Avila.ALITA\Escritorio\clase_17\new\Dinamica-1.jpg"/>
          <p:cNvPicPr/>
          <p:nvPr/>
        </p:nvPicPr>
        <p:blipFill>
          <a:blip r:embed="rId2"/>
          <a:stretch/>
        </p:blipFill>
        <p:spPr>
          <a:xfrm>
            <a:off x="390600" y="1143000"/>
            <a:ext cx="43336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859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8" name="Picture 6" descr="C:\Documents and Settings\Alejandra Avila.ALITA\Escritorio\clase_17\new\Dinamica-2d.jpg"/>
          <p:cNvPicPr/>
          <p:nvPr/>
        </p:nvPicPr>
        <p:blipFill>
          <a:blip r:embed="rId2"/>
          <a:stretch/>
        </p:blipFill>
        <p:spPr>
          <a:xfrm>
            <a:off x="169920" y="1417680"/>
            <a:ext cx="46386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4" name="Picture 6" descr="C:\Documents and Settings\Alejandra Avila.ALITA\Escritorio\clase_17\new\Dinamica-2e.jpg"/>
          <p:cNvPicPr/>
          <p:nvPr/>
        </p:nvPicPr>
        <p:blipFill>
          <a:blip r:embed="rId2"/>
          <a:stretch/>
        </p:blipFill>
        <p:spPr>
          <a:xfrm>
            <a:off x="380880" y="1058760"/>
            <a:ext cx="430848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487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0" name="Picture 6" descr="C:\Documents and Settings\Alejandra Avila.ALITA\Escritorio\clase_17\new\Dinamica-2f.jpg"/>
          <p:cNvPicPr/>
          <p:nvPr/>
        </p:nvPicPr>
        <p:blipFill>
          <a:blip r:embed="rId2"/>
          <a:srcRect l="6406" t="6101" r="8999" b="7318"/>
          <a:stretch/>
        </p:blipFill>
        <p:spPr>
          <a:xfrm>
            <a:off x="125280" y="1371600"/>
            <a:ext cx="467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87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6" name="Picture 6" descr="C:\Documents and Settings\Alejandra Avila.ALITA\Escritorio\clase_17\new\Dinamica-2g.jpg"/>
          <p:cNvPicPr/>
          <p:nvPr/>
        </p:nvPicPr>
        <p:blipFill>
          <a:blip r:embed="rId2"/>
          <a:srcRect l="5986" t="4690" r="5426" b="10941"/>
          <a:stretch/>
        </p:blipFill>
        <p:spPr>
          <a:xfrm>
            <a:off x="384120" y="1371600"/>
            <a:ext cx="442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10" descr="C:\Documents and Settings\Alejandra Avila.ALITA\Escritorio\clase_17\new\Dinamica-1a.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7120" y="971640"/>
            <a:ext cx="418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10" descr="C:\Documents and Settings\Alejandra Avila.ALITA\Escritorio\clase_17\new\Dinamica-1b.jpg"/>
          <p:cNvPicPr/>
          <p:nvPr/>
        </p:nvPicPr>
        <p:blipFill>
          <a:blip r:embed="rId2"/>
          <a:stretch/>
        </p:blipFill>
        <p:spPr>
          <a:xfrm>
            <a:off x="281160" y="1143000"/>
            <a:ext cx="4290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12" descr="C:\Documents and Settings\Alejandra Avila.ALITA\Escritorio\clase_17\new\Dinamica-1c.jpg"/>
          <p:cNvPicPr/>
          <p:nvPr/>
        </p:nvPicPr>
        <p:blipFill>
          <a:blip r:embed="rId2"/>
          <a:stretch/>
        </p:blipFill>
        <p:spPr>
          <a:xfrm>
            <a:off x="665280" y="1143000"/>
            <a:ext cx="3906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9" descr="C:\Documents and Settings\Alejandra Avila.ALITA\Escritorio\clase_17\new\Dinamica-1d.jpg"/>
          <p:cNvPicPr/>
          <p:nvPr/>
        </p:nvPicPr>
        <p:blipFill>
          <a:blip r:embed="rId2"/>
          <a:stretch/>
        </p:blipFill>
        <p:spPr>
          <a:xfrm>
            <a:off x="160200" y="1055520"/>
            <a:ext cx="4321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10" descr="C:\Documents and Settings\Alejandra Avila.ALITA\Escritorio\clase_17\new\Dinamica-1e.jpg"/>
          <p:cNvPicPr/>
          <p:nvPr/>
        </p:nvPicPr>
        <p:blipFill>
          <a:blip r:embed="rId2"/>
          <a:srcRect l="4513" t="0" r="4546" b="0"/>
          <a:stretch/>
        </p:blipFill>
        <p:spPr>
          <a:xfrm>
            <a:off x="169920" y="1089000"/>
            <a:ext cx="4572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6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6" descr="C:\Documents and Settings\Alejandra Avila.ALITA\Escritorio\clase_17\new\Dinamica-2.jpg"/>
          <p:cNvPicPr/>
          <p:nvPr/>
        </p:nvPicPr>
        <p:blipFill>
          <a:blip r:embed="rId2"/>
          <a:stretch/>
        </p:blipFill>
        <p:spPr>
          <a:xfrm>
            <a:off x="277920" y="1030320"/>
            <a:ext cx="41130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5" name="Picture 6" descr="C:\Documents and Settings\Alejandra Avila.ALITA\Escritorio\clase_17\new\Dinamica-2.jpg"/>
          <p:cNvPicPr/>
          <p:nvPr/>
        </p:nvPicPr>
        <p:blipFill>
          <a:blip r:embed="rId2"/>
          <a:stretch/>
        </p:blipFill>
        <p:spPr>
          <a:xfrm>
            <a:off x="365040" y="1058760"/>
            <a:ext cx="41133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8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1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6" descr="C:\Documents and Settings\Alejandra Avila.ALITA\Escritorio\clase_17\new\Dinamica-2b.jpg"/>
          <p:cNvPicPr/>
          <p:nvPr/>
        </p:nvPicPr>
        <p:blipFill>
          <a:blip r:embed="rId2"/>
          <a:srcRect l="0" t="2446" r="0" b="59514"/>
          <a:stretch/>
        </p:blipFill>
        <p:spPr>
          <a:xfrm>
            <a:off x="914400" y="1143000"/>
            <a:ext cx="319104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lejandra Avila.ALITA\Escritorio\clase_17\new\Dinamica-2b.jpg"/>
          <p:cNvPicPr/>
          <p:nvPr/>
        </p:nvPicPr>
        <p:blipFill>
          <a:blip r:embed="rId3"/>
          <a:srcRect l="9556" t="60043" r="0" b="859"/>
          <a:stretch/>
        </p:blipFill>
        <p:spPr>
          <a:xfrm>
            <a:off x="1219320" y="3962520"/>
            <a:ext cx="288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5-14T00:25:54Z</dcterms:modified>
  <cp:revision>38</cp:revision>
  <dc:subject/>
  <dc:title>Introducción a la Física Newtoniana </dc:title>
</cp:coreProperties>
</file>