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3A14790-81C8-4C17-9573-127056DBCD8A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plantemos las ecuaciones itinerarios para cada móvil con respecto a un sistema de referencia que es la posición del tren B cuando esta a una distancia D del tren A  la primera rige el movimiento del tren A que se encuentra a una distancia D del movil B , va con una velocidad en ese intante de V1 y una aceleración (contrario al movimiento) de a0, el tren B esta en el origen cuando comienza el problema y va con una velocidad constante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 </a:t>
            </a: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En esta imagen podemos ver como se comportan los vectores velocidades , esto nos ayudara a comprender el D crítico que queremos encontrar puesto que como vemos el tren B tiene velocidad constante pero el tren A su velocidad va variando .... Cuando la velocidad del tren A sea igual a la del tren B  , en ese punto estaremos en la condición que de los trenes se topan pero no chocan , puesto que como el tren A va acelerando el tren B sólo lo topa pero el  tren A sigue aumentando su velocidad como se puede apreciar en la imgen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im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 </a:t>
            </a: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En esta imagen podemos ver como se comportan los vectores velocidades , esto nos ayudara a comprender el D crítico que queremos encontrar puesto que como vemos el tren B tiene velocidad constante pero el tren A su velocidad va variando .... Cuando la velocidad del tren A sea igual a la del tren B  , en ese punto estaremos en la condición que de los trenes se topan pero no chocan , puesto que como el tren A va acelerando el tren B sólo lo topa pero el  tren A sigue aumentando su velocidad como se puede apreciar en la imgen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im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 </a:t>
            </a: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En esta imagen podemos ver como se comportan los vectores velocidades , esto nos ayudara a comprender el D crítico que queremos encontrar puesto que como vemos el tren B tiene velocidad constante pero el tren A su velocidad va variando .... Cuando la velocidad del tren A sea igual a la del tren B  , en ese punto estaremos en la condición que de los trenes se topan pero no chocan , puesto que como el tren A va acelerando el tren B sólo lo topa pero el  tren A sigue aumentando su velocidad como se puede apreciar en la imgen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im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plantemos las ecuaciones itinerarios para cada móvil con respecto a un sistema de referencia que es la posición del tren B cuando esta a una distancia D del tren A  la primera rige el movimiento del tren A que se encuentra a una distancia D del movil B , va con una velocidad en ese intante de V1 y una aceleración (contrario al movimiento) de a0, el tren B esta en el origen cuando comienza el problema y va con una velocidad constante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plantemos las ecuaciones itinerarios para cada móvil con respecto a un sistema de referencia que es la posición del tren B cuando esta a una distancia D del tren A  la primera rige el movimiento del tren A que se encuentra a una distancia D del movil B , va con una velocidad en ese intante de V1 y una aceleración (contrario al movimiento) de a0, el tren B esta en el origen cuando comienza el problema y va con una velocidad constante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plantemos las ecuaciones itinerarios para cada móvil con respecto a un sistema de referencia que es la posición del tren B cuando esta a una distancia D del tren A  la primera rige el movimiento del tren A que se encuentra a una distancia D del movil B , va con una velocidad en ese intante de V1 y una aceleración (contrario al movimiento) de a0, el tren B esta en el origen cuando comienza el problema y va con una velocidad constante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plantemos las ecuaciones itinerarios para cada móvil con respecto a un sistema de referencia que es la posición del tren B cuando esta a una distancia D del tren A  la primera rige el movimiento del tren A que se encuentra a una distancia D del movil B , va con una velocidad en ese intante de V1 y una aceleración (contrario al movimiento) de a0, el tren B esta en el origen cuando comienza el problema y va con una velocidad constante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plantemos las ecuaciones itinerarios para cada móvil con respecto a un sistema de referencia que es la posición del tren B cuando esta a una distancia D del tren A  la primera rige el movimiento del tren A que se encuentra a una distancia D del movil B , va con una velocidad en ese intante de V1 y una aceleración (contrario al movimiento) de a0, el tren B esta en el origen cuando comienza el problema y va con una velocidad constante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1DF-189D-4C79-96EF-8DE59524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88F8-A119-4C80-90E8-C0C67ED9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D068-1350-4767-9014-0F625C18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FFE-B150-4834-B9C7-4020B740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026-3BBE-4846-84EB-4820702F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EB46-BCDA-4B23-AA7E-63CC1AD9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58EC-4136-47B5-B801-1EEA995C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194-D913-4662-8D19-C56C3C37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B07C-EE4D-4983-8DAD-A8D772A8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AF1-01FE-4267-8107-B9BE2F2A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E1F-17FA-4EC0-97BC-E4F58F16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EE8-B1FA-4BBC-A840-E80CC866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nterior2%20copiar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9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4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99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0447-4420-4B72-A0A0-3988218E6864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2" name="portada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304812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2b2b2"/>
                </a:solidFill>
                <a:latin typeface="Verdana"/>
              </a:rPr>
              <a:t>Ratoncito</a:t>
            </a: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Tamara Cabre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8640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Solu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288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0040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3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             el tiempo es infinito el ratón jamás sal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371600" y="1293840"/>
                <a:ext cx="1143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066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Dat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228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Da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848720" y="228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Da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7391520" y="2666880"/>
            <a:ext cx="92700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981080" y="1332000"/>
            <a:ext cx="4905360" cy="2554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147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914400" y="4724280"/>
                <a:ext cx="335268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α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228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Sistema de referenci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guales tiempos en que demoran en llegar a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905120" y="2362320"/>
                <a:ext cx="6019560" cy="20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αd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914400" y="32004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371600" y="1600200"/>
                <a:ext cx="327672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772080" y="4475160"/>
                <a:ext cx="163800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505320" y="4343400"/>
            <a:ext cx="2209680" cy="16765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1371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hora el problema es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362320" y="2590920"/>
            <a:ext cx="49528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1371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¿cuánto tiempo tardó en salir el ratón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288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752480" y="2057400"/>
                <a:ext cx="4343400" cy="28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914400" y="35053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288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35053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514600" y="1600200"/>
                <a:ext cx="4267080" cy="402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288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35053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676520" y="2590920"/>
                <a:ext cx="6324480" cy="27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06-18T22:31:15Z</dcterms:modified>
  <cp:revision>131</cp:revision>
  <dc:subject/>
  <dc:title>Presentación de PowerPoint</dc:title>
</cp:coreProperties>
</file>