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29D9A26-8E84-48C6-A6E5-8D5514D338C3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plantemos las ecuaciones itinerarios para cada móvil con respecto a un sistema de referencia que es la posición del tren B cuando esta a una distancia D del tren A  la primera rige el movimiento del tren A que se encuentra a una distancia D del movil B , va con una velocidad en ese intante de V1 y una aceleración (contrario al movimiento) de a0, el tren B esta en el origen cuando comienza el problema y va con una velocidad constante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 </a:t>
            </a: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En esta imagen podemos ver como se comportan los vectores velocidades , esto nos ayudara a comprender el D crítico que queremos encontrar puesto que como vemos el tren B tiene velocidad constante pero el tren A su velocidad va variando .... Cuando la velocidad del tren A sea igual a la del tren B  , en ese punto estaremos en la condición que de los trenes se topan pero no chocan , puesto que como el tren A va acelerando el tren B sólo lo topa pero el  tren A sigue aumentando su velocidad como se puede apreciar en la imgen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im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 </a:t>
            </a: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En esta imagen podemos ver como se comportan los vectores velocidades , esto nos ayudara a comprender el D crítico que queremos encontrar puesto que como vemos el tren B tiene velocidad constante pero el tren A su velocidad va variando .... Cuando la velocidad del tren A sea igual a la del tren B  , en ese punto estaremos en la condición que de los trenes se topan pero no chocan , puesto que como el tren A va acelerando el tren B sólo lo topa pero el  tren A sigue aumentando su velocidad como se puede apreciar en la imgen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im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 </a:t>
            </a: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En esta imagen podemos ver como se comportan los vectores velocidades , esto nos ayudara a comprender el D crítico que queremos encontrar puesto que como vemos el tren B tiene velocidad constante pero el tren A su velocidad va variando .... Cuando la velocidad del tren A sea igual a la del tren B  , en ese punto estaremos en la condición que de los trenes se topan pero no chocan , puesto que como el tren A va acelerando el tren B sólo lo topa pero el  tren A sigue aumentando su velocidad como se puede apreciar en la imgen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im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plantemos las ecuaciones itinerarios para cada móvil con respecto a un sistema de referencia que es la posición del tren B cuando esta a una distancia D del tren A  la primera rige el movimiento del tren A que se encuentra a una distancia D del movil B , va con una velocidad en ese intante de V1 y una aceleración (contrario al movimiento) de a0, el tren B esta en el origen cuando comienza el problema y va con una velocidad constante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plantemos las ecuaciones itinerarios para cada móvil con respecto a un sistema de referencia que es la posición del tren B cuando esta a una distancia D del tren A  la primera rige el movimiento del tren A que se encuentra a una distancia D del movil B , va con una velocidad en ese intante de V1 y una aceleración (contrario al movimiento) de a0, el tren B esta en el origen cuando comienza el problema y va con una velocidad constante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plantemos las ecuaciones itinerarios para cada móvil con respecto a un sistema de referencia que es la posición del tren B cuando esta a una distancia D del tren A  la primera rige el movimiento del tren A que se encuentra a una distancia D del movil B , va con una velocidad en ese intante de V1 y una aceleración (contrario al movimiento) de a0, el tren B esta en el origen cuando comienza el problema y va con una velocidad constante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plantemos las ecuaciones itinerarios para cada móvil con respecto a un sistema de referencia que es la posición del tren B cuando esta a una distancia D del tren A  la primera rige el movimiento del tren A que se encuentra a una distancia D del movil B , va con una velocidad en ese intante de V1 y una aceleración (contrario al movimiento) de a0, el tren B esta en el origen cuando comienza el problema y va con una velocidad constante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plantemos las ecuaciones itinerarios para cada móvil con respecto a un sistema de referencia que es la posición del tren B cuando esta a una distancia D del tren A  la primera rige el movimiento del tren A que se encuentra a una distancia D del movil B , va con una velocidad en ese intante de V1 y una aceleración (contrario al movimiento) de a0, el tren B esta en el origen cuando comienza el problema y va con una velocidad constante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D22-BE52-477D-B572-3EC7BE96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4640-683F-480E-B966-0A42DE9E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9032-E78E-4ED6-B23F-36B4BE8D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53B-E867-48F6-A007-354B1E2E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938-1CB7-4F80-A979-365FFBD0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A2C-3561-48E8-ACCB-FF7E5152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6C5-233B-4315-A93E-E775ECCC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206-3A2C-4156-BE5F-14674D15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378-9AA8-42A5-AD19-81278879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BEF3-C967-4B23-B2F6-3A5B51B4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7BD-358C-438F-8300-64931AD1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6BD-E383-40DF-9F4F-606AAD77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nterior2%20copiar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9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4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99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B6F7-C39B-483D-A9D9-E69EB3340555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2" name="portada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304812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2b2b2"/>
                </a:solidFill>
                <a:latin typeface="Verdana"/>
              </a:rPr>
              <a:t>Ratoncito</a:t>
            </a: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Tamara Cabre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8640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Solu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288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0040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3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             el tiempo es infinito el ratón jamás sal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371600" y="1293840"/>
                <a:ext cx="1143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066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Dat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228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Da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848720" y="228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Da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7391520" y="2666880"/>
            <a:ext cx="92700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981080" y="1332000"/>
            <a:ext cx="4905360" cy="2554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147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914400" y="4724280"/>
                <a:ext cx="335268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α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228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Sistema de referenci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guales tiempos en que demoran en llegar a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905120" y="2362320"/>
                <a:ext cx="6019560" cy="20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αd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914400" y="32004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371600" y="1600200"/>
                <a:ext cx="327672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772080" y="4475160"/>
                <a:ext cx="163800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505320" y="4343400"/>
            <a:ext cx="2209680" cy="16765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1371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hora el problema es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362320" y="2590920"/>
            <a:ext cx="49528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1371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¿cuánto tiempo tardó en salir el ratón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288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752480" y="2057400"/>
                <a:ext cx="4343400" cy="28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914400" y="35053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288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35053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514600" y="1600200"/>
                <a:ext cx="4267080" cy="402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6934320" y="0"/>
            <a:ext cx="2209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228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b2b2"/>
                </a:solidFill>
                <a:latin typeface="Verdana"/>
                <a:ea typeface="Times New Roman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288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35053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676520" y="2590920"/>
                <a:ext cx="6324480" cy="27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06-18T22:31:15Z</dcterms:modified>
  <cp:revision>131</cp:revision>
  <dc:subject/>
  <dc:title>Presentación de PowerPoint</dc:title>
</cp:coreProperties>
</file>