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D419F10-3EFA-4331-A843-5A45DB0EE004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n esta imagen podemos ver como se comportan los vectores velocidades , esto nos ayudara a comprender el D crítico que queremos encontrar puesto que como vemos el tren B tiene velocidad constante pero el tren A su velocidad va variando .... Cuando la velocidad del tren A sea igual a la del tren B  , en ese punto estaremos en la condición que de los trenes se topan pero no chocan , puesto que como el tren A va acelerando el tren B sólo lo topa pero el  tren A sigue aumentando su velocidad como se puede apreciar en la imgen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n esta imagen podemos ver como se comportan los vectores velocidades , esto nos ayudara a comprender el D crítico que queremos encontrar puesto que como vemos el tren B tiene velocidad constante pero el tren A su velocidad va variando .... Cuando la velocidad del tren A sea igual a la del tren B  , en ese punto estaremos en la condición que de los trenes se topan pero no chocan , puesto que como el tren A va acelerando el tren B sólo lo topa pero el  tren A sigue aumentando su velocidad como se puede apreciar en la imgen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n esta imagen podemos ver como se comportan los vectores velocidades , esto nos ayudara a comprender el D crítico que queremos encontrar puesto que como vemos el tren B tiene velocidad constante pero el tren A su velocidad va variando .... Cuando la velocidad del tren A sea igual a la del tren B  , en ese punto estaremos en la condición que de los trenes se topan pero no chocan , puesto que como el tren A va acelerando el tren B sólo lo topa pero el  tren A sigue aumentando su velocidad como se puede apreciar en la imgen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344-2BB4-456E-A1CA-E36A4428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35F-7E41-434C-BAC3-C6D64C6D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24A-46FD-4D4C-A8E0-4FDD7558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256-FFEC-4390-ABE5-385E87D3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D67-BF04-4C5F-A3B6-EEF4E3C7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B3B-296B-4AE0-867F-535C81BA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DEE-C20E-4534-9C77-C3CD787F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285-7B41-49B8-BDC7-EDB7A5CA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792-0D39-4337-A213-225AFDCF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CBC-4EEF-401D-8E2A-9E6E49C4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25F-8774-4597-B6AD-4E92E54D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510-FDD8-4B36-AC80-AE65A4D2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FC7C-B962-43EB-A55F-99E4A9F95BB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Ratoncito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Sol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            el tiempo es infinito el ratón jamás sal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371600" y="1293840"/>
                <a:ext cx="1143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Da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228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Da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48720" y="228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Da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391520" y="2666880"/>
            <a:ext cx="9270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981080" y="1332000"/>
            <a:ext cx="4905360" cy="2554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147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14400" y="4724280"/>
                <a:ext cx="335268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228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Sistema de referenci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guales tiempos en que demoran en llegar a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05120" y="2362320"/>
                <a:ext cx="60195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d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914400" y="32004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371600" y="1600200"/>
                <a:ext cx="327672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72080" y="4475160"/>
                <a:ext cx="16380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505320" y="4343400"/>
            <a:ext cx="2209680" cy="16765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el problema e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952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¿cuánto tiempo tardó en salir el rató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752480" y="2057400"/>
                <a:ext cx="4343400" cy="28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14400" y="3505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3505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514600" y="1600200"/>
                <a:ext cx="4267080" cy="40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505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76520" y="2590920"/>
                <a:ext cx="6324480" cy="27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6-18T22:31:15Z</dcterms:modified>
  <cp:revision>131</cp:revision>
  <dc:subject/>
  <dc:title>Presentación de PowerPoint</dc:title>
</cp:coreProperties>
</file>