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E285BD5-F2CB-4414-842D-D3510179339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No se si es necesario señalar todos los pasos en el video...(Yo no sesi es bueno o ma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mentar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Falta señalar que la distancia entre ambos objetos en el instante inicial (t=0) es d ó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Tb se debe señalar que cuandose toca la linea y la parabola tienen la misma 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Por lo tanto la misma velo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viene señalar que es lo que sucede  cuando la vel. del  movil 1 cuando cruza la abcisa. Indicar como aparecen las condiciones iniciales en el grá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r el significado de los signos + y – en lo gra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Necesitamos ani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Se necesita el abstract del enun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Pregunta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falta el sistema de referencia y la especificación de los datos conoc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 eso se llega a escribir la ecuación de mov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ndo claramente que sobrevive y que no. Importante es hacer emfasis en el sentido de la acelerac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sto es valido para ambos móv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Yo pondría  una frase com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 partir de la definicion de aceleración constante podemos obtener esta expresión para la velocidad en cualquier instan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Quizas aquí se pueda intercalar la animacion. Para señalar claramente cuales son las condiciones del problema: los tranes apenas se tocan y el de A debe viajar a la misma velocidad cuando se tocan y despues aument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uando estan a punto de tocarse, se establece la ec.   4 (no tiene num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se establece que ADEMAS en el mismo instante deben tener la misma velocidad para no enterrarse el uno en elñ otr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Despejo de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emplazo de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C5B-55A9-4570-9D47-32C3335B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7A1-6D9D-46D5-A6F0-39B0EBDA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7C3-37D6-4A7E-A479-0D63855D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DE2-D989-428D-A9B2-EBAD9498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C47-E162-41CA-97E6-2E26F0C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3E2-7684-4201-B9C6-A25B432F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F42-6C45-49C7-B760-0278D5E8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2CA-511C-49C0-820C-C1566875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74C-1A32-42EF-99FC-2686DE6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C55-C547-41AD-8B77-388C1B25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917-3E16-426C-B672-F2EBC7DA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908-862C-4D70-99B2-B5215EEE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6FC0-8561-415F-B301-0BE0D11852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hoque de trenes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1730520"/>
          <a:ext cx="5943600" cy="16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30520"/>
                    <a:ext cx="5943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362400" y="4151160"/>
          <a:ext cx="191124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4151160"/>
                    <a:ext cx="19112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200400" y="4038480"/>
            <a:ext cx="2286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6678000" y="5475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2" name="tamy%20graf1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4943520" cy="40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tamy%20graf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352760" cy="497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16200000">
            <a:off x="6525720" y="6008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2200" y="11430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95280" y="3352680"/>
          <a:ext cx="2210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352680"/>
                    <a:ext cx="2210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3273480"/>
          <a:ext cx="243828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273480"/>
                    <a:ext cx="24382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998640"/>
            <a:ext cx="81532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unci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quinista de un tren que viaja a una rapidez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serva que, por la misma línea, se acerca un tren de carga. Estima que los separa una distanci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y que viaja con una rapidez menor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. Como el tren de carga no se puede detener, el maquinista aplica los frenos al máximo posible evitando provocar daño al tren y enseguida acelerar en el mismo sentido del tren de carga que se acerca para evitar ser alcanzado. El tren se detiene con una aceleración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n el instante en que el tren se detiene, de inmediato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celera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990720"/>
            <a:ext cx="815364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base a estos datos, demuestr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i                               entonces no habrá choque, pero s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desgraciadamente chocará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Explique claramente su razonami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27440"/>
          <a:ext cx="1447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827440"/>
                    <a:ext cx="1447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035600"/>
          <a:ext cx="1447920" cy="68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5600"/>
                    <a:ext cx="14479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71600" y="2743200"/>
            <a:ext cx="1828800" cy="762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962520"/>
            <a:ext cx="1828800" cy="761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63520" y="1523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alisis ima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6880" y="32925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40458c"/>
                </a:solidFill>
                <a:latin typeface="Arial Unicode MS"/>
              </a:rPr>
              <a:t>imag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066680"/>
            <a:ext cx="82296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ción de las ecuaciones que regirán el movimiento del tren A y B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ones itinerario (o de posición ) para tren A y tren B</a:t>
            </a: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53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3429000"/>
          <a:ext cx="32641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26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5359320"/>
          <a:ext cx="16002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359320"/>
                    <a:ext cx="1600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3244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ón que rige la velocidad del tren A  y B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68720" y="3505320"/>
          <a:ext cx="1127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3505320"/>
                    <a:ext cx="1127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051440" y="2209680"/>
          <a:ext cx="204444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1440" y="2209680"/>
                    <a:ext cx="20444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722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ciones para resolver problem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remos que la posición de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a iguala la posición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esta situación la llamaremos situación “limite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19520" y="3598920"/>
          <a:ext cx="342900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98920"/>
                    <a:ext cx="3429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743200" y="34290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143000"/>
            <a:ext cx="8001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uego despejamos el tiempo de la ecuación de las velocidades imponiendo que la velocidad en ese punto en que los trenes se “topan ” es la misma velocidad para ambos , esto es una velocid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230720"/>
          <a:ext cx="1905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230720"/>
                    <a:ext cx="19051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581280" y="3124080"/>
          <a:ext cx="236232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23623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90720" y="2438280"/>
          <a:ext cx="2746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74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722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3 Reemplazamos el tiempo en la ecu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666880" y="2263680"/>
          <a:ext cx="3276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63680"/>
                    <a:ext cx="3276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14600" y="4164120"/>
          <a:ext cx="354348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64120"/>
                    <a:ext cx="354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438280" y="396252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0574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5-03T22:55:27Z</dcterms:modified>
  <cp:revision>75</cp:revision>
  <dc:subject/>
  <dc:title>Presentación de PowerPoint</dc:title>
</cp:coreProperties>
</file>