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2151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0"/>
            <a:ext cx="7214400" cy="95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dt" idx="4"/>
          </p:nvPr>
        </p:nvSpPr>
        <p:spPr>
          <a:xfrm>
            <a:off x="4087440" y="-36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sldImg"/>
          </p:nvPr>
        </p:nvSpPr>
        <p:spPr>
          <a:xfrm>
            <a:off x="1231920" y="712440"/>
            <a:ext cx="4749840" cy="356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 type="ftr" idx="5"/>
          </p:nvPr>
        </p:nvSpPr>
        <p:spPr>
          <a:xfrm>
            <a:off x="-36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 type="sldNum" idx="6"/>
          </p:nvPr>
        </p:nvSpPr>
        <p:spPr>
          <a:xfrm>
            <a:off x="4087440" y="9024480"/>
            <a:ext cx="3125880" cy="474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es-E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70E3B1D-672A-4989-A831-C29D4763B4DF}" type="slidenum">
              <a:rPr b="0" lang="es-E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imes New Roman"/>
              </a:rPr>
              <a:t>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31920" y="712800"/>
            <a:ext cx="4749840" cy="35622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61560" y="4511520"/>
            <a:ext cx="5289480" cy="42753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Se lanza una pelota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desde el punto A,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a una distanci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d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del borde de un tobogán de altura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h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y largo </a:t>
            </a:r>
            <a:r>
              <a:rPr b="1" lang="es-ES" sz="1000" spc="-1" strike="noStrike">
                <a:solidFill>
                  <a:srgbClr val="cc0000"/>
                </a:solidFill>
                <a:latin typeface="Verdana"/>
              </a:rPr>
              <a:t>b. 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Determinar las componentes de la velocidad que se le debe dar a la pelota, de tal forma que alcance el 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punto P en el vértice</a:t>
            </a:r>
            <a:r>
              <a:rPr b="0" lang="es-ES" sz="1000" spc="-1" strike="noStrike">
                <a:solidFill>
                  <a:srgbClr val="cc0000"/>
                </a:solidFill>
                <a:latin typeface="Verdana"/>
              </a:rPr>
              <a:t> superior del tobogán</a:t>
            </a:r>
            <a:r>
              <a:rPr b="0" lang="es-MX" sz="1000" spc="-1" strike="noStrike">
                <a:solidFill>
                  <a:srgbClr val="cc0000"/>
                </a:solidFill>
                <a:latin typeface="Verdana"/>
              </a:rPr>
              <a:t>, sin rebotar sobre su superficie</a:t>
            </a:r>
            <a:r>
              <a:rPr b="0" lang="es-ES" sz="1200" spc="-1" strike="noStrike">
                <a:solidFill>
                  <a:srgbClr val="cc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6B3-FA72-4D76-83FC-1B9BF1A01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551-EF0D-4212-90AA-25386D896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BF9D-1075-4B3B-9232-C86D58838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D0DB-0D22-4BDC-8999-F32D629E8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413B-3894-4052-915F-0ACFB5A7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EE66-3837-47E9-9DB6-E56D6C5D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5164-D318-44E2-AF7F-440B87AF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5765-25D1-4477-8E6F-6E410A30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B5C6-E78D-40F6-93B0-B720C07A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56C20-7638-45D7-BAFD-6AA0113FA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0EF6-FD70-468F-8F79-DDD694D3D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04CD-2C82-4587-95B0-DD6B3A58B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86672"/>
          <a:stretch/>
        </p:blipFill>
        <p:spPr>
          <a:xfrm>
            <a:off x="0" y="0"/>
            <a:ext cx="9144000" cy="914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40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41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42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94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96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01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3331A-39A0-4AA4-9E7E-28EFE1C0C6AA}" type="slidenum">
              <a:rPr b="0" lang="es-E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" name=""/>
          <p:cNvGraphicFramePr/>
          <p:nvPr/>
        </p:nvGraphicFramePr>
        <p:xfrm>
          <a:off x="0" y="0"/>
          <a:ext cx="914400" cy="19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" cy="19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388620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1523880" y="3048120"/>
            <a:ext cx="7086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b2b2b2"/>
                </a:solidFill>
                <a:latin typeface="Verdana"/>
              </a:rPr>
              <a:t>Resorte</a:t>
            </a:r>
            <a:r>
              <a:rPr b="0" lang="es-ES" sz="2800" spc="-1" strike="noStrike">
                <a:solidFill>
                  <a:srgbClr val="b2b2b2"/>
                </a:solidFill>
                <a:latin typeface="Verdana"/>
                <a:ea typeface="Times New Roman"/>
              </a:rPr>
              <a:t> 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Por: </a:t>
            </a:r>
            <a:r>
              <a:rPr b="0" lang="es-ES" sz="2200" spc="-1" strike="noStrike">
                <a:solidFill>
                  <a:srgbClr val="b2b2b2"/>
                </a:solidFill>
                <a:latin typeface="Verdana"/>
                <a:ea typeface="Times New Roman"/>
              </a:rPr>
              <a:t>Cristian Fernandez</a:t>
            </a:r>
            <a:endParaRPr b="0" lang="en-US" sz="2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14" name=""/>
          <p:cNvSpPr/>
          <p:nvPr/>
        </p:nvSpPr>
        <p:spPr>
          <a:xfrm>
            <a:off x="762120" y="1371600"/>
            <a:ext cx="7391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hora bien la compresión  X estará dada por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1143000" y="2590920"/>
                <a:ext cx="5867280" cy="148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Δ</m:t>
                            </m:r>
                          </m:e>
                        </m:acc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  <m:e>
                        <m:r>
                          <m:t xml:space="preserve">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6" name=""/>
          <p:cNvSpPr/>
          <p:nvPr/>
        </p:nvSpPr>
        <p:spPr>
          <a:xfrm>
            <a:off x="1031760" y="5105520"/>
            <a:ext cx="6144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Lo que no variará si intercambiamos las masas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724280" y="3200400"/>
            <a:ext cx="2362320" cy="9907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2120" y="137160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a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Esta en equilibrio  el sistema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143000" y="2666880"/>
            <a:ext cx="3622680" cy="226224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6705720" y="3048120"/>
            <a:ext cx="1030320" cy="10303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800600" y="3657600"/>
            <a:ext cx="129528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62120" y="1371600"/>
            <a:ext cx="80769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Si vemos las dos masas y el resorte como un sistema, entonces: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istema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5" name=""/>
              <p:cNvSpPr txBox="1"/>
              <p:nvPr/>
            </p:nvSpPr>
            <p:spPr>
              <a:xfrm>
                <a:off x="3048120" y="2209680"/>
                <a:ext cx="23619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↕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66" name=""/>
          <p:cNvGraphicFramePr/>
          <p:nvPr/>
        </p:nvGraphicFramePr>
        <p:xfrm>
          <a:off x="1225440" y="3886200"/>
          <a:ext cx="5086440" cy="78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5440" y="3886200"/>
                    <a:ext cx="508644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68" name=""/>
              <p:cNvSpPr txBox="1"/>
              <p:nvPr/>
            </p:nvSpPr>
            <p:spPr>
              <a:xfrm>
                <a:off x="2514600" y="5181480"/>
                <a:ext cx="2365200" cy="5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M</m:t>
                    </m:r>
                    <m:r>
                      <m:t xml:space="preserve">)</m:t>
                    </m:r>
                    <m:r>
                      <m:t xml:space="preserve">g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37160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b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Tenemos que el equilibrio,  será cuando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" name=""/>
              <p:cNvSpPr txBox="1"/>
              <p:nvPr/>
            </p:nvSpPr>
            <p:spPr>
              <a:xfrm>
                <a:off x="762120" y="2133720"/>
                <a:ext cx="7340400" cy="107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m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 </m:t>
                    </m:r>
                    <m:r>
                      <m:t xml:space="preserve">∓</m:t>
                    </m:r>
                    <m:r>
                      <m:t xml:space="preserve">K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762120" y="4572000"/>
                <a:ext cx="9144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acc>
                      <m:accPr>
                        <m:chr m:val="~"/>
                      </m:accPr>
                      <m:e>
                        <m:r>
                          <m:t xml:space="preserve">Δ</m:t>
                        </m:r>
                      </m:e>
                    </m:acc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>
            <a:off x="1888200" y="464832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Lo que se acorta el resorte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1371600"/>
            <a:ext cx="761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c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 Necesitamos que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8" name=""/>
              <p:cNvSpPr txBox="1"/>
              <p:nvPr/>
            </p:nvSpPr>
            <p:spPr>
              <a:xfrm>
                <a:off x="3581280" y="1357200"/>
                <a:ext cx="124164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9" name=""/>
              <p:cNvSpPr txBox="1"/>
              <p:nvPr/>
            </p:nvSpPr>
            <p:spPr>
              <a:xfrm>
                <a:off x="762120" y="4476600"/>
                <a:ext cx="4800600" cy="7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∓</m:t>
                        </m:r>
                        <m:r>
                          <m:t xml:space="preserve">KΔx</m:t>
                        </m:r>
                        <m:r>
                          <m:t xml:space="preserve">+</m:t>
                        </m:r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762120" y="5695920"/>
                <a:ext cx="434340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imponemos</m:t>
                    </m:r>
                    <m:r>
                      <m:t xml:space="preserve"> </m:t>
                    </m:r>
                    <m:r>
                      <m:t xml:space="preserve">N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257800" y="5467320"/>
                <a:ext cx="175248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Δ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856440" y="2438280"/>
            <a:ext cx="319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Hagamos el </a:t>
            </a:r>
            <a:r>
              <a:rPr b="0" lang="en-US" sz="2000" spc="-1" strike="noStrike">
                <a:solidFill>
                  <a:srgbClr val="cc0000"/>
                </a:solidFill>
                <a:latin typeface="Verdana"/>
                <a:ea typeface="Times New Roman"/>
              </a:rPr>
              <a:t>DC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 sobre M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191120" y="2819520"/>
            <a:ext cx="1143000" cy="119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2120" y="1371600"/>
            <a:ext cx="7619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Es decir necesitamos que se levante           sobre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Veamos cuando se debe comprimir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para llegar a esa altura , por energía.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" name=""/>
              <p:cNvSpPr txBox="1"/>
              <p:nvPr/>
            </p:nvSpPr>
            <p:spPr>
              <a:xfrm>
                <a:off x="5638680" y="1219320"/>
                <a:ext cx="622440" cy="82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7391520" y="1289160"/>
                <a:ext cx="590400" cy="61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486400" y="2514600"/>
                <a:ext cx="2741760" cy="61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−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)</m:t>
                    </m:r>
                    <m:r>
                      <m:t xml:space="preserve">;</m:t>
                    </m:r>
                    <m:r>
                      <m:t xml:space="preserve"> </m:t>
                    </m:r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990720" y="3809880"/>
                <a:ext cx="5333760" cy="112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L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600200" y="5257800"/>
                <a:ext cx="6080040" cy="105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</m:t>
                    </m:r>
                    <m:r>
                      <m:t xml:space="preserve">⋅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+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97" name=""/>
          <p:cNvSpPr/>
          <p:nvPr/>
        </p:nvSpPr>
        <p:spPr>
          <a:xfrm>
            <a:off x="762120" y="137160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Además</a:t>
            </a:r>
            <a:r>
              <a:rPr b="0" lang="en-US" sz="1200" spc="-1" strike="noStrike">
                <a:solidFill>
                  <a:srgbClr val="40458c"/>
                </a:solidFill>
                <a:latin typeface="Times New Roman"/>
                <a:ea typeface="Times New Roman"/>
              </a:rPr>
              <a:t>     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590920" y="1371600"/>
                <a:ext cx="1796760" cy="584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2514600" y="2209680"/>
                <a:ext cx="39625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−</m:t>
                    </m:r>
                    <m:r>
                      <m:t xml:space="preserve">L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K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mg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533520" y="1371600"/>
                <a:ext cx="8381880" cy="393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L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=</m:t>
                        </m:r>
                      </m:e>
                      <m:e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r>
                          <m:t xml:space="preserve">+</m:t>
                        </m:r>
                        <m:r>
                          <m:t xml:space="preserve"> 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⇒</m:t>
                        </m:r>
                        <m:sSup>
                          <m:e>
                            <m:r>
                              <m:t xml:space="preserve">L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L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2</m:t>
                        </m:r>
                        <m:r>
                          <m:t xml:space="preserve"> 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−</m:t>
                            </m:r>
                            <m:r>
                              <m:t xml:space="preserve">8</m:t>
                            </m:r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b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8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  <m:r>
                                  <m:t xml:space="preserve"> 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ℓ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mg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K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t xml:space="preserve">(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Mg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e>
                      <m:e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±</m:t>
                        </m:r>
                        <m:r>
                          <m:t xml:space="preserve">(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6934320" y="152280"/>
            <a:ext cx="2209680" cy="609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248520" y="22860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b2b2b2"/>
                </a:solidFill>
                <a:latin typeface="Tahoma"/>
              </a:rPr>
              <a:t>Enunciado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0" y="4010040"/>
                <a:ext cx="114480" cy="21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207" name=""/>
          <p:cNvSpPr/>
          <p:nvPr/>
        </p:nvSpPr>
        <p:spPr>
          <a:xfrm>
            <a:off x="762120" y="1371600"/>
            <a:ext cx="8001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Como  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Times New Roman"/>
              </a:rPr>
              <a:t> 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2133720" y="1371600"/>
                <a:ext cx="154620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ℓ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⇒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1295280" y="2362320"/>
                <a:ext cx="4343400" cy="196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L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ℓ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r>
                              <m:t xml:space="preserve">g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m</m:t>
                        </m:r>
                        <m:r>
                          <m:t xml:space="preserve">+</m:t>
                        </m:r>
                        <m:r>
                          <m:t xml:space="preserve">M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1219320" y="3505320"/>
            <a:ext cx="3504960" cy="83808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9T01:06:10Z</dcterms:created>
  <dc:creator>Antonio Hales</dc:creator>
  <dc:description/>
  <dc:language>en-US</dc:language>
  <cp:lastModifiedBy>nzamora</cp:lastModifiedBy>
  <dcterms:modified xsi:type="dcterms:W3CDTF">2003-10-04T23:29:21Z</dcterms:modified>
  <cp:revision>254</cp:revision>
  <dc:subject/>
  <dc:title>Presentación de PowerPoint</dc:title>
</cp:coreProperties>
</file>