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38.wmf" ContentType="image/x-wmf"/>
  <Override PartName="/ppt/media/image4.jpeg" ContentType="image/jpeg"/>
  <Override PartName="/ppt/media/image8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700563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0056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397008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720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3970080" y="882000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B7028F8-FCD8-4199-A9C6-4955A32E807C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720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tilizando los valores anteriores obtenemos un nuevo tiempo hasta el impacto del perro, señalado en la figura como T4 pri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3720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lugar del poste cilíndrico, podemos utilizar un poste de sección transversal cuadr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 este modelo tendremos cuatro posibles ejes de rotación, ubicados en los vértices del cuadrado, con lo que podemos resolver el problema por tram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81FA-0225-4755-8989-8C92A187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F7A-F05B-44F3-8FD2-3280DACE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229-C845-494F-ABA3-C9E79E3C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B5D-92AE-481F-9757-0C78A82F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4DCE-5BF0-4B21-B3C3-9CE96D57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E358-CFD8-4200-82DE-41488E4E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E5E-566C-4945-B8F7-AED2BD57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D17-4767-486F-8399-C2344A1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587-0F5D-4620-86C5-CCB214F5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261-10AE-44C6-A917-E2E74F10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14E-C889-4F88-877B-EE81CF8B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800-4B30-49E8-9CBE-10E5C079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AD58-D6AA-4489-89F8-B6E9D18D55C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5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0.wmf"/><Relationship Id="rId25" Type="http://schemas.openxmlformats.org/officeDocument/2006/relationships/image" Target="../media/image33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4.wmf"/><Relationship Id="rId2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Juan Pablo Roja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04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Otra aprox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1100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58c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58c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58c"/>
                </a:solidFill>
                <a:latin typeface="Verdana"/>
                <a:ea typeface="Times New Roman"/>
              </a:rPr>
              <a:t>        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14320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el caso particular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572000" y="4108320"/>
                <a:ext cx="4114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44" name=""/>
          <p:cNvGraphicFramePr/>
          <p:nvPr/>
        </p:nvGraphicFramePr>
        <p:xfrm>
          <a:off x="5410080" y="5564160"/>
          <a:ext cx="162720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564160"/>
                    <a:ext cx="1627200" cy="45576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304920" y="1143000"/>
            <a:ext cx="3946320" cy="52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7" name=""/>
          <p:cNvGraphicFramePr/>
          <p:nvPr/>
        </p:nvGraphicFramePr>
        <p:xfrm>
          <a:off x="4527720" y="2016000"/>
          <a:ext cx="1187280" cy="41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27720" y="2016000"/>
                    <a:ext cx="11872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4419720" y="2536920"/>
          <a:ext cx="1676160" cy="493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9720" y="2536920"/>
                    <a:ext cx="16761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543560" y="3159000"/>
          <a:ext cx="1476360" cy="412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43560" y="3159000"/>
                    <a:ext cx="147636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876920" y="5562720"/>
          <a:ext cx="450720" cy="36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76920" y="5562720"/>
                    <a:ext cx="4507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3080" y="304920"/>
            <a:ext cx="17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Promed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320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a     el tiempo que efectivamente demora el perro en chocar con el poste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2514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cálculos anteriores acotan el valor de   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049640" y="4102200"/>
          <a:ext cx="107964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9640" y="4102200"/>
                    <a:ext cx="1079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066680" y="4102200"/>
          <a:ext cx="938160" cy="38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102200"/>
                    <a:ext cx="93816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400040" y="3263760"/>
          <a:ext cx="439920" cy="46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0040" y="3263760"/>
                    <a:ext cx="439920" cy="4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84480" y="3263760"/>
          <a:ext cx="3621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84480" y="3263760"/>
                    <a:ext cx="3621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2766960" y="3332160"/>
          <a:ext cx="284040" cy="331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6960" y="3332160"/>
                    <a:ext cx="28404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373560" y="3340080"/>
          <a:ext cx="260280" cy="25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73560" y="3340080"/>
                    <a:ext cx="2602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2224080" y="3340080"/>
          <a:ext cx="260280" cy="25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24080" y="3340080"/>
                    <a:ext cx="2602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766960" y="4102200"/>
          <a:ext cx="284040" cy="331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66960" y="4102200"/>
                    <a:ext cx="284040" cy="33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367080" y="4206960"/>
          <a:ext cx="260280" cy="257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67080" y="4206960"/>
                    <a:ext cx="2602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2224080" y="4206960"/>
          <a:ext cx="260280" cy="257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224080" y="4206960"/>
                    <a:ext cx="2602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1324080" y="1432080"/>
          <a:ext cx="307800" cy="360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324080" y="1432080"/>
                    <a:ext cx="307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6019920" y="2514600"/>
          <a:ext cx="307800" cy="360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019920" y="2514600"/>
                    <a:ext cx="307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" descr=""/>
          <p:cNvPicPr/>
          <p:nvPr/>
        </p:nvPicPr>
        <p:blipFill>
          <a:blip r:embed="rId25"/>
          <a:stretch/>
        </p:blipFill>
        <p:spPr>
          <a:xfrm>
            <a:off x="6553080" y="2971800"/>
            <a:ext cx="188136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4" name=""/>
          <p:cNvGraphicFramePr/>
          <p:nvPr/>
        </p:nvGraphicFramePr>
        <p:xfrm>
          <a:off x="2286000" y="5562720"/>
          <a:ext cx="1563840" cy="50004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2286000" y="5562720"/>
                    <a:ext cx="1563840" cy="500040"/>
                  </a:xfrm>
                  <a:prstGeom prst="rect">
                    <a:avLst/>
                  </a:prstGeom>
                  <a:ln w="2844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685800" y="4800600"/>
            <a:ext cx="41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odemos calcular el promedi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304920"/>
            <a:ext cx="28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rror cometi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5560" y="1432080"/>
            <a:ext cx="65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aremos nuestros resultados con el valor exact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763720" y="2370240"/>
          <a:ext cx="2857680" cy="52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2370240"/>
                    <a:ext cx="2857680" cy="525240"/>
                  </a:xfrm>
                  <a:prstGeom prst="rect">
                    <a:avLst/>
                  </a:prstGeom>
                  <a:ln w="2844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845280" y="3581280"/>
            <a:ext cx="62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 es el error cometido al usar aproximaciones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95280" y="4495680"/>
          <a:ext cx="156384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495680"/>
                    <a:ext cx="15638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581280" y="4572000"/>
          <a:ext cx="457200" cy="3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572000"/>
                    <a:ext cx="45720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4800600" y="4522680"/>
          <a:ext cx="1447920" cy="5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00600" y="4522680"/>
                    <a:ext cx="144792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304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lternativ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73720" y="1203480"/>
            <a:ext cx="412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¿Cómo mejorar este resultado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7880" y="198108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mentemos el número de lados del polígon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2514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Para </a:t>
            </a:r>
            <a:r>
              <a:rPr b="1" lang="es-MX" sz="2000" spc="-1" strike="noStrike">
                <a:solidFill>
                  <a:srgbClr val="cc3300"/>
                </a:solidFill>
                <a:latin typeface="Verdana"/>
              </a:rPr>
              <a:t>N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=10 lados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219320" y="3505320"/>
            <a:ext cx="622764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410000" y="304920"/>
            <a:ext cx="42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Nuevos polígon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5360" y="1203480"/>
            <a:ext cx="380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uevamente, para los valores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5010120" y="32958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309" name=""/>
          <p:cNvGraphicFramePr/>
          <p:nvPr/>
        </p:nvGraphicFramePr>
        <p:xfrm>
          <a:off x="5388120" y="2576520"/>
          <a:ext cx="192708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8120" y="2576520"/>
                    <a:ext cx="1927080" cy="547560"/>
                  </a:xfrm>
                  <a:prstGeom prst="rect">
                    <a:avLst/>
                  </a:prstGeom>
                  <a:ln w="2844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349280" y="1981080"/>
          <a:ext cx="12416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9280" y="1981080"/>
                    <a:ext cx="124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1319040" y="2666880"/>
          <a:ext cx="164952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19040" y="2666880"/>
                    <a:ext cx="16495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371600" y="3444840"/>
          <a:ext cx="154296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3444840"/>
                    <a:ext cx="1542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832320" y="4510080"/>
            <a:ext cx="42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samos </a:t>
            </a: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20 lados, se obtien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4419720"/>
          <a:ext cx="1957680" cy="5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4419720"/>
                    <a:ext cx="1957680" cy="547560"/>
                  </a:xfrm>
                  <a:prstGeom prst="rect">
                    <a:avLst/>
                  </a:prstGeom>
                  <a:ln w="2844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3719880" y="2652840"/>
            <a:ext cx="14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obtiene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64080" y="3208320"/>
          <a:ext cx="1524240" cy="52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64080" y="3208320"/>
                    <a:ext cx="152424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5562720" y="5181480"/>
          <a:ext cx="1523880" cy="50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62720" y="5181480"/>
                    <a:ext cx="1523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867280" y="304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12193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tiempo empleado disminuye con el aumento del número de lados del polígono inscrit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634080" y="2611440"/>
          <a:ext cx="16718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080" y="2611440"/>
                    <a:ext cx="1671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3968640" y="2595600"/>
          <a:ext cx="159228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8640" y="2595600"/>
                    <a:ext cx="1592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1066680" y="2595600"/>
          <a:ext cx="161604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2595600"/>
                    <a:ext cx="161604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276720" y="2617920"/>
                <a:ext cx="430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5956200" y="2617920"/>
                <a:ext cx="4302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4410000" y="304920"/>
            <a:ext cx="42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Nuevas aproximac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480" y="447984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edida que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umenta nos acercamos al valor exact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5638680" y="3613320"/>
          <a:ext cx="1166760" cy="425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3613320"/>
                    <a:ext cx="116676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666880" y="3613320"/>
          <a:ext cx="1014480" cy="414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3613320"/>
                    <a:ext cx="1014480" cy="41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4492800" y="3613320"/>
          <a:ext cx="30780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92800" y="3613320"/>
                    <a:ext cx="3078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5022720" y="3718080"/>
          <a:ext cx="281160" cy="277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22720" y="3718080"/>
                    <a:ext cx="28116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879720" y="3718080"/>
          <a:ext cx="281160" cy="27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79720" y="3718080"/>
                    <a:ext cx="281160" cy="27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86520" y="304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Conclusion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6120" y="120348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Conclusiones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365760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 aumentar el número de lados se gana precisión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2209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obtiene un resultado razonable usando un valor promedio entre una figura inscrita y su equivalente circunscrita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374976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23623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867280" y="304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Propues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2193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Problema propuest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21178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cular y graficar la velocidad angular en uno de los modelos usado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29559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cular el largo de la trayector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2209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30481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3840" y="22399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8400" y="2590920"/>
            <a:ext cx="268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33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cc3300"/>
                </a:solidFill>
                <a:latin typeface="Verdana"/>
              </a:rPr>
              <a:t>0</a:t>
            </a: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rapidez constan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8680" y="3186000"/>
            <a:ext cx="22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radio del post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41040" y="380988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 largo de la cuerd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2590920"/>
            <a:ext cx="3200400" cy="1676160"/>
          </a:xfrm>
          <a:prstGeom prst="rect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1266840"/>
            <a:ext cx="34178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Análi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1981080"/>
            <a:ext cx="472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elocidad del perro es siempre perpendicular a la cuerd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3139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je de rotación no es fijo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33526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2133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27702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38680" y="22860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2193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Primera aproximación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9051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Consideremos un cuadrado inscri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Una solu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676520" y="3186000"/>
            <a:ext cx="62532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04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Una solu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2034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Verdana"/>
              </a:rPr>
              <a:t>Movimiento circular uniforme por tram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3446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ángulo recorrido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301608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radio de giro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37018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locidad angular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44640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tiempo empleado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43800" y="2192400"/>
                <a:ext cx="10666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7543800" y="3532320"/>
                <a:ext cx="853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6" name=""/>
          <p:cNvGraphicFramePr/>
          <p:nvPr/>
        </p:nvGraphicFramePr>
        <p:xfrm>
          <a:off x="7483320" y="5316480"/>
          <a:ext cx="105120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83320" y="5316480"/>
                    <a:ext cx="1051200" cy="703440"/>
                  </a:xfrm>
                  <a:prstGeom prst="rect">
                    <a:avLst/>
                  </a:prstGeom>
                  <a:ln w="28440">
                    <a:solidFill>
                      <a:srgbClr val="cc33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43800" y="3048120"/>
                <a:ext cx="233280" cy="2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5334120" y="16905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(1)        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1919160"/>
            <a:ext cx="45720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0040" y="167004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(1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61960" y="608976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543800" y="4307040"/>
          <a:ext cx="100332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4307040"/>
                    <a:ext cx="100332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203480" y="1579680"/>
            <a:ext cx="329220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304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Una solu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146844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ángulo recorrido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05520" y="216360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radio de giro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0160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velocidad angular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922560"/>
            <a:ext cx="26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Verdana"/>
              </a:rPr>
              <a:t>tiempo empleado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934320" y="1371600"/>
                <a:ext cx="9144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934320" y="2185920"/>
                <a:ext cx="8427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934320" y="2824200"/>
                <a:ext cx="15080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6934320" y="3778200"/>
          <a:ext cx="157644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778200"/>
                    <a:ext cx="157644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762120" y="146196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(2)        (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690560"/>
            <a:ext cx="45720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46280" y="55008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(2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53720" y="54864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(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62120" y="2895480"/>
            <a:ext cx="372240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304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Una solu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42236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el cas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85800" y="3276720"/>
                <a:ext cx="48006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16" name=""/>
          <p:cNvGraphicFramePr/>
          <p:nvPr/>
        </p:nvGraphicFramePr>
        <p:xfrm>
          <a:off x="1916280" y="4995720"/>
          <a:ext cx="1263600" cy="4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6280" y="4995720"/>
                    <a:ext cx="126360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1828800" y="5524560"/>
          <a:ext cx="167652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5524560"/>
                    <a:ext cx="16765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343400" y="5257800"/>
                <a:ext cx="4507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1" name=""/>
          <p:cNvGraphicFramePr/>
          <p:nvPr/>
        </p:nvGraphicFramePr>
        <p:xfrm>
          <a:off x="5761080" y="5222880"/>
          <a:ext cx="185904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61080" y="5222880"/>
                    <a:ext cx="1859040" cy="507960"/>
                  </a:xfrm>
                  <a:prstGeom prst="rect">
                    <a:avLst/>
                  </a:prstGeom>
                  <a:ln w="2844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14600" y="1447920"/>
                <a:ext cx="1600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πR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79760" y="2362320"/>
            <a:ext cx="25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Se suman 3 tram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6477120" y="1981080"/>
            <a:ext cx="196992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1008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Otro criter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69120" y="1203480"/>
            <a:ext cx="712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Otro criterio para modelar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l radio de la circunferencia.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5627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yor radio, menor es el número de vueltas antes de chocar con la circunferenci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76520" y="1681200"/>
            <a:ext cx="1323720" cy="3728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486400" y="1681200"/>
            <a:ext cx="78912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049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Otra aproxim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4800" y="1736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níamos un cuadrado inscri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9200" y="242244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tilicemos otro model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6735960" cy="20210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85800" y="1860480"/>
            <a:ext cx="152280" cy="152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514600"/>
            <a:ext cx="152280" cy="1522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2b0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Alejandra Avila</cp:lastModifiedBy>
  <dcterms:modified xsi:type="dcterms:W3CDTF">2003-08-05T19:13:50Z</dcterms:modified>
  <cp:revision>440</cp:revision>
  <dc:subject/>
  <dc:title>Presentación de PowerPoint</dc:title>
</cp:coreProperties>
</file>