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FC895B9-F694-4524-B909-FB85786F1C3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BCE-36CE-4036-A347-D9E0C396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9B2-5782-41F6-B1E8-FC4577D5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5DD-2C33-4459-B656-FD6D35B4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8E0-24E5-4E64-8B54-497B1DBE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194-234F-4ED3-ADD9-406EFB11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91B-2ABE-4484-8754-1F334F27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FC1-5C35-4265-A937-17609CE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BE3-A9AE-4084-BCC8-4005345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60B-AE9E-45BC-9141-DAE48670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B17-1338-4F15-B45B-0F0FC70D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A9A-C459-4EE4-80A1-0183C40E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A05-6AA1-4E7D-B24F-6D9F5EE6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F49-FD6D-4110-BF21-F51DE03EB67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Movimiento Circular Uniform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Mª Fernanda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362320" y="1371600"/>
                <a:ext cx="533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hacemos       pequeño lo anterior qued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105520" y="41911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9" name=""/>
          <p:cNvGraphicFramePr/>
          <p:nvPr/>
        </p:nvGraphicFramePr>
        <p:xfrm>
          <a:off x="3886200" y="4343400"/>
          <a:ext cx="371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3434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809880" y="2819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572000" y="2819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36860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685800" y="12794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la diferencia entre ambas velocidades entrega a punta al centro de la circunferenc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86400" cy="20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321160" y="42670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70" name=""/>
          <p:cNvGraphicFramePr/>
          <p:nvPr/>
        </p:nvGraphicFramePr>
        <p:xfrm>
          <a:off x="4343400" y="44197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44197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876920" y="3657600"/>
          <a:ext cx="544320" cy="56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365760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009800" y="533412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ociamos la aceleración al punto medio de la trayector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0" y="401004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685800" y="12794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uiendo lo anterior si el intervalo  es pequeño la variación de la dirección de la velocidad también es pequeñ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4593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jemplo  s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76520" y="5943600"/>
                <a:ext cx="541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62120" y="2133720"/>
                <a:ext cx="3733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v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2895480"/>
                <a:ext cx="18572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it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95480" y="4459320"/>
                <a:ext cx="2986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3127320" y="4952880"/>
          <a:ext cx="270360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4952880"/>
                    <a:ext cx="2703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2362320" y="5029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105520" y="2819520"/>
            <a:ext cx="243972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6095880" y="2438280"/>
          <a:ext cx="43992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2438280"/>
                    <a:ext cx="43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130800" y="3352680"/>
          <a:ext cx="34632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30800" y="3352680"/>
                    <a:ext cx="346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43800" y="30481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358128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564080" y="2841480"/>
                <a:ext cx="5414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85800" y="2878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tan pequeña como        y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19520" y="1371600"/>
                <a:ext cx="40384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657600" y="2819520"/>
                <a:ext cx="5335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762120" y="3862440"/>
            <a:ext cx="80769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entras más pequeño el intervalo, más se aproxima el ángulo      a 90° y        tiende a ser perpendicular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2480" y="4395960"/>
                <a:ext cx="381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200400" y="42433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543800" y="4243320"/>
                <a:ext cx="3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09480" y="4876920"/>
            <a:ext cx="7925040" cy="1218960"/>
          </a:xfrm>
          <a:prstGeom prst="rect">
            <a:avLst/>
          </a:prstGeom>
          <a:solidFill>
            <a:srgbClr val="eaeae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95280"/>
            <a:ext cx="78487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se tiene que existe una aceleración (ya que       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 número) y además que la dirección de est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ariación de la velocidad (aceleración) apunta hacia el centr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¿Cómo es posible que exista aceleración si supusimos que la velocidad con que se movía la partícula era una constant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respuesta se encuentra en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a ley establece que si sobre un cuerpo no actúan fuerzas externas éste seguirá con velocidad constante y en una trayectoria RECTILÍNE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315200" y="1297080"/>
                <a:ext cx="463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09480" y="3352680"/>
            <a:ext cx="8001000" cy="762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videntemente el movimiento circular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gue una línea recta, debe existir una fuerza que la obligue a cambiar de dirección y por lo tanto, en virtud d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segund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 una aceleración que actúa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anterior es claro si se imagina que se tiene una piedra amarrada a una cuerda y se le hace gira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ste ejemplo es la cuerda quien realiza una fuerza sobre la piedra y la mantiene en trayectoria circular, ya que en el momento de soltar la piedra ésta tiende a seguir en línea recta tal y como lo predic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bujos que podrían sumar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b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btene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especificar que la fuerza que actúa en  * es la tensión de la cuerda o la reacción del anillo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decir claramente que la fuerza centrífuga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7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200400" y="2651040"/>
          <a:ext cx="22860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51040"/>
                    <a:ext cx="2286000" cy="115884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546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apidez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una partícula está definida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2209680"/>
                <a:ext cx="65534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i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erl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85800" y="358128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lo que es lo mismo la razón entre la variación de la posición y el tiempo emple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isma manera se define la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celeració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95280" y="5259240"/>
                <a:ext cx="6553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locid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136520"/>
            <a:ext cx="41148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osición de una partícula en un plano (dos dimensiones) se puede escribir como un par ordenado (x, y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conocen ambas compo-nentes (x e y) entonces el lugar donde está situada la partícula está determin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10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29600" y="556272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556272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9480" y="1295280"/>
            <a:ext cx="152640" cy="152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276720"/>
            <a:ext cx="152640" cy="15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273640"/>
            <a:ext cx="152640" cy="15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181480" y="1219320"/>
            <a:ext cx="3657600" cy="335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5121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una partícula describe una trayectoria es posible describir la posición de la partícula con un sólo parámetro angula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44200" y="4648320"/>
            <a:ext cx="264672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nferencia d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radio 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295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ociendo el ángulo    se tiene la posición de la partícula usando sólo trigonometría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5228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el vector posición      se escribe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505320" y="2286000"/>
                <a:ext cx="18288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495680" y="3733920"/>
                <a:ext cx="333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62320" y="4495680"/>
                <a:ext cx="41907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ó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3540240" y="1295280"/>
          <a:ext cx="2696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0240" y="1295280"/>
                    <a:ext cx="2696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6019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Not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preciso definir          : como vectores unitarios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581280" y="586728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219320"/>
            <a:ext cx="8458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suponemos que el ángulo     no es fijo, si no que varía con el tiempo con una velocidad constante      . Entonces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como ya se hizo anteriorm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987800" y="129528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7800" y="129528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4956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324480" y="1752480"/>
          <a:ext cx="381240" cy="3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752480"/>
                    <a:ext cx="38124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1860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447920" y="3056040"/>
          <a:ext cx="586728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056040"/>
                    <a:ext cx="5867280" cy="90648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se tien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600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286000" y="3200400"/>
                <a:ext cx="19461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09680" y="2209680"/>
                <a:ext cx="4953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5800" y="419112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nde       = tiempo que demoró en viajar desde             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suponiendo que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00200" y="4191120"/>
                <a:ext cx="609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196040" y="4191120"/>
                <a:ext cx="881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62120" y="4572000"/>
                <a:ext cx="7855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38480" y="4610160"/>
                <a:ext cx="1524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5562720"/>
                <a:ext cx="25700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imación: Interactive Physics</a:t>
            </a:r>
            <a:r>
              <a:rPr b="0" lang="es-E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219320"/>
            <a:ext cx="82296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     la posición de la partícula en un tiemp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lquiera y sea      la posición de la partícula luego de un tiemp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374840" y="12193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305000" y="1600200"/>
                <a:ext cx="371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20120" y="1676520"/>
                <a:ext cx="533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47920" y="3962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685800" y="2362320"/>
            <a:ext cx="4419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bemos que la velocidad es tangencial a la trayectoria en cada instante y que como es un movimiento circular uniforme         y         son iguales en magnitud pero su dirección camb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639960" cy="3273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62120" y="41148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95160" y="39625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160" y="3962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78920" y="4038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683480" y="4648320"/>
                <a:ext cx="393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6019920" y="4952880"/>
          <a:ext cx="3715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495288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172200" y="3962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172280" y="3962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219320"/>
            <a:ext cx="8153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aceleración es el cambio de velocidad divido por el intervalo     . Sólo importa que la velocidad cambie, aunque sólo sea en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que obtenemos al restar     y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ódulo de la velocidad es constante, sólo cambia su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981080" y="1676520"/>
                <a:ext cx="533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702400" y="2819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5038560" y="2819520"/>
          <a:ext cx="371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2819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992160" cy="927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257976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257800" y="4267080"/>
          <a:ext cx="96840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267080"/>
                    <a:ext cx="9684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114800"/>
          <a:ext cx="3715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41148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340080" y="40384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92760" y="457200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1" name=""/>
          <p:cNvGraphicFramePr/>
          <p:nvPr/>
        </p:nvGraphicFramePr>
        <p:xfrm>
          <a:off x="6694560" y="3703680"/>
          <a:ext cx="5443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94560" y="370368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3T20:59:00Z</dcterms:modified>
  <cp:revision>270</cp:revision>
  <dc:subject/>
  <dc:title>Presentación de PowerPoint</dc:title>
</cp:coreProperties>
</file>