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EED-6017-4BC4-88D2-3DC5BD00E0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Cuadernillo temático- ícono del problema – nombre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Indice temático con enunciad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Enunciado (completo) académico está en un 2º niv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VIDE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1 ) Enunciado coloquial, apoyado de un video, animación o gráfico.(enunciado completo ppt). Planteamiento de las incógnitas a 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resol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2 ) Se plantean 2 métodos de solución y se explica por cual se resolvera. Al usar el método analítico se muestran los datos apoyados de la animación explicativa, junto con el sistema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3 ) Desarrol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Resolución de las ecuaciones que llegan al resultado final, y la discusión de un 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4) Parte b) método gráfico del probl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Referencias a los temas del libro NZ (ref. cap 2, pag 73-78 libro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DB1-FCBF-43A3-84B0-7B9DCD8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067-2288-42A0-AB21-8C7D580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49C-F32A-4760-9CAB-0BF3F353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13D-F4A1-4680-BF0E-A185E3E7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E3C-C6A6-459B-91FB-3C5007B8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98B-3767-4874-BE82-43C8BFA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6A0-2653-47A2-AC88-F2AADB5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AF4-DB9B-4542-8F2A-D126C39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628-E9C1-45D5-83C4-596E5FF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EBD-40B9-48C0-BEA6-1940FE6D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C86-AF32-479C-9491-D82183C5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70B-1068-4029-8742-680B10AD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A50B-A342-43A7-8D73-8680C25A79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aída de un objeto desde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el techo de un edifici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Nelson Zamor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 12mi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10666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objeto se deja caer desde el techo de un edificio. Un observador parado frente a una ventana de altu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egistra el paso del objeto y nota que se demo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s en cruzarl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artir de estos datos, encuentre a qué distancia se halla este observador del tech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   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el objeto continúa cayendo y  segundos después impacta el piso donde queda desplazado : ¿ a qué altura se encuentra la ventana sobre el pis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e el retardo debido a la velocidad del sonido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0120" cy="22096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336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n icónica del 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82296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 de refer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conviene ubicar el origen de coordinadas en el techo del edific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3429000"/>
          <a:ext cx="662940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6294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28800" y="3429000"/>
            <a:ext cx="6781680" cy="259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86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D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429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rroll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ecuación de la posición en función del tiempo para el caso de aceleración cons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emos, con los datos del problema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90920" y="2536920"/>
          <a:ext cx="274320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36920"/>
                    <a:ext cx="2743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025880"/>
          <a:ext cx="51148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25880"/>
                    <a:ext cx="5114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62320" y="42847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504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,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00600" y="5994360"/>
          <a:ext cx="29718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994360"/>
                    <a:ext cx="297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90920" y="4876920"/>
            <a:ext cx="54864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iendo la primera ecuación por la segun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35268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82880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876920"/>
            <a:ext cx="36576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568520"/>
          <a:ext cx="2743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68520"/>
                    <a:ext cx="2743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2590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man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tenemo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66880" y="304164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62120" y="4191120"/>
            <a:ext cx="5943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que la distancia de la ventana al techo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4886280"/>
          <a:ext cx="327672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886280"/>
                    <a:ext cx="32767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graf1" descr=""/>
          <p:cNvPicPr/>
          <p:nvPr/>
        </p:nvPicPr>
        <p:blipFill>
          <a:blip r:embed="rId7"/>
          <a:stretch/>
        </p:blipFill>
        <p:spPr>
          <a:xfrm>
            <a:off x="6095880" y="1676520"/>
            <a:ext cx="2457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229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Utilizando los gráfic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l objeto parte del reposo desde el techo, su velocidad en cualquier instante antes de tocar el piso 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gráfico se desprende que el áre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hurada representa la distanci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orrida 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 entre       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finición de velocidad medi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       y       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1337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638680"/>
            <a:ext cx="3733920" cy="838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057400"/>
          <a:ext cx="1066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1066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81480" y="3276720"/>
          <a:ext cx="317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27672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200400"/>
          <a:ext cx="3733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200400"/>
                    <a:ext cx="3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5651640"/>
          <a:ext cx="350496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651640"/>
                    <a:ext cx="35049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graf2" descr=""/>
          <p:cNvPicPr/>
          <p:nvPr/>
        </p:nvPicPr>
        <p:blipFill>
          <a:blip r:embed="rId11"/>
          <a:stretch/>
        </p:blipFill>
        <p:spPr>
          <a:xfrm>
            <a:off x="5486400" y="4267080"/>
            <a:ext cx="2362320" cy="2264040"/>
          </a:xfrm>
          <a:prstGeom prst="rect">
            <a:avLst/>
          </a:prstGeom>
          <a:ln w="0">
            <a:noFill/>
          </a:ln>
        </p:spPr>
      </p:pic>
      <p:pic>
        <p:nvPicPr>
          <p:cNvPr id="227" name="graf3" descr=""/>
          <p:cNvPicPr/>
          <p:nvPr/>
        </p:nvPicPr>
        <p:blipFill>
          <a:blip r:embed="rId12"/>
          <a:stretch/>
        </p:blipFill>
        <p:spPr>
          <a:xfrm>
            <a:off x="838080" y="2133720"/>
            <a:ext cx="236232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4724280"/>
          <a:ext cx="3175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72428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09680" y="4648320"/>
          <a:ext cx="37332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4648320"/>
                    <a:ext cx="3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cuerdo al gráfico la velocidad media se ubica en el punto indicado en la fig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aso de la aceleración constante, este punto pertenece a la recta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 modo que: 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514600"/>
            <a:ext cx="2590560" cy="1676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90920" y="2619360"/>
          <a:ext cx="22096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19360"/>
                    <a:ext cx="22096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981080"/>
          <a:ext cx="9144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914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69720" y="4724280"/>
            <a:ext cx="69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área encerrada entre           y             representa la distancia recorri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objeto desde el techo hasta el borde superior de la ventana.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29000" y="4773600"/>
          <a:ext cx="6094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73600"/>
                    <a:ext cx="6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343400" y="4730760"/>
          <a:ext cx="7621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30760"/>
                    <a:ext cx="762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6483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066680"/>
            <a:ext cx="2819520" cy="2819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3160" y="4572000"/>
            <a:ext cx="4361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erificar dimensiones de la fórmul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 L = 1.2 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g  =  10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= 1/8 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?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0" y="1206360"/>
          <a:ext cx="2212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06360"/>
                    <a:ext cx="2212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286000" y="2054160"/>
                <a:ext cx="1917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86000" y="2968560"/>
                <a:ext cx="228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38080" y="126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Área =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7524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952880"/>
            <a:ext cx="373356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066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iempo que tarda en llegar al piso se puede obtener d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960" y="1066680"/>
            <a:ext cx="35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1494000"/>
          <a:ext cx="1523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94000"/>
                    <a:ext cx="1523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62120" y="2514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n embargo, no conocemos ni     ni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velocidad del sonido es U, debemos sumar lo que demora en escucha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golpe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2438280"/>
                <a:ext cx="31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673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057400" y="3276720"/>
          <a:ext cx="16765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76720"/>
                    <a:ext cx="16765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52480" y="35812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267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orm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71600" y="419400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514600" y="5035680"/>
                <a:ext cx="35053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4-16T23:00:29Z</dcterms:modified>
  <cp:revision>40</cp:revision>
  <dc:subject/>
  <dc:title>Presentación de PowerPoint</dc:title>
</cp:coreProperties>
</file>