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B83F8A6-2E75-4921-ACD7-D1B706AFD10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E77-65F7-4450-A4A1-BD79935E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FF3-19BF-4681-A858-8F8E7F3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957-D770-4A86-94D2-AF601CB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DC0-18F3-459F-9739-783BBA8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F8E-566D-44C1-B0B5-AE1A0E31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A30-3245-47D1-96F0-90E99C90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05B-7C01-4484-968F-2D4C5F9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986-6828-4920-A7B4-F29749F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B4F-9CAE-4FA5-8714-EEEEF4D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0CD-C16B-48EB-BE70-DC81A0C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5C5-35C6-4C53-8FE0-A9116BEE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6C4-7598-413B-A490-904ADA87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49CA-2AED-4CE1-80D5-BD2006B4EA3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Movimiento Circular Uniform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Mª Fernanda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1371600"/>
                <a:ext cx="533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hacemos       pequeño lo anterior que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05520" y="41911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3886200" y="4343400"/>
          <a:ext cx="371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3434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809880" y="2819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72000" y="2819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6860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85800" y="1279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a diferencia entre ambas velocidades entrega a punta al centro de la circunfer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8640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21160" y="42670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4343400" y="44197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4197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876920" y="3657600"/>
          <a:ext cx="54432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65760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009800" y="533412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ociamos la aceleración al punto medio de la trayector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01004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85800" y="12794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uiendo lo anterior si el intervalo  es pequeño la variación de la dirección de la velocidad también es pequeñ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459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jemplo  s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6520" y="5943600"/>
                <a:ext cx="541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62120" y="2133720"/>
                <a:ext cx="3733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v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2895480"/>
                <a:ext cx="18572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i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95480" y="4459320"/>
                <a:ext cx="2986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127320" y="4952880"/>
          <a:ext cx="27036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4952880"/>
                    <a:ext cx="2703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362320" y="5029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2439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6095880" y="2438280"/>
          <a:ext cx="4399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438280"/>
                    <a:ext cx="43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30800" y="3352680"/>
          <a:ext cx="3463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0800" y="3352680"/>
                    <a:ext cx="346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43800" y="30481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358128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64080" y="2841480"/>
                <a:ext cx="5414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5800" y="2878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tan pequeña como        y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19520" y="1371600"/>
                <a:ext cx="4038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657600" y="2819520"/>
                <a:ext cx="533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62120" y="386244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entras más pequeño el intervalo, más se aproxima el ángulo      a 90° y        tiende a ser perpendicular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2480" y="4395960"/>
                <a:ext cx="381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00400" y="42433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543800" y="4243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09480" y="4876920"/>
            <a:ext cx="792504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95280"/>
            <a:ext cx="78487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se tiene que existe una aceleración (ya que       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 número) y además que la dirección de est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riación de la velocidad (aceleración) apunta hacia el centr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es posible que exista aceleración si supusimos que la velocidad con que se movía la partícula era una constant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respuesta se encuentra en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a ley establece que si sobre un cuerpo no actúan fuerzas externas éste seguirá con velocidad constante y en una trayectoria RECTILÍNE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315200" y="1297080"/>
                <a:ext cx="463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09480" y="3352680"/>
            <a:ext cx="800100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videntemente el movimiento circular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gue una línea recta, debe existir una fuerza que la obligue a cambiar de dirección y por lo tanto, en virtud d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segund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 una aceleración que actúa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anterior es claro si se imagina que se tiene una piedra amarrada a una cuerda y se le hace gira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e ejemplo es la cuerda quien realiza una fuerza sobre la piedra y la mantiene en trayectoria circular, ya que en el momento de soltar la piedra ésta tiende a seguir en línea recta tal y como lo predic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bujos que podrían sumar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b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btene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especificar que la fuerza que actúa en  * es la tensión de la cuerda o la reacción del anillo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decir claramente que la fuerza centrífuga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200400" y="2651040"/>
          <a:ext cx="22860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51040"/>
                    <a:ext cx="2286000" cy="115884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apidez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una partícula está definida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2209680"/>
                <a:ext cx="6553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i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erl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3581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lo que es lo mismo la razón entre la variación de la posición y el tiempo emple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isma manera se define la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celer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5259240"/>
                <a:ext cx="655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136520"/>
            <a:ext cx="4114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osición de una partícula en un plano (dos dimensiones) se puede escribir como un par ordenado (x, y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onocen ambas compo-nentes (x e y) entonces el lugar donde está situada la partícula está determin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0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29600" y="556272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556272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9480" y="1295280"/>
            <a:ext cx="152640" cy="152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76720"/>
            <a:ext cx="152640" cy="15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273640"/>
            <a:ext cx="15264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181480" y="1219320"/>
            <a:ext cx="3657600" cy="335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121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una partícula describe una trayectoria es posible describir la posición de la partícula con un sólo parámetro angul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4200" y="4648320"/>
            <a:ext cx="26467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nferencia d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adio 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95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endo el ángulo    se tiene la posición de la partícula usando sólo trigonometría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5228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el vector posición      se escribe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05320" y="2286000"/>
                <a:ext cx="1828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495680" y="3733920"/>
                <a:ext cx="333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62320" y="4495680"/>
                <a:ext cx="41907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ó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540240" y="1295280"/>
          <a:ext cx="2696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1295280"/>
                    <a:ext cx="269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6019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preciso definir          : como vectores unitarios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81280" y="58672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8458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suponemos que el ángulo     no es fijo, si no que varía con el tiempo con una velocidad constante      . Entonces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o ya se hizo anteriorm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87800" y="129528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129528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4956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324480" y="1752480"/>
          <a:ext cx="38124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752480"/>
                    <a:ext cx="3812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186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47920" y="3056040"/>
          <a:ext cx="5867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56040"/>
                    <a:ext cx="5867280" cy="90648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se tien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6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86000" y="3200400"/>
                <a:ext cx="1946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09680" y="2209680"/>
                <a:ext cx="4953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5800" y="41911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de       = tiempo que demoró en viajar desde             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suponiendo que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00200" y="4191120"/>
                <a:ext cx="609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196040" y="4191120"/>
                <a:ext cx="88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4572000"/>
                <a:ext cx="785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38480" y="4610160"/>
                <a:ext cx="1524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5562720"/>
                <a:ext cx="257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ción: Interactive Physics</a:t>
            </a:r>
            <a:r>
              <a:rPr b="0" lang="es-E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219320"/>
            <a:ext cx="8229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     la posición de la partícula en un tiemp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lquiera y sea      la posición de la partícula luego de un tiemp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4840" y="12193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05000" y="1600200"/>
                <a:ext cx="371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0120" y="16765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47920" y="3962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685800" y="2362320"/>
            <a:ext cx="4419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bemos que la velocidad es tangencial a la trayectoria en cada instante y que como es un movimiento circular uniforme         y         son iguales en magnitud pero su dirección camb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639960" cy="3273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1148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95160" y="39625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3962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78920" y="4038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683480" y="464832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6019920" y="4952880"/>
          <a:ext cx="3715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495288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172200" y="3962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3962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219320"/>
            <a:ext cx="8153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aceleración es el cambio de velocidad divido por el intervalo     . Sólo importa que la velocidad cambie, aunque sólo sea en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que obtenemos al restar     y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ódulo de la velocidad es constante, sólo cambia su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81080" y="1676520"/>
                <a:ext cx="53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02400" y="2819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5038560" y="2819520"/>
          <a:ext cx="371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2819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992160" cy="927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25797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257800" y="4267080"/>
          <a:ext cx="9684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67080"/>
                    <a:ext cx="968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114800"/>
          <a:ext cx="3715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1148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0080" y="4038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92760" y="45720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694560" y="3703680"/>
          <a:ext cx="5443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4560" y="370368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3T20:59:00Z</dcterms:modified>
  <cp:revision>270</cp:revision>
  <dc:subject/>
  <dc:title>Presentación de PowerPoint</dc:title>
</cp:coreProperties>
</file>