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3EC92A3-6D64-4923-A847-7C200F963EF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C76-04DC-46FE-A8BB-DF9A4DB4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080-41B1-4500-8FFF-C6E2CFA1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317-5FA5-4610-9E97-FCB01252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CEB-2AD4-4F3D-82C8-D7088BDE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EC8-1C21-40AF-919A-9021CBB5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57B-FFCD-483A-B321-647764D6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2E0-D47D-44BF-AD42-142BA2D0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C9E-1E97-4797-877A-889C86B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35E-088E-4ED1-868E-16806F39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7CA-B96E-4548-8395-13F34758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7B9-9D87-4813-8193-E4539A56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D01-70FF-4514-843A-FD59D18C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8E11-4501-4B97-BB46-B49389520EF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Resort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Cristian Fernandez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bien la compresión  X estará dada po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43000" y="2590920"/>
                <a:ext cx="58672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031760" y="510552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Lo que no variará si intercambiamos las ma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3200400"/>
            <a:ext cx="2362320" cy="99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a en equilibrio  el sist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622680" cy="22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00600" y="365760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7160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vemos las dos masas y el resorte como un sistema, entonce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stem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209680"/>
                <a:ext cx="23619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↕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1225440" y="3886200"/>
          <a:ext cx="508644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3886200"/>
                    <a:ext cx="5086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5181480"/>
                <a:ext cx="23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Tenemos que el equilibrio,  será cuand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2120" y="2133720"/>
                <a:ext cx="73404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 </m:t>
                    </m:r>
                    <m:r>
                      <m:t xml:space="preserve">∓</m:t>
                    </m:r>
                    <m:r>
                      <m:t xml:space="preserve">K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457200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88200" y="46483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que se acorta el resor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Necesitamos que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1280" y="1357200"/>
                <a:ext cx="1241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4476600"/>
                <a:ext cx="4800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∓</m:t>
                        </m:r>
                        <m:r>
                          <m:t xml:space="preserve">KΔx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62120" y="5695920"/>
                <a:ext cx="434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nemos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257800" y="5467320"/>
                <a:ext cx="1752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56440" y="2438280"/>
            <a:ext cx="31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mos el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obre 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1143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37160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 decir necesitamos que se levante           sob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cuando se debe comprimi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llegar a esa altura , por energí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638680" y="1219320"/>
                <a:ext cx="6224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391520" y="1289160"/>
                <a:ext cx="590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2514600"/>
                <a:ext cx="274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3809880"/>
                <a:ext cx="53337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00200" y="5257800"/>
                <a:ext cx="6080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90920" y="1371600"/>
                <a:ext cx="1796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2209680"/>
                <a:ext cx="39625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520" y="1371600"/>
                <a:ext cx="8381880" cy="39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L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62120" y="1371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33720" y="1371600"/>
                <a:ext cx="154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95280" y="2362320"/>
                <a:ext cx="4343400" cy="19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219320" y="3505320"/>
            <a:ext cx="3504960" cy="838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4T23:29:21Z</dcterms:modified>
  <cp:revision>254</cp:revision>
  <dc:subject/>
  <dc:title>Presentación de PowerPoint</dc:title>
</cp:coreProperties>
</file>