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F1807B3-CBDD-4C65-9EFE-2BF9B31DB59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A37-7B14-402E-9857-9E5C3694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E39-8523-4C98-BAE1-88997838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D44-C718-4F0F-93AB-BE67E6B8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4ED-F0E1-428A-9074-20E5782C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452-363B-4BA9-802F-22B658D8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1FB-59C2-45EB-A721-FA71649F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757-A346-4BAD-8E95-19CC9F95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6A7-65AF-4B8F-B854-0033E92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057-6E6C-46B6-A1EB-2B2A21B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E84-A5DE-4BCF-81C4-2F81301D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BE3-DAE6-411C-83DA-828E9044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C44-4BE1-4E2C-803A-62806823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038E-C560-462F-833B-8426E178F11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Resort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Cristian Fernandez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bien la compresión  X estará dada po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43000" y="2590920"/>
                <a:ext cx="58672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031760" y="510552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Lo que no variará si intercambiamos las ma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3200400"/>
            <a:ext cx="2362320" cy="99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a en equilibrio  el sist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622680" cy="22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00600" y="365760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7160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vemos las dos masas y el resorte como un sistema, entonce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stem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209680"/>
                <a:ext cx="23619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↕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1225440" y="3886200"/>
          <a:ext cx="508644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3886200"/>
                    <a:ext cx="5086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5181480"/>
                <a:ext cx="23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Tenemos que el equilibrio,  será cuand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2120" y="2133720"/>
                <a:ext cx="73404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 </m:t>
                    </m:r>
                    <m:r>
                      <m:t xml:space="preserve">∓</m:t>
                    </m:r>
                    <m:r>
                      <m:t xml:space="preserve">K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457200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88200" y="46483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que se acorta el resor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Necesitamos que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1280" y="1357200"/>
                <a:ext cx="1241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4476600"/>
                <a:ext cx="4800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∓</m:t>
                        </m:r>
                        <m:r>
                          <m:t xml:space="preserve">KΔx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62120" y="5695920"/>
                <a:ext cx="434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nemos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257800" y="5467320"/>
                <a:ext cx="1752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56440" y="2438280"/>
            <a:ext cx="31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mos el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obre 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1143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37160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 decir necesitamos que se levante           sob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cuando se debe comprimi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llegar a esa altura , por energí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638680" y="1219320"/>
                <a:ext cx="6224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391520" y="1289160"/>
                <a:ext cx="590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2514600"/>
                <a:ext cx="274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3809880"/>
                <a:ext cx="53337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00200" y="5257800"/>
                <a:ext cx="6080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90920" y="1371600"/>
                <a:ext cx="1796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2209680"/>
                <a:ext cx="39625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520" y="1371600"/>
                <a:ext cx="8381880" cy="39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L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62120" y="1371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33720" y="1371600"/>
                <a:ext cx="154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95280" y="2362320"/>
                <a:ext cx="4343400" cy="19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219320" y="3505320"/>
            <a:ext cx="3504960" cy="838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4T23:29:21Z</dcterms:modified>
  <cp:revision>254</cp:revision>
  <dc:subject/>
  <dc:title>Presentación de PowerPoint</dc:title>
</cp:coreProperties>
</file>