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50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2.png" ContentType="image/png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34.wmf" ContentType="image/x-wmf"/>
  <Override PartName="/ppt/media/image46.wmf" ContentType="image/x-wmf"/>
  <Override PartName="/ppt/media/image11.wmf" ContentType="image/x-wmf"/>
  <Override PartName="/ppt/media/image48.png" ContentType="image/png"/>
  <Override PartName="/ppt/media/image51.wmf" ContentType="image/x-wmf"/>
  <Override PartName="/ppt/media/image40.wmf" ContentType="image/x-wmf"/>
  <Override PartName="/ppt/media/image4.jpeg" ContentType="image/jpeg"/>
  <Override PartName="/ppt/media/image8.wmf" ContentType="image/x-wmf"/>
  <Override PartName="/ppt/media/image38.wmf" ContentType="image/x-wmf"/>
  <Override PartName="/ppt/media/image49.png" ContentType="image/png"/>
  <Override PartName="/ppt/media/image52.wmf" ContentType="image/x-wmf"/>
  <Override PartName="/ppt/media/image41.wmf" ContentType="image/x-wmf"/>
  <Override PartName="/ppt/media/image9.wmf" ContentType="image/x-wmf"/>
  <Override PartName="/ppt/media/image39.wmf" ContentType="image/x-wmf"/>
  <Override PartName="/ppt/media/image53.wmf" ContentType="image/x-wmf"/>
  <Override PartName="/ppt/media/image32.wmf" ContentType="image/x-wmf"/>
  <Override PartName="/ppt/media/image31.wmf" ContentType="image/x-wmf"/>
  <Override PartName="/ppt/media/image29.wmf" ContentType="image/x-wmf"/>
  <Override PartName="/ppt/media/image30.wmf" ContentType="image/x-wmf"/>
  <Override PartName="/ppt/media/image13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7.wmf" ContentType="image/x-wmf"/>
  <Override PartName="/ppt/media/image37.wmf" ContentType="image/x-wmf"/>
  <Override PartName="/ppt/media/image6.wmf" ContentType="image/x-wmf"/>
  <Override PartName="/ppt/media/image3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215188" cy="9501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7214400" cy="95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125880" cy="474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dt" idx="4"/>
          </p:nvPr>
        </p:nvSpPr>
        <p:spPr>
          <a:xfrm>
            <a:off x="4087440" y="-360"/>
            <a:ext cx="3125880" cy="474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sldImg"/>
          </p:nvPr>
        </p:nvSpPr>
        <p:spPr>
          <a:xfrm>
            <a:off x="1231920" y="712440"/>
            <a:ext cx="4749840" cy="35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ftr" idx="5"/>
          </p:nvPr>
        </p:nvSpPr>
        <p:spPr>
          <a:xfrm>
            <a:off x="-360" y="9024480"/>
            <a:ext cx="3125880" cy="474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 type="sldNum" idx="6"/>
          </p:nvPr>
        </p:nvSpPr>
        <p:spPr>
          <a:xfrm>
            <a:off x="4087440" y="9024480"/>
            <a:ext cx="3125880" cy="474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CBEF00F1-6EA8-446C-8208-973965A82FA6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h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En la figura se representa un pelotón de forma cuadrada y lado L, que marcha con rapidez u constante. El oficial (O) del pelotón se propone pasar revista a las filas mientras éstas marchan, siguiendo la secuencia AB, BC, CD y DA. El oficial mantendrá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rapidez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constante v &gt; u, durante toda la revis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0000"/>
                </a:solidFill>
                <a:latin typeface="Verdana"/>
                <a:ea typeface="Times New Roman"/>
              </a:rPr>
              <a:t>a)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Dibuje la trayectoria del oficial O en el plano x –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0000"/>
                </a:solidFill>
                <a:latin typeface="Verdana"/>
                <a:ea typeface="Times New Roman"/>
              </a:rPr>
              <a:t>b)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Determine la dirección con que debe desplazarse O en el tramo BC, para evitar que le pisen los talo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0000"/>
                </a:solidFill>
                <a:latin typeface="Verdana"/>
                <a:ea typeface="Times New Roman"/>
              </a:rPr>
              <a:t>c)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Calcule el tiempo que requiere O para revisar las filas del pelot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BD98-DD86-488A-8E28-9AAE80B46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2645-5A38-41F5-A912-26D9F9B6B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0B36-A83F-48C1-A30F-42AD6630A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0A8E-9EC8-4B28-8199-F2315803A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8664-557E-458D-9E8C-DCFD6D135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1438-F6DD-44F7-B66B-ACAEE9206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E5BC-6D30-42A3-9204-969D6D88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4463-5D4D-4498-872C-A7810FCE6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35BA-3AF1-4736-8D2B-6E31A5854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7773-C460-4DEC-B3A5-2C196F4AF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B2ED-2DE6-42BA-BEE9-73AB3E916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9C70-9930-4CD4-BD62-0542247FA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86672"/>
          <a:stretch/>
        </p:blipFill>
        <p:spPr>
          <a:xfrm>
            <a:off x="0" y="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0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41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42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4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96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01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3C925-B45F-4E36-BE9A-F7D93615F10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4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image" Target="../media/image5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2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image" Target="../media/image13.wmf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1.wmf"/><Relationship Id="rId11" Type="http://schemas.openxmlformats.org/officeDocument/2006/relationships/image" Target="../media/image32.wmf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523880" y="3048120"/>
            <a:ext cx="70866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b2b2b2"/>
                </a:solidFill>
                <a:latin typeface="Verdana"/>
              </a:rPr>
              <a:t>ESCUADRÓN</a:t>
            </a:r>
            <a:r>
              <a:rPr b="0" lang="es-ES" sz="2800" spc="-1" strike="noStrike">
                <a:solidFill>
                  <a:srgbClr val="b2b2b2"/>
                </a:solidFill>
                <a:latin typeface="Verdana"/>
                <a:ea typeface="Times New Roman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b2b2b2"/>
                </a:solidFill>
                <a:latin typeface="Verdana"/>
                <a:ea typeface="Times New Roman"/>
              </a:rPr>
              <a:t>Por: </a:t>
            </a:r>
            <a:r>
              <a:rPr b="0" lang="es-ES" sz="2200" spc="-1" strike="noStrike">
                <a:solidFill>
                  <a:srgbClr val="b2b2b2"/>
                </a:solidFill>
                <a:latin typeface="Verdana"/>
                <a:ea typeface="Times New Roman"/>
              </a:rPr>
              <a:t>Valentina Quiroga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486400" y="304920"/>
            <a:ext cx="28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Método analític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480" y="1371600"/>
            <a:ext cx="815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Luego el tiempo pedido será: 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2438280" y="3352680"/>
          <a:ext cx="3353040" cy="6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3352680"/>
                    <a:ext cx="335304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2209680" y="4419720"/>
          <a:ext cx="4572000" cy="123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4419720"/>
                    <a:ext cx="4572000" cy="1239840"/>
                  </a:xfrm>
                  <a:prstGeom prst="rect">
                    <a:avLst/>
                  </a:prstGeom>
                  <a:ln w="28440">
                    <a:solidFill>
                      <a:srgbClr val="cc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2422440" y="2438280"/>
          <a:ext cx="3899160" cy="614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22440" y="2438280"/>
                    <a:ext cx="389916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"/>
          <p:cNvSpPr/>
          <p:nvPr/>
        </p:nvSpPr>
        <p:spPr>
          <a:xfrm>
            <a:off x="3962520" y="2514600"/>
            <a:ext cx="609480" cy="533520"/>
          </a:xfrm>
          <a:prstGeom prst="rect">
            <a:avLst/>
          </a:prstGeom>
          <a:noFill/>
          <a:ln w="2844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715000" y="2514600"/>
            <a:ext cx="609480" cy="533520"/>
          </a:xfrm>
          <a:prstGeom prst="rect">
            <a:avLst/>
          </a:prstGeom>
          <a:noFill/>
          <a:ln w="2844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86400" y="304920"/>
            <a:ext cx="28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Método analític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9480" y="1143000"/>
            <a:ext cx="815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Corroboremos haciendo 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6248520" y="3276720"/>
          <a:ext cx="1143000" cy="90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3276720"/>
                    <a:ext cx="1143000" cy="906480"/>
                  </a:xfrm>
                  <a:prstGeom prst="rect">
                    <a:avLst/>
                  </a:prstGeom>
                  <a:ln w="28440">
                    <a:solidFill>
                      <a:srgbClr val="cc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3657600" y="1066680"/>
          <a:ext cx="838080" cy="419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1066680"/>
                    <a:ext cx="83808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"/>
          <p:cNvSpPr/>
          <p:nvPr/>
        </p:nvSpPr>
        <p:spPr>
          <a:xfrm>
            <a:off x="609480" y="5715000"/>
            <a:ext cx="815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 este caso el oficial recorre una distancia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5181480" y="5715000"/>
          <a:ext cx="457200" cy="349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81480" y="5715000"/>
                    <a:ext cx="457200" cy="3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66" name=""/>
          <p:cNvGrpSpPr/>
          <p:nvPr/>
        </p:nvGrpSpPr>
        <p:grpSpPr>
          <a:xfrm>
            <a:off x="1066680" y="1905120"/>
            <a:ext cx="3276720" cy="3116160"/>
            <a:chOff x="1066680" y="1905120"/>
            <a:chExt cx="3276720" cy="3116160"/>
          </a:xfrm>
        </p:grpSpPr>
        <p:pic>
          <p:nvPicPr>
            <p:cNvPr id="267" name="" descr=""/>
            <p:cNvPicPr/>
            <p:nvPr/>
          </p:nvPicPr>
          <p:blipFill>
            <a:blip r:embed="rId7"/>
            <a:stretch/>
          </p:blipFill>
          <p:spPr>
            <a:xfrm>
              <a:off x="1066680" y="1905120"/>
              <a:ext cx="3124080" cy="311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504960" y="3429000"/>
              <a:ext cx="838440" cy="532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486400" y="304920"/>
            <a:ext cx="28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Método analític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93640" y="1251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37640" y="1152360"/>
            <a:ext cx="408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ongamos la siguiente condición: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1219320" y="1685880"/>
            <a:ext cx="3959280" cy="501984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5077080" y="266688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</a:rPr>
              <a:t>Partid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080680" y="502920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</a:rPr>
              <a:t>Llegad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876920" y="1066680"/>
            <a:ext cx="4114800" cy="580680"/>
          </a:xfrm>
          <a:prstGeom prst="rect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l oficial pasa la ronda en el tiempo que el escuadrón avanza </a:t>
            </a:r>
            <a:r>
              <a:rPr b="1" lang="en-US" sz="1600" spc="-1" strike="noStrike">
                <a:solidFill>
                  <a:srgbClr val="00679c"/>
                </a:solidFill>
                <a:latin typeface="Verdana"/>
              </a:rPr>
              <a:t>L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86400" y="304920"/>
            <a:ext cx="28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Método analític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3962520" y="2057400"/>
          <a:ext cx="1341360" cy="43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2057400"/>
                    <a:ext cx="1341360" cy="430200"/>
                  </a:xfrm>
                  <a:prstGeom prst="rect">
                    <a:avLst/>
                  </a:prstGeom>
                  <a:ln w="28440">
                    <a:solidFill>
                      <a:srgbClr val="cc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81" name=""/>
          <p:cNvGraphicFramePr/>
          <p:nvPr/>
        </p:nvGraphicFramePr>
        <p:xfrm>
          <a:off x="2584440" y="5257800"/>
          <a:ext cx="4273560" cy="113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84440" y="5257800"/>
                    <a:ext cx="4273560" cy="11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"/>
          <p:cNvSpPr/>
          <p:nvPr/>
        </p:nvSpPr>
        <p:spPr>
          <a:xfrm>
            <a:off x="699840" y="1143000"/>
            <a:ext cx="718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í, el desplazamiento del escuadrón queda determinado po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963360" y="3505320"/>
            <a:ext cx="694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nde T es el tiempo que tarda el oficial en pasar revist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38440" y="4572000"/>
            <a:ext cx="35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emplazando el valor de T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86400" y="304920"/>
            <a:ext cx="28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Método analític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2209680" y="3048120"/>
          <a:ext cx="3152880" cy="110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048120"/>
                    <a:ext cx="3152880" cy="110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"/>
          <p:cNvSpPr/>
          <p:nvPr/>
        </p:nvSpPr>
        <p:spPr>
          <a:xfrm>
            <a:off x="731160" y="2362320"/>
            <a:ext cx="444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Reescribiendo la ecuación anterior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1920960" y="1295280"/>
            <a:ext cx="898560" cy="838080"/>
            <a:chOff x="1920960" y="1295280"/>
            <a:chExt cx="898560" cy="838080"/>
          </a:xfrm>
        </p:grpSpPr>
        <p:graphicFrame>
          <p:nvGraphicFramePr>
            <p:cNvPr id="292" name=""/>
            <p:cNvGraphicFramePr/>
            <p:nvPr/>
          </p:nvGraphicFramePr>
          <p:xfrm>
            <a:off x="1997280" y="1295280"/>
            <a:ext cx="822240" cy="838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9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97280" y="1295280"/>
                      <a:ext cx="822240" cy="83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4" name=""/>
            <p:cNvSpPr/>
            <p:nvPr/>
          </p:nvSpPr>
          <p:spPr>
            <a:xfrm>
              <a:off x="1920960" y="1523880"/>
              <a:ext cx="6098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809640" y="1447920"/>
            <a:ext cx="16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alicemos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2209680" y="4419720"/>
          <a:ext cx="4221360" cy="1976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4419720"/>
                    <a:ext cx="4221360" cy="19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"/>
          <p:cNvSpPr/>
          <p:nvPr/>
        </p:nvSpPr>
        <p:spPr>
          <a:xfrm>
            <a:off x="762120" y="1219320"/>
            <a:ext cx="2133360" cy="914400"/>
          </a:xfrm>
          <a:prstGeom prst="rect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86400" y="304920"/>
            <a:ext cx="28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Método gráfic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5181480" y="3809880"/>
          <a:ext cx="3048120" cy="110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3809880"/>
                    <a:ext cx="3048120" cy="11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"/>
          <p:cNvSpPr/>
          <p:nvPr/>
        </p:nvSpPr>
        <p:spPr>
          <a:xfrm>
            <a:off x="804600" y="4127400"/>
            <a:ext cx="421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uego reemplazando obtenemos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967320" y="1447920"/>
            <a:ext cx="46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gamos el siguiente cambio:            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4892760" y="1257480"/>
          <a:ext cx="82224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92760" y="1257480"/>
                    <a:ext cx="8222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3124080" y="2743200"/>
          <a:ext cx="1143000" cy="36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24080" y="2743200"/>
                    <a:ext cx="114300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"/>
          <p:cNvSpPr/>
          <p:nvPr/>
        </p:nvSpPr>
        <p:spPr>
          <a:xfrm>
            <a:off x="685800" y="274320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bservemos que:            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87400" y="5638680"/>
            <a:ext cx="585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Verdana"/>
              </a:rPr>
              <a:t>Resolvamos esta ecuación mediante un gráfico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304920"/>
            <a:ext cx="28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Método gráfic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2362320" y="1081080"/>
          <a:ext cx="3352680" cy="105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081080"/>
                    <a:ext cx="3352680" cy="10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"/>
          <p:cNvSpPr/>
          <p:nvPr/>
        </p:nvSpPr>
        <p:spPr>
          <a:xfrm>
            <a:off x="673560" y="1432080"/>
            <a:ext cx="161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finamos 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16" name="fig" descr=""/>
          <p:cNvPicPr/>
          <p:nvPr/>
        </p:nvPicPr>
        <p:blipFill>
          <a:blip r:embed="rId3"/>
          <a:srcRect l="3533" t="1815" r="0" b="4271"/>
          <a:stretch/>
        </p:blipFill>
        <p:spPr>
          <a:xfrm>
            <a:off x="304920" y="2701800"/>
            <a:ext cx="3809880" cy="240372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905760" y="6095880"/>
            <a:ext cx="669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Verdana"/>
              </a:rPr>
              <a:t>Existe solamente una solución para nuestro problema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18" name="zoom" descr=""/>
          <p:cNvPicPr/>
          <p:nvPr/>
        </p:nvPicPr>
        <p:blipFill>
          <a:blip r:embed="rId4"/>
          <a:srcRect l="3223" t="0" r="9411" b="3577"/>
          <a:stretch/>
        </p:blipFill>
        <p:spPr>
          <a:xfrm>
            <a:off x="4419720" y="2666880"/>
            <a:ext cx="4267080" cy="301968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2133720" y="3768840"/>
            <a:ext cx="914400" cy="304560"/>
          </a:xfrm>
          <a:prstGeom prst="rect">
            <a:avLst/>
          </a:prstGeom>
          <a:noFill/>
          <a:ln w="28440">
            <a:solidFill>
              <a:srgbClr val="40458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267080" y="2362320"/>
            <a:ext cx="4648320" cy="3504960"/>
          </a:xfrm>
          <a:prstGeom prst="rect">
            <a:avLst/>
          </a:prstGeom>
          <a:noFill/>
          <a:ln w="28440">
            <a:solidFill>
              <a:srgbClr val="40458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6320" y="3733920"/>
            <a:ext cx="31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981080" y="2438280"/>
            <a:ext cx="31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602560" y="4191120"/>
            <a:ext cx="31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572000" y="2438280"/>
            <a:ext cx="31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486400" y="304920"/>
            <a:ext cx="28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Método analític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48080" y="1143000"/>
            <a:ext cx="393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solviendo para una columna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3733920" y="5334120"/>
          <a:ext cx="2589120" cy="95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5334120"/>
                    <a:ext cx="258912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0" name="" descr=""/>
          <p:cNvPicPr/>
          <p:nvPr/>
        </p:nvPicPr>
        <p:blipFill>
          <a:blip r:embed="rId3"/>
          <a:stretch/>
        </p:blipFill>
        <p:spPr>
          <a:xfrm>
            <a:off x="2286000" y="1920960"/>
            <a:ext cx="5364000" cy="1279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1" name=""/>
          <p:cNvGraphicFramePr/>
          <p:nvPr/>
        </p:nvGraphicFramePr>
        <p:xfrm>
          <a:off x="3124080" y="4016520"/>
          <a:ext cx="3821400" cy="860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24080" y="4016520"/>
                    <a:ext cx="382140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"/>
          <p:cNvSpPr/>
          <p:nvPr/>
        </p:nvSpPr>
        <p:spPr>
          <a:xfrm>
            <a:off x="762480" y="4168800"/>
            <a:ext cx="22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cordemos que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029200" y="3962520"/>
            <a:ext cx="1066680" cy="914400"/>
          </a:xfrm>
          <a:prstGeom prst="rect">
            <a:avLst/>
          </a:prstGeom>
          <a:noFill/>
          <a:ln w="28440">
            <a:solidFill>
              <a:srgbClr val="cc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486400" y="304920"/>
            <a:ext cx="28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Método analític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4038480" y="2705040"/>
          <a:ext cx="1654200" cy="95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2705040"/>
                    <a:ext cx="1654200" cy="952560"/>
                  </a:xfrm>
                  <a:prstGeom prst="rect">
                    <a:avLst/>
                  </a:prstGeom>
                  <a:ln w="28440">
                    <a:solidFill>
                      <a:srgbClr val="cc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39" name=""/>
          <p:cNvSpPr/>
          <p:nvPr/>
        </p:nvSpPr>
        <p:spPr>
          <a:xfrm>
            <a:off x="636480" y="1371600"/>
            <a:ext cx="65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n caso más simple es el de una columna de soldado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952880" y="304920"/>
            <a:ext cx="33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jercicio propuest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101600" y="1143000"/>
            <a:ext cx="76089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00"/>
                </a:solidFill>
                <a:latin typeface="Verdana"/>
              </a:rPr>
              <a:t>Propuesto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alcular el tiempo que tarda el Oficial pasando revista a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un escuadrón de forma rectangular, cuyos lados son </a:t>
            </a:r>
            <a:r>
              <a:rPr b="0" lang="es-ES" sz="2000" spc="-1" strike="noStrike">
                <a:solidFill>
                  <a:srgbClr val="cc0000"/>
                </a:solidFill>
                <a:latin typeface="Verdana"/>
              </a:rPr>
              <a:t>a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y </a:t>
            </a:r>
            <a:r>
              <a:rPr b="0" lang="es-ES" sz="2000" spc="-1" strike="noStrike">
                <a:solidFill>
                  <a:srgbClr val="cc0000"/>
                </a:solidFill>
                <a:latin typeface="Verdana"/>
              </a:rPr>
              <a:t>b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bajo las mismas condiciones.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rroborar que para el escuadrón de lado </a:t>
            </a:r>
            <a:r>
              <a:rPr b="1" lang="es-ES" sz="2000" spc="-1" strike="noStrike">
                <a:solidFill>
                  <a:srgbClr val="00679c"/>
                </a:solidFill>
                <a:latin typeface="Verdana"/>
              </a:rPr>
              <a:t>L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, el oficial recorre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fectivamente una distancia de al menos     .      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6172200" y="3581280"/>
          <a:ext cx="457200" cy="34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3581280"/>
                    <a:ext cx="457200" cy="3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"/>
          <p:cNvSpPr/>
          <p:nvPr/>
        </p:nvSpPr>
        <p:spPr>
          <a:xfrm>
            <a:off x="685800" y="1905120"/>
            <a:ext cx="152280" cy="15228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100000">
                <a:srgbClr val="2b0a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85800" y="3352680"/>
            <a:ext cx="152280" cy="15264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100000">
                <a:srgbClr val="2b0a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Animació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638680" y="22860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133720" y="1317600"/>
            <a:ext cx="5095800" cy="50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9480" y="10666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  <a:ea typeface="Times New Roman"/>
              </a:rPr>
              <a:t>a)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Trayectoria del oficial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70112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13716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  <a:ea typeface="Times New Roman"/>
              </a:rPr>
              <a:t>b)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Cálculo del ángulo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81280" y="1395360"/>
          <a:ext cx="381240" cy="35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1395360"/>
                    <a:ext cx="38124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2209680" y="207180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proyección horizontal del vector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6019920" y="1981080"/>
          <a:ext cx="301680" cy="44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9920" y="1981080"/>
                    <a:ext cx="30168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1295280" y="2943360"/>
          <a:ext cx="1206720" cy="777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5280" y="2943360"/>
                    <a:ext cx="1206720" cy="77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1752480" y="2666880"/>
          <a:ext cx="1359000" cy="276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52480" y="2666880"/>
                    <a:ext cx="1359000" cy="2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1752480" y="1981080"/>
          <a:ext cx="478080" cy="427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752480" y="1981080"/>
                    <a:ext cx="478080" cy="4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7" name="" descr=""/>
          <p:cNvPicPr/>
          <p:nvPr/>
        </p:nvPicPr>
        <p:blipFill>
          <a:blip r:embed="rId11"/>
          <a:stretch/>
        </p:blipFill>
        <p:spPr>
          <a:xfrm>
            <a:off x="1219320" y="3954600"/>
            <a:ext cx="3352680" cy="27273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12"/>
          <a:stretch/>
        </p:blipFill>
        <p:spPr>
          <a:xfrm>
            <a:off x="6172200" y="4343400"/>
            <a:ext cx="165420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486400" y="304920"/>
            <a:ext cx="28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Método analític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" y="13716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  <a:ea typeface="Times New Roman"/>
              </a:rPr>
              <a:t>c)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Tiempo que tarda el oficial  O en recorrer el pelotón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14400" y="2362320"/>
            <a:ext cx="7086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Movimiento con velocidad constante (aceleración = 0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Movimiento en 2 Dimensione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dentificación de variable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2438280"/>
            <a:ext cx="152280" cy="15264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100000">
                <a:srgbClr val="2b0a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2971800"/>
            <a:ext cx="152280" cy="15228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100000">
                <a:srgbClr val="2b0a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100000">
                <a:srgbClr val="2b0a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320" y="426708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Posición de O en el eje x: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Posición de O en el eje y: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Posición de una fila del escuadrón en el eje x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191120" y="4535640"/>
          <a:ext cx="1676160" cy="44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4535640"/>
                    <a:ext cx="167616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4140360" y="5056200"/>
          <a:ext cx="1726920" cy="47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40360" y="5056200"/>
                    <a:ext cx="172692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6553080" y="5638680"/>
          <a:ext cx="1600200" cy="452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53080" y="5638680"/>
                    <a:ext cx="160020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1066680" y="4419720"/>
            <a:ext cx="7239240" cy="182880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13716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  <a:ea typeface="Times New Roman"/>
              </a:rPr>
              <a:t>Tramo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486400" y="304920"/>
            <a:ext cx="28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Método analític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676520" y="1371600"/>
          <a:ext cx="514080" cy="36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371600"/>
                    <a:ext cx="51408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1522440" y="2114640"/>
          <a:ext cx="1409760" cy="43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440" y="2114640"/>
                    <a:ext cx="1409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5014800" y="2100240"/>
          <a:ext cx="1957680" cy="460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14800" y="2100240"/>
                    <a:ext cx="195768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3187440" y="217656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  <a:ea typeface="Times New Roman"/>
              </a:rPr>
              <a:t>(1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302240" y="217656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  <a:ea typeface="Times New Roman"/>
              </a:rPr>
              <a:t>(2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85800" y="327672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haciendo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87200" y="3290760"/>
            <a:ext cx="8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  <a:ea typeface="Times New Roman"/>
              </a:rPr>
              <a:t>(1)=(2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1676520" y="4800600"/>
          <a:ext cx="1855800" cy="1079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4800600"/>
                    <a:ext cx="1855800" cy="1079640"/>
                  </a:xfrm>
                  <a:prstGeom prst="rect">
                    <a:avLst/>
                  </a:prstGeom>
                  <a:ln w="28440">
                    <a:solidFill>
                      <a:srgbClr val="cc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685800" y="3809880"/>
          <a:ext cx="3713040" cy="627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5800" y="3809880"/>
                    <a:ext cx="371304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1" name="" descr=""/>
          <p:cNvPicPr/>
          <p:nvPr/>
        </p:nvPicPr>
        <p:blipFill>
          <a:blip r:embed="rId11"/>
          <a:stretch/>
        </p:blipFill>
        <p:spPr>
          <a:xfrm>
            <a:off x="5106960" y="2971800"/>
            <a:ext cx="330192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13716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  <a:ea typeface="Times New Roman"/>
              </a:rPr>
              <a:t>Tramo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486400" y="304920"/>
            <a:ext cx="28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Método analític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689120" y="1360440"/>
          <a:ext cx="488880" cy="3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9120" y="1360440"/>
                    <a:ext cx="48888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5184360" y="220968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  <a:ea typeface="Times New Roman"/>
              </a:rPr>
              <a:t>(3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2514600" y="2057400"/>
          <a:ext cx="2666880" cy="120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2057400"/>
                    <a:ext cx="2666880" cy="12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5184360" y="274320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  <a:ea typeface="Times New Roman"/>
              </a:rPr>
              <a:t>(4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228680" y="3124080"/>
          <a:ext cx="2581200" cy="946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28680" y="3124080"/>
                    <a:ext cx="2581200" cy="9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5184360" y="336708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  <a:ea typeface="Times New Roman"/>
              </a:rPr>
              <a:t>(5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2209680" y="4572000"/>
          <a:ext cx="2438640" cy="1106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09680" y="4572000"/>
                    <a:ext cx="2438640" cy="1106640"/>
                  </a:xfrm>
                  <a:prstGeom prst="rect">
                    <a:avLst/>
                  </a:prstGeom>
                  <a:ln w="28440">
                    <a:solidFill>
                      <a:srgbClr val="cc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226" name="" descr=""/>
          <p:cNvPicPr/>
          <p:nvPr/>
        </p:nvPicPr>
        <p:blipFill>
          <a:blip r:embed="rId9"/>
          <a:stretch/>
        </p:blipFill>
        <p:spPr>
          <a:xfrm>
            <a:off x="6019920" y="3124080"/>
            <a:ext cx="2574720" cy="34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486400" y="304920"/>
            <a:ext cx="28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Método analític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144792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  <a:ea typeface="Times New Roman"/>
              </a:rPr>
              <a:t>Tram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689120" y="1414440"/>
          <a:ext cx="488880" cy="41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9120" y="1414440"/>
                    <a:ext cx="48888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1190520" y="2255760"/>
          <a:ext cx="2059200" cy="490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90520" y="2255760"/>
                    <a:ext cx="2059200" cy="4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4908600" y="2314440"/>
          <a:ext cx="1493640" cy="459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08600" y="2314440"/>
                    <a:ext cx="149364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3492000" y="233208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  <a:ea typeface="Times New Roman"/>
              </a:rPr>
              <a:t>(7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632280" y="234648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  <a:ea typeface="Times New Roman"/>
              </a:rPr>
              <a:t>(8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350532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haciendo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987200" y="3519360"/>
            <a:ext cx="8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  <a:ea typeface="Times New Roman"/>
              </a:rPr>
              <a:t>(7)=(8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1752480" y="4952880"/>
          <a:ext cx="1778040" cy="976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52480" y="4952880"/>
                    <a:ext cx="1778040" cy="976320"/>
                  </a:xfrm>
                  <a:prstGeom prst="rect">
                    <a:avLst/>
                  </a:prstGeom>
                  <a:ln w="28440">
                    <a:solidFill>
                      <a:srgbClr val="cc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1665360" y="4267080"/>
          <a:ext cx="1992240" cy="427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65360" y="4267080"/>
                    <a:ext cx="1992240" cy="4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4" name="" descr=""/>
          <p:cNvPicPr/>
          <p:nvPr/>
        </p:nvPicPr>
        <p:blipFill>
          <a:blip r:embed="rId11"/>
          <a:stretch/>
        </p:blipFill>
        <p:spPr>
          <a:xfrm>
            <a:off x="5410080" y="3048120"/>
            <a:ext cx="311328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9T01:06:10Z</dcterms:created>
  <dc:creator>Antonio Hales</dc:creator>
  <dc:description/>
  <dc:language>en-US</dc:language>
  <cp:lastModifiedBy>Alejandra Avila</cp:lastModifiedBy>
  <dcterms:modified xsi:type="dcterms:W3CDTF">2003-08-05T19:16:34Z</dcterms:modified>
  <cp:revision>328</cp:revision>
  <dc:subject/>
  <dc:title>Presentación de PowerPoint</dc:title>
</cp:coreProperties>
</file>