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C95768C-2CBD-496D-93C3-AF274AF006D6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No se si es necesario señalar todos los pasos en el video...(Yo no sesi es bueno o mal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Resul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mentari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Falta señalar que la distancia entre ambos objetos en el instante inicial (t=0) es d ó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Tb se debe señalar que cuandose toca la linea y la parabola tienen la misma pend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Por lo tanto la misma velo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graf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nviene señalar que es lo que sucede  cuando la vel. del  movil 1 cuando cruza la abcisa. Indicar como aparecen las condiciones iniciales en el grá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Señalar el significado de los signos + y – en lo graf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graf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Necesitamos ani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Se necesita el abstract del enunc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Pregunta del probl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im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falta el sistema de referencia y la especificación de los datos conoci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n eso se llega a escribir la ecuación de movi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Señalando claramente que sobrevive y que no. Importante es hacer emfasis en el sentido de la acelerac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Esto es valido para ambos móvi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Yo pondría  una frase com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“</a:t>
            </a: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 partir de la definicion de aceleración constante podemos obtener esta expresión para la velocidad en cualquier instant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as velocidades de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Quizas aquí se pueda intercalar la animacion. Para señalar claramente cuales son las condiciones del problema: los tranes apenas se tocan y el de A debe viajar a la misma velocidad cuando se tocan y despues aumentar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uando estan a punto de tocarse, se establece la ec.   4 (no tiene nume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as velocidades de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se establece que ADEMAS en el mismo instante deben tener la misma velocidad para no enterrarse el uno en elñ otr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Despejo de Ecu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Reemplazo de 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419-725E-46B3-A7A1-75573152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71B-4BCF-494F-A5A0-F233EDA8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CA9-76BC-40A7-8F67-215F0781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DA3-3E6A-4D86-B99F-C0BFF734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E2B-BBBF-4A36-8038-C85A65BA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198-C31F-40AB-98A0-4BE8EB7B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5E01-5318-4D1E-BE82-C67907E1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3AAA-C01C-4CA9-90BE-F21E8FFA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65E5-66F6-40E8-BACB-37D65596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F7E-EACA-4D80-B099-A7AA30C2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61B-FB79-4F32-879D-BD5DCA5E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198-CF60-423A-8601-2B6FDF2E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nterior2%20copiar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9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4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99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DEE2-5B87-418C-A791-13E304DB805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2" name="portada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3048120"/>
            <a:ext cx="48006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2b2b2"/>
                </a:solidFill>
                <a:latin typeface="Verdana"/>
              </a:rPr>
              <a:t>Choque de trenes</a:t>
            </a: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Tamara Cabre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2b2b2"/>
                </a:solidFill>
                <a:latin typeface="Verdana"/>
                <a:ea typeface="Times New Roman"/>
              </a:rPr>
              <a:t>Duración: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447920" y="1730520"/>
          <a:ext cx="5943600" cy="16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30520"/>
                    <a:ext cx="5943600" cy="16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3362400" y="4151160"/>
          <a:ext cx="1911240" cy="103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62400" y="4151160"/>
                    <a:ext cx="191124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3200400" y="4038480"/>
            <a:ext cx="2286000" cy="1219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85680" y="11430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álisis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6678000" y="54759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áfico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2" name="tamy%20graf1" descr=""/>
          <p:cNvPicPr/>
          <p:nvPr/>
        </p:nvPicPr>
        <p:blipFill>
          <a:blip r:embed="rId3"/>
          <a:stretch/>
        </p:blipFill>
        <p:spPr>
          <a:xfrm>
            <a:off x="2057400" y="1981080"/>
            <a:ext cx="4943520" cy="40546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85680" y="11430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álisis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tamy%20graf2" descr=""/>
          <p:cNvPicPr/>
          <p:nvPr/>
        </p:nvPicPr>
        <p:blipFill>
          <a:blip r:embed="rId3"/>
          <a:stretch/>
        </p:blipFill>
        <p:spPr>
          <a:xfrm>
            <a:off x="2590920" y="1676520"/>
            <a:ext cx="4352760" cy="4973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rot="16200000">
            <a:off x="6525720" y="60087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áfico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52200" y="114300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295280" y="3352680"/>
          <a:ext cx="221004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352680"/>
                    <a:ext cx="22100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648320" y="3273480"/>
          <a:ext cx="2438280" cy="115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273480"/>
                    <a:ext cx="243828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998640"/>
            <a:ext cx="81532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unci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l maquinista de un tren que viaja a una rapidez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observa que, por la misma línea, se acerca un tren de carga. Estima que los separa una distancia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y que viaja con una rapidez menor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V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. Como el tren de carga no se puede detener, el maquinista aplica los frenos al máximo posible evitando provocar daño al tren y enseguida acelerar en el mismo sentido del tren de carga que se acerca para evitar ser alcanzado. El tren se detiene con una aceleración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 En el instante en que el tren se detiene, de inmediato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celera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62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91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990720"/>
            <a:ext cx="815364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 base a estos datos, demuestre qu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i                               entonces no habrá choque, pero si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desgraciadamente chocarán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Explique claramente su razonamien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2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3880" y="2827440"/>
          <a:ext cx="144792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827440"/>
                    <a:ext cx="144792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091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4035600"/>
          <a:ext cx="1447920" cy="68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035600"/>
                    <a:ext cx="144792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71600" y="2743200"/>
            <a:ext cx="1828800" cy="7621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962520"/>
            <a:ext cx="1828800" cy="7617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63520" y="15238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nalisis imag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46880" y="329256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40458c"/>
                </a:solidFill>
                <a:latin typeface="Arial Unicode MS"/>
              </a:rPr>
              <a:t>image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1066680"/>
            <a:ext cx="822960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étodo  Analític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scripción de las ecuaciones que regirán el movimiento del tren A y B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1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cuaciones itinerario (o de posición ) para tren A y tren B</a:t>
            </a:r>
            <a:r>
              <a:rPr b="0" lang="es-E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53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895480" y="3429000"/>
          <a:ext cx="326412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429000"/>
                    <a:ext cx="3264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724280" y="5359320"/>
          <a:ext cx="160020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5359320"/>
                    <a:ext cx="16002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324480" y="3733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54100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7097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cuación que rige la velocidad del tren A  y B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968720" y="3505320"/>
          <a:ext cx="11271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720" y="3505320"/>
                    <a:ext cx="11271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051440" y="2209680"/>
          <a:ext cx="204444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51440" y="2209680"/>
                    <a:ext cx="20444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722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2120" y="1066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diciones para resolver problem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1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Queremos que la posición de del tre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ea iguala la posición del tre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a esta situación la llamaremos situación “limite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819520" y="3598920"/>
          <a:ext cx="342900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598920"/>
                    <a:ext cx="342900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743200" y="342900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1143000"/>
            <a:ext cx="8001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uego despejamos el tiempo de la ecuación de las velocidades imponiendo que la velocidad en ese punto en que los trenes se “topan ” es la misma velocidad para ambos , esto es una velocid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9880" y="4230720"/>
          <a:ext cx="1905120" cy="11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230720"/>
                    <a:ext cx="19051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581280" y="3124080"/>
          <a:ext cx="2362320" cy="6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124080"/>
                    <a:ext cx="236232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990720" y="2438280"/>
          <a:ext cx="27468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438280"/>
                    <a:ext cx="2746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61722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5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3 Reemplazamos el tiempo en la ecu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666880" y="2263680"/>
          <a:ext cx="327672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263680"/>
                    <a:ext cx="32767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514600" y="4164120"/>
          <a:ext cx="3543480" cy="115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164120"/>
                    <a:ext cx="35434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2438280" y="396252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205740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05-03T22:55:27Z</dcterms:modified>
  <cp:revision>75</cp:revision>
  <dc:subject/>
  <dc:title>Presentación de PowerPoint</dc:title>
</cp:coreProperties>
</file>