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C3FD369-E3EB-4726-B657-A1F60C131D1B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199-D583-4637-B633-989BEFFA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B537-6C1A-42C6-8070-62DF64EE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49C7-04A7-4E6F-9748-B0807FB9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6CC-B900-49C2-9F9A-A27F02E2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C962-B920-4587-AEAD-96AB96F8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B2B4-6054-45EE-A8BA-44CD7DE4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4EF-08C0-4850-B712-BB2D59D3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506-B1A2-43B2-AA60-C1E20028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E16-8592-4ECC-BCA4-7045984F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8AD-FCC4-4584-B596-423AC64D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FF7-346F-45D0-AC68-FCB106E0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396-4980-47D9-BE01-B40877EF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6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1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2530-ECCE-4306-BC8F-C027E9A18B77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3048120"/>
            <a:ext cx="7086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2b2b2"/>
                </a:solidFill>
                <a:latin typeface="Verdana"/>
              </a:rPr>
              <a:t>Movimiento Circular Uniforme</a:t>
            </a:r>
            <a:r>
              <a:rPr b="0" lang="es-ES" sz="2800" spc="-1" strike="noStrike">
                <a:solidFill>
                  <a:srgbClr val="b2b2b2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</a:t>
            </a:r>
            <a:r>
              <a:rPr b="0" lang="es-ES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Mª Fernanda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362320" y="1371600"/>
                <a:ext cx="5331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762120" y="1371600"/>
            <a:ext cx="7391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hacemos       pequeño lo anterior qued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105520" y="4191120"/>
                <a:ext cx="393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59" name=""/>
          <p:cNvGraphicFramePr/>
          <p:nvPr/>
        </p:nvGraphicFramePr>
        <p:xfrm>
          <a:off x="3886200" y="4343400"/>
          <a:ext cx="371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343400"/>
                    <a:ext cx="371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809880" y="2819520"/>
                <a:ext cx="301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572000" y="2819520"/>
                <a:ext cx="371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2514600" y="2514600"/>
            <a:ext cx="368604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685800" y="127944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í la diferencia entre ambas velocidades entrega a punta al centro de la circunferenci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686400" cy="204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321160" y="4267080"/>
                <a:ext cx="393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70" name=""/>
          <p:cNvGraphicFramePr/>
          <p:nvPr/>
        </p:nvGraphicFramePr>
        <p:xfrm>
          <a:off x="4343400" y="4419720"/>
          <a:ext cx="37152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4419720"/>
                    <a:ext cx="371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4876920" y="3657600"/>
          <a:ext cx="544320" cy="56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3657600"/>
                    <a:ext cx="5443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009800" y="5334120"/>
            <a:ext cx="70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ociamos la aceleración al punto medio de la trayectori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0" y="4010040"/>
                <a:ext cx="2826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685800" y="127944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uiendo lo anterior si el intervalo  es pequeño la variación de la dirección de la velocidad también es pequeñ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4593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ejemplo  s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676520" y="5943600"/>
                <a:ext cx="5410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62120" y="2133720"/>
                <a:ext cx="3733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Δv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133720" y="2895480"/>
                <a:ext cx="18572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init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895480" y="4459320"/>
                <a:ext cx="29862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4" name=""/>
          <p:cNvGraphicFramePr/>
          <p:nvPr/>
        </p:nvGraphicFramePr>
        <p:xfrm>
          <a:off x="3127320" y="4952880"/>
          <a:ext cx="2703600" cy="4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7320" y="4952880"/>
                    <a:ext cx="27036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2362320" y="50292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5105520" y="2819520"/>
            <a:ext cx="243972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6095880" y="2438280"/>
          <a:ext cx="439920" cy="59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5880" y="2438280"/>
                    <a:ext cx="439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6130800" y="3352680"/>
          <a:ext cx="346320" cy="565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30800" y="3352680"/>
                    <a:ext cx="3463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543800" y="3048120"/>
                <a:ext cx="533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0" y="3581280"/>
                <a:ext cx="2826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564080" y="2841480"/>
                <a:ext cx="5414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85800" y="2878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o tan pequeña como        y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819520" y="1371600"/>
                <a:ext cx="40384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657600" y="2819520"/>
                <a:ext cx="5335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762120" y="3862440"/>
            <a:ext cx="80769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ientras más pequeño el intervalo, más se aproxima el ángulo      a 90° y        tiende a ser perpendicular a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752480" y="4395960"/>
                <a:ext cx="3812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200400" y="4243320"/>
                <a:ext cx="533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7543800" y="4243320"/>
                <a:ext cx="38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09480" y="4876920"/>
            <a:ext cx="7925040" cy="1218960"/>
          </a:xfrm>
          <a:prstGeom prst="rect">
            <a:avLst/>
          </a:prstGeom>
          <a:solidFill>
            <a:srgbClr val="eaeae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295280"/>
            <a:ext cx="784872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uego se tiene que existe una aceleración (ya que       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n número) y además que la dirección de est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ariación de la velocidad (aceleración) apunta hacia el centr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¿Cómo es posible que exista aceleración si supusimos que la velocidad con que se movía la partícula era una constante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respuesta se encuentra en la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primera Ley de Newt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a ley establece que si sobre un cuerpo no actúan fuerzas externas éste seguirá con velocidad constante y en una trayectoria RECTILÍNE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315200" y="1297080"/>
                <a:ext cx="4636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609480" y="3352680"/>
            <a:ext cx="8001000" cy="7621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295280"/>
            <a:ext cx="784872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evidentemente el movimiento circular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igue una línea recta, debe existir una fuerza que la obligue a cambiar de dirección y por lo tanto, en virtud de la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segunda Ley de Newt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xiste una aceleración que actúa sobre la partícul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 anterior es claro si se imagina que se tiene una piedra amarrada a una cuerda y se le hace girar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 este ejemplo es la cuerda quien realiza una fuerza sobre la piedra y la mantiene en trayectoria circular, ya que en el momento de soltar la piedra ésta tiende a seguir en línea recta tal y como lo predice la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primera Ley de Newt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1295280"/>
            <a:ext cx="784872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bujos que podrían sumars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b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obtener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be especificar que la fuerza que actúa en  * es la tensión de la cuerda o la reacción del anillo sobre la partícul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be decir claramente que la fuerza centrífuga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xiste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576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200400" y="2651040"/>
          <a:ext cx="2286000" cy="11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651040"/>
                    <a:ext cx="2286000" cy="1158840"/>
                  </a:xfrm>
                  <a:prstGeom prst="rect">
                    <a:avLst/>
                  </a:prstGeom>
                  <a:ln w="9360">
                    <a:solidFill>
                      <a:srgbClr val="cc33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172200" y="1600200"/>
            <a:ext cx="2546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2952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rapidez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una partícula está definida com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295280" y="2209680"/>
                <a:ext cx="65534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ci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orri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moró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orrerl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685800" y="358128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 lo que es lo mismo la razón entre la variación de la posición y el tiempo emplead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la misma manera se define la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aceleració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com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295280" y="5259240"/>
                <a:ext cx="65534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ció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elocid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moró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t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ción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(1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1136520"/>
            <a:ext cx="411480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osición de una partícula en un plano (dos dimensiones) se puede escribir como un par ordenado (x, y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e conocen ambas compo-nentes (x e y) entonces el lugar donde está situada la partícula está determinad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100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29600" y="5562720"/>
          <a:ext cx="27000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5562720"/>
                    <a:ext cx="2700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09480" y="1295280"/>
            <a:ext cx="152640" cy="152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3276720"/>
            <a:ext cx="152640" cy="152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5273640"/>
            <a:ext cx="152640" cy="152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181480" y="1219320"/>
            <a:ext cx="3657600" cy="3355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2120" y="51213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una partícula describe una trayectoria es posible describir la posición de la partícula con un sólo parámetro angula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44200" y="4648320"/>
            <a:ext cx="2646720" cy="3373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rcunferencia de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radio 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(2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2952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ociendo el ángulo    se tiene la posición de la partícula usando sólo trigonometría,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152280" y="37940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 lo que el vector posición      se escribe com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505320" y="2286000"/>
                <a:ext cx="18288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495680" y="3733920"/>
                <a:ext cx="333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362320" y="4495680"/>
                <a:ext cx="419076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ó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83" name=""/>
          <p:cNvGraphicFramePr/>
          <p:nvPr/>
        </p:nvGraphicFramePr>
        <p:xfrm>
          <a:off x="3540240" y="1295280"/>
          <a:ext cx="26964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0240" y="1295280"/>
                    <a:ext cx="2696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85800" y="60199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Nota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s preciso definir          : como vectores unitarios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581280" y="5867280"/>
                <a:ext cx="609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219320"/>
            <a:ext cx="84582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hora suponemos que el ángulo     no es fijo, si no que varía con el tiempo con una velocidad constante      . Entonces,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 como ya se hizo anteriorm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(3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987800" y="1295280"/>
          <a:ext cx="27000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7800" y="1295280"/>
                    <a:ext cx="2700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449568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324480" y="1752480"/>
          <a:ext cx="381240" cy="3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1752480"/>
                    <a:ext cx="38124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31860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447920" y="3056040"/>
          <a:ext cx="5867280" cy="90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056040"/>
                    <a:ext cx="5867280" cy="906480"/>
                  </a:xfrm>
                  <a:prstGeom prst="rect">
                    <a:avLst/>
                  </a:prstGeom>
                  <a:ln w="9360">
                    <a:solidFill>
                      <a:srgbClr val="cc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13716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 lo que se tiene qu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6003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286000" y="3200400"/>
                <a:ext cx="19461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θ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209680" y="2209680"/>
                <a:ext cx="49532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ci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cia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685800" y="4191120"/>
            <a:ext cx="9144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nde       = tiempo que demoró en viajar desde              a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 suponiendo que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600200" y="4191120"/>
                <a:ext cx="609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7196040" y="4191120"/>
                <a:ext cx="881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cia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62120" y="4572000"/>
                <a:ext cx="7855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038480" y="4610160"/>
                <a:ext cx="15242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ci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286000" y="5562720"/>
                <a:ext cx="25700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Anim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762120" y="137160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imación: Interactive Physics</a:t>
            </a:r>
            <a:r>
              <a:rPr b="0" lang="es-E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219320"/>
            <a:ext cx="82296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a     la posición de la partícula en un tiemp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lquiera y sea      la posición de la partícula luego de un tiempo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374840" y="1219320"/>
                <a:ext cx="301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305000" y="1600200"/>
                <a:ext cx="371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620120" y="1676520"/>
                <a:ext cx="5331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447920" y="3962520"/>
                <a:ext cx="393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685800" y="2362320"/>
            <a:ext cx="44197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abemos que la velocidad es tangencial a la trayectoria en cada instante y que como es un movimiento circular uniforme         y         son iguales en magnitud pero su dirección cambi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3639960" cy="3273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62120" y="41148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95160" y="3962520"/>
          <a:ext cx="37152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5160" y="3962520"/>
                    <a:ext cx="371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78920" y="40384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683480" y="4648320"/>
                <a:ext cx="393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6019920" y="4952880"/>
          <a:ext cx="37152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9920" y="4952880"/>
                    <a:ext cx="371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172200" y="3962520"/>
                <a:ext cx="301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172280" y="3962520"/>
                <a:ext cx="371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685800" y="1219320"/>
            <a:ext cx="815328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aceleración es el cambio de velocidad divido por el intervalo     . Sólo importa que la velocidad cambie, aunque sólo sea en direcció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amos que obtenemos al restar     y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módulo de la velocidad es constante, sólo cambia su direcció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981080" y="1676520"/>
                <a:ext cx="5335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702400" y="2819520"/>
                <a:ext cx="393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41" name=""/>
          <p:cNvGraphicFramePr/>
          <p:nvPr/>
        </p:nvGraphicFramePr>
        <p:xfrm>
          <a:off x="5038560" y="2819520"/>
          <a:ext cx="37152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8560" y="2819520"/>
                    <a:ext cx="371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248520" y="3962520"/>
            <a:ext cx="992160" cy="927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066680" y="3809880"/>
            <a:ext cx="2579760" cy="10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5257800" y="4267080"/>
          <a:ext cx="968400" cy="56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267080"/>
                    <a:ext cx="96840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295280" y="4114800"/>
          <a:ext cx="37152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4114800"/>
                    <a:ext cx="371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340080" y="4038480"/>
                <a:ext cx="393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692760" y="4572000"/>
                <a:ext cx="393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51" name=""/>
          <p:cNvGraphicFramePr/>
          <p:nvPr/>
        </p:nvGraphicFramePr>
        <p:xfrm>
          <a:off x="6694560" y="3703680"/>
          <a:ext cx="54432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94560" y="3703680"/>
                    <a:ext cx="5443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10-03T20:59:00Z</dcterms:modified>
  <cp:revision>270</cp:revision>
  <dc:subject/>
  <dc:title>Presentación de PowerPoint</dc:title>
</cp:coreProperties>
</file>