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48.png" ContentType="image/png"/>
  <Override PartName="/ppt/media/image51.wmf" ContentType="image/x-wmf"/>
  <Override PartName="/ppt/media/image4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49.png" ContentType="image/png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32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13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1E52124-EBE7-4C92-96DB-1ED5994CD95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 la figura se representa un pelotón de forma cuadrada y lado L, que marcha con rapidez u constante. El oficial (O) del pelotón se propone pasar revista a las filas mientras éstas marchan, siguiendo la secuencia AB, BC, CD y DA. El oficial mantendrá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rapidez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stante v &gt; u, durante toda la rev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ibuje la trayectoria del oficial O en el plano x –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termine la dirección con que debe desplazarse O en el tramo BC, para evitar que le pisen los tal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alcule el tiempo que requiere O para revisar las filas del pelot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B23-BB06-4108-900E-81B1F624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128-A188-4742-BC48-428742F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BBE-BB57-417E-A6CB-F3EDE4B8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9BF-0949-4380-9171-30AD4B3F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A08-79AC-4A2B-98C1-687C9946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C73-AD06-443C-BA8B-8D5C2CCE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2F5-71A2-4497-85E8-FB22C88F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EC4-51D0-4ED4-868D-90733C58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AB2-8A5E-4470-84C4-D5C05516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A9A-302A-4736-9B4C-703168BF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FBD-1AF0-4E50-8891-119307A3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24B-DB93-4E50-B251-33467ECB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35CC-B9E6-4B12-888C-877689F167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ESCUADRÓN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Valentina Quirog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3716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el tiempo pedido será: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438280" y="3352680"/>
          <a:ext cx="335304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352680"/>
                    <a:ext cx="33530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209680" y="4419720"/>
          <a:ext cx="457200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19720"/>
                    <a:ext cx="4572000" cy="12398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422440" y="2438280"/>
          <a:ext cx="3899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2440" y="2438280"/>
                    <a:ext cx="3899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96252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rroboremos haciendo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248520" y="3276720"/>
          <a:ext cx="1143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276720"/>
                    <a:ext cx="1143000" cy="90648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657600" y="1066680"/>
          <a:ext cx="8380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066680"/>
                    <a:ext cx="8380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9480" y="5715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 este caso el oficial recorre una distancia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181480" y="5715000"/>
          <a:ext cx="45720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571500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1066680" y="1905120"/>
            <a:ext cx="3276720" cy="3116160"/>
            <a:chOff x="1066680" y="1905120"/>
            <a:chExt cx="3276720" cy="3116160"/>
          </a:xfrm>
        </p:grpSpPr>
        <p:pic>
          <p:nvPicPr>
            <p:cNvPr id="267" name="" descr=""/>
            <p:cNvPicPr/>
            <p:nvPr/>
          </p:nvPicPr>
          <p:blipFill>
            <a:blip r:embed="rId7"/>
            <a:stretch/>
          </p:blipFill>
          <p:spPr>
            <a:xfrm>
              <a:off x="1066680" y="1905120"/>
              <a:ext cx="312408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504960" y="3429000"/>
              <a:ext cx="83844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640" y="12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640" y="115236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ongamos la siguiente condición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19320" y="1685880"/>
            <a:ext cx="3959280" cy="5019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7080" y="2666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arti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80680" y="50292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Llega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1066680"/>
            <a:ext cx="4114800" cy="5806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 oficial pasa la ronda en el tiempo que el escuadrón avanza </a:t>
            </a:r>
            <a:r>
              <a:rPr b="1" lang="en-US" sz="1600" spc="-1" strike="noStrike">
                <a:solidFill>
                  <a:srgbClr val="00679c"/>
                </a:solidFill>
                <a:latin typeface="Verdana"/>
              </a:rPr>
              <a:t>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62520" y="2057400"/>
          <a:ext cx="13413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57400"/>
                    <a:ext cx="1341360" cy="43020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584440" y="5257800"/>
          <a:ext cx="427356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4440" y="5257800"/>
                    <a:ext cx="427356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99840" y="1143000"/>
            <a:ext cx="71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í, el desplazamiento del escuadrón queda determinado p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63360" y="3505320"/>
            <a:ext cx="69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de T es el tiempo que tarda el oficial en pasar revis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440" y="4572000"/>
            <a:ext cx="35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emplazando el valor de T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09680" y="3048120"/>
          <a:ext cx="3152880" cy="11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8120"/>
                    <a:ext cx="315288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31160" y="2362320"/>
            <a:ext cx="44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escribiendo la ecuación anterior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920960" y="1295280"/>
            <a:ext cx="898560" cy="838080"/>
            <a:chOff x="1920960" y="1295280"/>
            <a:chExt cx="898560" cy="838080"/>
          </a:xfrm>
        </p:grpSpPr>
        <p:graphicFrame>
          <p:nvGraphicFramePr>
            <p:cNvPr id="292" name=""/>
            <p:cNvGraphicFramePr/>
            <p:nvPr/>
          </p:nvGraphicFramePr>
          <p:xfrm>
            <a:off x="1997280" y="1295280"/>
            <a:ext cx="82224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97280" y="1295280"/>
                      <a:ext cx="82224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1920960" y="152388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809640" y="14479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icem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09680" y="4419720"/>
          <a:ext cx="4221360" cy="19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42213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62120" y="1219320"/>
            <a:ext cx="2133360" cy="9144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181480" y="3809880"/>
          <a:ext cx="304812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809880"/>
                    <a:ext cx="30481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804600" y="412740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uego reemplazando obtenemo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67320" y="14479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amos el siguiente cambio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892760" y="1257480"/>
          <a:ext cx="8222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2760" y="1257480"/>
                    <a:ext cx="822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124080" y="2743200"/>
          <a:ext cx="114300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2743200"/>
                    <a:ext cx="114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85800" y="2743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mos que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87400" y="5638680"/>
            <a:ext cx="58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esolvamos esta ecuación mediante un gráfic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362320" y="1081080"/>
          <a:ext cx="335268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81080"/>
                    <a:ext cx="33526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673560" y="14320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amos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6" name="fig" descr=""/>
          <p:cNvPicPr/>
          <p:nvPr/>
        </p:nvPicPr>
        <p:blipFill>
          <a:blip r:embed="rId3"/>
          <a:srcRect l="3533" t="1815" r="0" b="4271"/>
          <a:stretch/>
        </p:blipFill>
        <p:spPr>
          <a:xfrm>
            <a:off x="304920" y="2701800"/>
            <a:ext cx="3809880" cy="2403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05760" y="6095880"/>
            <a:ext cx="66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Existe solamente una solución para nuestro problem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8" name="zoom" descr=""/>
          <p:cNvPicPr/>
          <p:nvPr/>
        </p:nvPicPr>
        <p:blipFill>
          <a:blip r:embed="rId4"/>
          <a:srcRect l="3223" t="0" r="9411" b="3577"/>
          <a:stretch/>
        </p:blipFill>
        <p:spPr>
          <a:xfrm>
            <a:off x="4419720" y="2666880"/>
            <a:ext cx="4267080" cy="3019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133720" y="3768840"/>
            <a:ext cx="914400" cy="3045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2362320"/>
            <a:ext cx="4648320" cy="35049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373392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2438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602560" y="419112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243828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8080" y="1143000"/>
            <a:ext cx="39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lviendo para una columna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733920" y="5334120"/>
          <a:ext cx="25891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334120"/>
                    <a:ext cx="2589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2286000" y="1920960"/>
            <a:ext cx="5364000" cy="12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124080" y="4016520"/>
          <a:ext cx="3821400" cy="86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016520"/>
                    <a:ext cx="38214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762480" y="41688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emos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962520"/>
            <a:ext cx="1066680" cy="914400"/>
          </a:xfrm>
          <a:prstGeom prst="rect">
            <a:avLst/>
          </a:prstGeom>
          <a:noFill/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038480" y="2705040"/>
          <a:ext cx="1654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705040"/>
                    <a:ext cx="1654200" cy="95256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636480" y="1371600"/>
            <a:ext cx="65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 caso más simple es el de una columna de soldad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0492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jercicio propues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01600" y="1143000"/>
            <a:ext cx="760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Verdana"/>
              </a:rPr>
              <a:t>Propuest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r el tiempo que tarda el Oficial pasando revista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escuadrón de forma rectangular, cuyos lados son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ajo las mismas condicione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rroborar que para el escuadrón de lado </a:t>
            </a:r>
            <a:r>
              <a:rPr b="1" lang="es-ES" sz="2000" spc="-1" strike="noStrike">
                <a:solidFill>
                  <a:srgbClr val="00679c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, el oficial recorr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fectivamente una distancia de al menos     .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172200" y="3581280"/>
          <a:ext cx="45720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358128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6858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352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286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33720" y="1317600"/>
            <a:ext cx="5095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rayectoria del oficia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011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álculo del ángul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81280" y="1395360"/>
          <a:ext cx="38124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95360"/>
                    <a:ext cx="38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09680" y="2071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yección horizontal del vecto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19920" y="1981080"/>
          <a:ext cx="3016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981080"/>
                    <a:ext cx="301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295280" y="2943360"/>
          <a:ext cx="12067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943360"/>
                    <a:ext cx="12067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52480" y="2666880"/>
          <a:ext cx="1359000" cy="2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2666880"/>
                    <a:ext cx="13590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752480" y="1981080"/>
          <a:ext cx="47808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1981080"/>
                    <a:ext cx="4780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1219320" y="3954600"/>
            <a:ext cx="3352680" cy="272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172200" y="4343400"/>
            <a:ext cx="1654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iempo que tarda el oficial  O en recorrer el pelotón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36232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con velocidad constante (aceleración = 0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en 2 Dimensio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cación de variab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438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971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4267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x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y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una fila del escuadrón en el eje x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191120" y="4535640"/>
          <a:ext cx="16761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535640"/>
                    <a:ext cx="1676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40360" y="5056200"/>
          <a:ext cx="172692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5056200"/>
                    <a:ext cx="1726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553080" y="5638680"/>
          <a:ext cx="160020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5638680"/>
                    <a:ext cx="16002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66680" y="4419720"/>
            <a:ext cx="7239240" cy="18288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1371600"/>
          <a:ext cx="51408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140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440" y="2114640"/>
          <a:ext cx="1409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2114640"/>
                    <a:ext cx="1409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5014800" y="2100240"/>
          <a:ext cx="19576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4800" y="2100240"/>
                    <a:ext cx="19576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1874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022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276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200" y="3290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=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76520" y="4800600"/>
          <a:ext cx="185580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800600"/>
                    <a:ext cx="1855800" cy="1079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685800" y="3809880"/>
          <a:ext cx="371304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809880"/>
                    <a:ext cx="3713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5106960" y="2971800"/>
            <a:ext cx="3301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89120" y="1360440"/>
          <a:ext cx="4888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360440"/>
                    <a:ext cx="4888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18436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14600" y="2057400"/>
          <a:ext cx="266688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057400"/>
                    <a:ext cx="26668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84360" y="27432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28680" y="3124080"/>
          <a:ext cx="2581200" cy="94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8680" y="3124080"/>
                    <a:ext cx="25812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184360" y="3367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5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09680" y="4572000"/>
          <a:ext cx="2438640" cy="110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572000"/>
                    <a:ext cx="2438640" cy="1106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6019920" y="3124080"/>
            <a:ext cx="2574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447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89120" y="1414440"/>
          <a:ext cx="4888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414440"/>
                    <a:ext cx="488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190520" y="2255760"/>
          <a:ext cx="20592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5760"/>
                    <a:ext cx="20592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908600" y="2314440"/>
          <a:ext cx="149364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8600" y="2314440"/>
                    <a:ext cx="1493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492000" y="2332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32280" y="2346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505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7200" y="3519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=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52480" y="4952880"/>
          <a:ext cx="1778040" cy="97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952880"/>
                    <a:ext cx="1778040" cy="97632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665360" y="4267080"/>
          <a:ext cx="199224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5360" y="4267080"/>
                    <a:ext cx="19922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410080" y="3048120"/>
            <a:ext cx="3113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8-05T19:16:34Z</dcterms:modified>
  <cp:revision>328</cp:revision>
  <dc:subject/>
  <dc:title>Presentación de PowerPoint</dc:title>
</cp:coreProperties>
</file>