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5.wmf" ContentType="image/x-wmf"/>
  <Override PartName="/ppt/media/image3.jpeg" ContentType="image/jpeg"/>
  <Override PartName="/ppt/media/image23.wmf" ContentType="image/x-wmf"/>
  <Override PartName="/ppt/media/image22.wmf" ContentType="image/x-wmf"/>
  <Override PartName="/ppt/media/image1.jpeg" ContentType="image/jpeg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jpeg" ContentType="image/jpeg"/>
  <Override PartName="/ppt/media/image16.jpeg" ContentType="image/jpeg"/>
  <Override PartName="/ppt/media/image14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63A8-433B-460A-BE7F-264A88A2FB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Unicode MS"/>
              </a:rPr>
              <a:t>Cuadernillo temático- ícono del problema – nombre del probl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 Unicode MS"/>
              </a:rPr>
              <a:t>Indice temático con enunciad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Unicode MS"/>
              </a:rPr>
              <a:t>Enunciado (completo) académico está en un 2º nivel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VIDEO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( 1 ) Enunciado coloquial, apoyado de un video, animación o gráfico.(enunciado completo ppt). Planteamiento de las incógnitas a     </a:t>
            </a: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   resolv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( 2 ) Se plantean 2 métodos de solución y se explica por cual se resolvera. Al usar el método analítico se muestran los datos apoyados de la animación explicativa, junto con el sistema de refer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( 3 ) Desarroll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Resolución de las ecuaciones que llegan al resultado final, y la discusión de un gráfi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(4) Parte b) método gráfico del proble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 Unicode MS"/>
              </a:rPr>
              <a:t>Referencias a los temas del libro NZ (ref. cap 2, pag 73-78 libro N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0283-B2DC-4940-BD39-79731946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78A5-5DED-4372-82C7-36736620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9F5A-BA7F-4816-84B0-AE216451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63F3-117F-495F-85DB-34CB69D2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AEB7-96AC-47BE-88A2-8491CE33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4E13-DEAF-4C16-A37A-0CF9FC55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69FD-98C0-412D-AB17-0DC63416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C896-5D09-415E-8204-16712889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BDB8-10AA-4B2D-81D1-0E790F1C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B005-561D-4CA4-80DB-9ADC79CE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54AA-8519-4C5A-8A3B-B9DC73C0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A27A-7BD7-4F7C-974F-64F03DF0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nterior2%20copiar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8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9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0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1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4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99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E79F-C78A-416B-9C91-A64B4808993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3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2" name="portada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3880" y="3048120"/>
            <a:ext cx="4800600" cy="20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2b2b2"/>
                </a:solidFill>
                <a:latin typeface="Verdana"/>
              </a:rPr>
              <a:t>Caída de un objeto desde</a:t>
            </a:r>
            <a:r>
              <a:rPr b="1" lang="es-ES" sz="1800" spc="-1" strike="noStrike">
                <a:solidFill>
                  <a:srgbClr val="b2b2b2"/>
                </a:solidFill>
                <a:latin typeface="Verdana"/>
                <a:ea typeface="Times New Roman"/>
              </a:rPr>
              <a:t> el techo de un edificio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Nelson Zamoran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b2b2b2"/>
                </a:solidFill>
                <a:latin typeface="Verdana"/>
                <a:ea typeface="Times New Roman"/>
              </a:rPr>
              <a:t>Duración: 12mi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62120" y="1066680"/>
            <a:ext cx="81532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Un objeto se deja caer desde el techo de un edificio. Un observador parado frente a una ventana de altura </a:t>
            </a:r>
            <a:r>
              <a:rPr b="1" i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registra el paso del objeto y nota que se demora </a:t>
            </a:r>
            <a:r>
              <a:rPr b="1" i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egundos en cruzarla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    </a:t>
            </a:r>
            <a:r>
              <a:rPr b="1" lang="es-ES" sz="1400" spc="-1" strike="noStrike">
                <a:solidFill>
                  <a:srgbClr val="ff3300"/>
                </a:solidFill>
                <a:latin typeface="Verdana"/>
                <a:ea typeface="Times New Roman"/>
              </a:rPr>
              <a:t>a)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A partir de estos datos, encuentre a qué distancia se halla este observador del techo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   </a:t>
            </a:r>
            <a:r>
              <a:rPr b="1" lang="es-ES" sz="1400" spc="-1" strike="noStrike">
                <a:solidFill>
                  <a:srgbClr val="ff3300"/>
                </a:solidFill>
                <a:latin typeface="Verdana"/>
                <a:ea typeface="Times New Roman"/>
              </a:rPr>
              <a:t>b)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Si el objeto continúa cayendo y  segundos después impacta el piso donde queda desplazado : ¿ a qué altura se encuentra la ventana sobre el piso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onsidere el retardo debido a la velocidad del sonido </a:t>
            </a:r>
            <a:r>
              <a:rPr b="1" i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u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4572000"/>
            <a:ext cx="7620120" cy="22096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23360" y="5029200"/>
            <a:ext cx="44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magen icónica del 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1066680"/>
            <a:ext cx="822960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ff3300"/>
                </a:solidFill>
                <a:latin typeface="Verdana"/>
                <a:ea typeface="Times New Roman"/>
              </a:rPr>
              <a:t>a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.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étodo analític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stema de referenci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os conviene ubicar el origen de coordinadas en el techo del edifici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270972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981080" y="3429000"/>
          <a:ext cx="6629400" cy="24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429000"/>
                    <a:ext cx="662940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828800" y="3429000"/>
            <a:ext cx="6781680" cy="2590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58680" y="3048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  <a:ea typeface="Times New Roman"/>
              </a:rPr>
              <a:t>Dat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3429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62120" y="1066680"/>
            <a:ext cx="822960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ff3300"/>
                </a:solidFill>
                <a:latin typeface="Verdana"/>
                <a:ea typeface="Times New Roman"/>
              </a:rPr>
              <a:t>a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sarroll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 la ecuación de la posición en función del tiempo para el caso de aceleración constan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btenemos, con los datos del problema 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0972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819520"/>
            <a:ext cx="15228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590920" y="2536920"/>
          <a:ext cx="2743200" cy="78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2536920"/>
                    <a:ext cx="274320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590920" y="4025880"/>
          <a:ext cx="5114880" cy="166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4025880"/>
                    <a:ext cx="51148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2362320" y="4284720"/>
            <a:ext cx="15228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55040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demás,</a:t>
            </a:r>
            <a:r>
              <a:rPr b="0" lang="en-US" sz="11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800600" y="5994360"/>
          <a:ext cx="2971800" cy="48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5994360"/>
                    <a:ext cx="29718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590920" y="4876920"/>
            <a:ext cx="5486400" cy="1752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62120" y="106668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iendo la primera ecuación por la segunda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62320" y="3352680"/>
            <a:ext cx="15228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1828800"/>
            <a:ext cx="15228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4876920"/>
            <a:ext cx="3657600" cy="1752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666880" y="1568520"/>
          <a:ext cx="274320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1568520"/>
                    <a:ext cx="27432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62120" y="259092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umand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y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, obtenemo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666880" y="3041640"/>
                <a:ext cx="209412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762120" y="4191120"/>
            <a:ext cx="59436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 modo que la distancia de la ventana al techo es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5768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14600" y="4886280"/>
          <a:ext cx="3276720" cy="174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886280"/>
                    <a:ext cx="3276720" cy="17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graf1" descr=""/>
          <p:cNvPicPr/>
          <p:nvPr/>
        </p:nvPicPr>
        <p:blipFill>
          <a:blip r:embed="rId7"/>
          <a:stretch/>
        </p:blipFill>
        <p:spPr>
          <a:xfrm>
            <a:off x="6095880" y="1676520"/>
            <a:ext cx="24577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762120" y="990720"/>
            <a:ext cx="82296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  <a:ea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Utilizando los gráfic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omo el objeto parte del reposo desde el techo, su velocidad en cualquier instante antes de tocar el piso 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gráfico se desprende que el áre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churada representa la distanci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recorrida en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egundo entre       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a definición de velocidad media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ntre       y        es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2133720"/>
            <a:ext cx="15264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080" y="5638680"/>
            <a:ext cx="3733920" cy="838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733920" y="2057400"/>
          <a:ext cx="106668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057400"/>
                    <a:ext cx="1066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181480" y="3276720"/>
          <a:ext cx="31752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3276720"/>
                    <a:ext cx="317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5867280" y="3200400"/>
          <a:ext cx="37332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3200400"/>
                    <a:ext cx="3733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990720" y="5651640"/>
          <a:ext cx="3504960" cy="822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5651640"/>
                    <a:ext cx="35049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graf2" descr=""/>
          <p:cNvPicPr/>
          <p:nvPr/>
        </p:nvPicPr>
        <p:blipFill>
          <a:blip r:embed="rId11"/>
          <a:stretch/>
        </p:blipFill>
        <p:spPr>
          <a:xfrm>
            <a:off x="5486400" y="4267080"/>
            <a:ext cx="2362320" cy="2264040"/>
          </a:xfrm>
          <a:prstGeom prst="rect">
            <a:avLst/>
          </a:prstGeom>
          <a:ln w="0">
            <a:noFill/>
          </a:ln>
        </p:spPr>
      </p:pic>
      <p:pic>
        <p:nvPicPr>
          <p:cNvPr id="227" name="graf3" descr=""/>
          <p:cNvPicPr/>
          <p:nvPr/>
        </p:nvPicPr>
        <p:blipFill>
          <a:blip r:embed="rId12"/>
          <a:stretch/>
        </p:blipFill>
        <p:spPr>
          <a:xfrm>
            <a:off x="838080" y="2133720"/>
            <a:ext cx="2362320" cy="223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523880" y="4724280"/>
          <a:ext cx="31752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3880" y="4724280"/>
                    <a:ext cx="317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2209680" y="4648320"/>
          <a:ext cx="373320" cy="533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09680" y="4648320"/>
                    <a:ext cx="3733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990720"/>
            <a:ext cx="82296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 acuerdo al gráfico la velocidad media se ubica en el punto indicado en la figur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n el caso de la aceleración constante, este punto pertenece a la recta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, de modo que: 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2514600"/>
            <a:ext cx="2590560" cy="1676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590920" y="2619360"/>
          <a:ext cx="2209680" cy="15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2619360"/>
                    <a:ext cx="220968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762120" y="1981080"/>
          <a:ext cx="914400" cy="36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1981080"/>
                    <a:ext cx="91440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1269720" y="4724280"/>
            <a:ext cx="695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l área encerrada entre           y             representa la distancia recorrida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or el objeto desde el techo hasta el borde superior de la ventana.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0532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429000" y="4773600"/>
          <a:ext cx="609480" cy="33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4773600"/>
                    <a:ext cx="6094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43862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343400" y="4730760"/>
          <a:ext cx="762120" cy="45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3400" y="4730760"/>
                    <a:ext cx="76212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4648320"/>
            <a:ext cx="15264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1066680"/>
            <a:ext cx="2819520" cy="2819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73160" y="4572000"/>
            <a:ext cx="436104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Verificar dimensiones de la fórmul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- L = 1.2 m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g  =  10 m/s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 = 1/8 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?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0532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286000" y="1206360"/>
          <a:ext cx="221292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1206360"/>
                    <a:ext cx="22129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286000" y="2054160"/>
                <a:ext cx="19177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286000" y="2968560"/>
                <a:ext cx="2286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838080" y="12636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Área =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1752480"/>
            <a:ext cx="15264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62320" y="4952880"/>
            <a:ext cx="3733560" cy="1752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532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66680" y="10666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l tiempo que tarda en llegar al piso se puede obtener de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6960" y="1066680"/>
            <a:ext cx="35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Verdana"/>
                <a:ea typeface="Times New Roman"/>
              </a:rPr>
              <a:t>b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958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2133720" y="1494000"/>
          <a:ext cx="152388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494000"/>
                    <a:ext cx="15238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762120" y="25146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in embargo, no conocemos ni     ni 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H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i la velocidad del sonido es U, debemos sumar lo que demora en escuchar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l golpe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038480" y="2438280"/>
                <a:ext cx="317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41673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057400" y="3276720"/>
          <a:ext cx="1676520" cy="84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3276720"/>
                    <a:ext cx="167652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1752480" y="3581280"/>
            <a:ext cx="15264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42670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on  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 forma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371600" y="4194000"/>
                <a:ext cx="152388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514600" y="5035680"/>
                <a:ext cx="3505320" cy="16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τ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U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H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τ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Alejandra Avila</cp:lastModifiedBy>
  <dcterms:modified xsi:type="dcterms:W3CDTF">2003-04-16T23:00:29Z</dcterms:modified>
  <cp:revision>40</cp:revision>
  <dc:subject/>
  <dc:title>Presentación de PowerPoint</dc:title>
</cp:coreProperties>
</file>